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21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D3DA-95FB-44AE-B9E6-01A68AD49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204-E39C-4CA8-9659-B016FE3E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B9D-A7EF-4A8E-BCF9-80CF616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0E1-B512-450D-9CA2-E9AEF520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447-32D4-4BE3-91E2-E017EE3B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72B-AF63-4AD1-84C2-0056F27B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412-7398-4F2B-877A-05B60574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B5F-BD50-4FE0-8116-B9F2533A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D32-FB82-498D-BEB8-782A258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588-590E-43DD-9B2D-03653398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AD4-50BE-431F-8C3A-3C7F9529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2ED-53D3-4C48-80FC-4CCBC1BD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0D1-2DBA-4243-B850-190498E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63CA-127F-43F0-BAF0-417A579AE6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_747073_victor300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little-britain-vicki-pollard"/>
          <p:cNvPicPr/>
          <p:nvPr/>
        </p:nvPicPr>
        <p:blipFill>
          <a:blip r:embed="rId1"/>
          <a:stretch/>
        </p:blipFill>
        <p:spPr>
          <a:xfrm>
            <a:off x="3995640" y="191628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iennablue"/>
          <p:cNvPicPr/>
          <p:nvPr/>
        </p:nvPicPr>
        <p:blipFill>
          <a:blip r:embed="rId1"/>
          <a:stretch/>
        </p:blipFill>
        <p:spPr>
          <a:xfrm>
            <a:off x="4932360" y="1557360"/>
            <a:ext cx="3376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jp_carrie"/>
          <p:cNvPicPr/>
          <p:nvPr/>
        </p:nvPicPr>
        <p:blipFill>
          <a:blip r:embed="rId1"/>
          <a:stretch/>
        </p:blipFill>
        <p:spPr>
          <a:xfrm>
            <a:off x="4067280" y="1827360"/>
            <a:ext cx="48495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44:33Z</dcterms:created>
  <dc:creator>kh</dc:creator>
  <dc:description/>
  <dc:language>en-US</dc:language>
  <cp:lastModifiedBy>RomaK</cp:lastModifiedBy>
  <dcterms:modified xsi:type="dcterms:W3CDTF">2015-09-02T09:44:24Z</dcterms:modified>
  <cp:revision>8</cp:revision>
  <dc:subject/>
  <dc:title>Morphology</dc:title>
</cp:coreProperties>
</file>