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21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C26F-4223-4770-A4EB-73CEB6418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C80-AA84-4A6D-9D97-4CEB9D31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BEB-8221-461A-BAB3-8AB88CB6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2C6-4B7B-4FAD-9645-EF0A364B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B07-AB96-43CE-80C0-63CED175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48A-8D58-4869-A6C7-03F66E0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4F9-9676-4D14-852F-BDAA1F7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1B9-976F-411D-B771-186E7C9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4BB-E096-46C5-B1BC-56043E4B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7CA-067D-4AB3-AEEE-6C7FE450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589-C2D1-4909-A9BC-CEBBD9E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685-A1FA-41D4-8C35-109D4425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D49-1D47-4786-A763-BC7E657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5475-F400-4E35-B2EF-31B84000E5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_747073_victor300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little-britain-vicki-pollard"/>
          <p:cNvPicPr/>
          <p:nvPr/>
        </p:nvPicPr>
        <p:blipFill>
          <a:blip r:embed="rId1"/>
          <a:stretch/>
        </p:blipFill>
        <p:spPr>
          <a:xfrm>
            <a:off x="3995640" y="191628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iennablue"/>
          <p:cNvPicPr/>
          <p:nvPr/>
        </p:nvPicPr>
        <p:blipFill>
          <a:blip r:embed="rId1"/>
          <a:stretch/>
        </p:blipFill>
        <p:spPr>
          <a:xfrm>
            <a:off x="4932360" y="1557360"/>
            <a:ext cx="3376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jp_carrie"/>
          <p:cNvPicPr/>
          <p:nvPr/>
        </p:nvPicPr>
        <p:blipFill>
          <a:blip r:embed="rId1"/>
          <a:stretch/>
        </p:blipFill>
        <p:spPr>
          <a:xfrm>
            <a:off x="4067280" y="1827360"/>
            <a:ext cx="48495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44:33Z</dcterms:created>
  <dc:creator>kh</dc:creator>
  <dc:description/>
  <dc:language>en-US</dc:language>
  <cp:lastModifiedBy>RomaK</cp:lastModifiedBy>
  <dcterms:modified xsi:type="dcterms:W3CDTF">2015-09-02T09:44:24Z</dcterms:modified>
  <cp:revision>8</cp:revision>
  <dc:subject/>
  <dc:title>Morphology</dc:title>
</cp:coreProperties>
</file>