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whoosh.wav" ContentType="audio/x-wav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type.wav" ContentType="audio/x-wav"/>
  <Override PartName="/ppt/media/image14.wmf" ContentType="image/x-wmf"/>
  <Override PartName="/ppt/media/image12.wmf" ContentType="image/x-wmf"/>
  <Override PartName="/ppt/media/carbrake.wav" ContentType="audio/x-wav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4.gif" ContentType="image/gif"/>
  <Override PartName="/ppt/media/image7.png" ContentType="image/png"/>
  <Override PartName="/ppt/media/image15.wmf" ContentType="image/x-wm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415A-DDE3-4CA1-9F87-1E0C1FDBB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631-D6B1-44A7-A003-E44EC453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70D-DD82-4150-B59D-44DA4CDD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6B8-410D-4502-9C70-35953858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D93-86ED-4FB7-B9F2-3BB5DE76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324B-2303-40B1-A821-BA657ABA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2009-E124-4E52-928C-2D8E8E81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9AAB-81D1-4848-AC3D-DBD94C4A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B47F-1B73-4FD5-A692-AD5CA1C8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E21A-2AD3-4E44-9BC1-4A1B0D90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033E-497A-42E7-A900-ED0E37CE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CE9A-B1CF-48FA-A445-8CC40A7D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7C4-4699-4AED-9F6E-38E50450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A436-19D8-4C44-AEDC-2BBCA861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6DE3-1CD5-4C3E-BA70-79D0B45D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31FB-E26D-490F-BFBA-338B365B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3C60-85AE-40C8-9710-F62EFCA7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569E-8F7C-4F5A-B2A6-B77FC9A1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FCF-BE84-418C-9DC8-12300493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DAD-E307-4371-8B8A-22412CE5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AF8-ACE0-4770-93E5-748049F4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434-8CCC-46A8-88CD-762A1ECA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9A3-34DE-489D-813B-9F1D49FE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CA5-77D6-4F4C-A0DA-8A830A2E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739-BC45-4309-A97B-0A280E54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D195-0CBE-4887-AEE8-CDCB25D57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86AC-8404-45BD-AB26-3725A0062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main ideas.  The “message” the writer intends to communicate by telling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j0158031"/>
          <p:cNvPicPr/>
          <p:nvPr/>
        </p:nvPicPr>
        <p:blipFill>
          <a:blip r:embed="rId2"/>
          <a:stretch/>
        </p:blipFill>
        <p:spPr>
          <a:xfrm>
            <a:off x="4952880" y="2203560"/>
            <a:ext cx="373392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int of view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sition of the narrator of the story and what the writer sees from that vantag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j0158055"/>
          <p:cNvPicPr/>
          <p:nvPr/>
        </p:nvPicPr>
        <p:blipFill>
          <a:blip r:embed="rId2"/>
          <a:stretch/>
        </p:blipFill>
        <p:spPr>
          <a:xfrm>
            <a:off x="4952880" y="208116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75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75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25760" y="27432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666880" y="91440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Short 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Definition of a Short Sto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s about a single event or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ctional (not 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0 to 15,000 words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a beginning, middle, an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s an impression on the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1828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ag00428_"/>
          <p:cNvPicPr/>
          <p:nvPr/>
        </p:nvPicPr>
        <p:blipFill>
          <a:blip r:embed="rId6"/>
          <a:stretch/>
        </p:blipFill>
        <p:spPr>
          <a:xfrm>
            <a:off x="4952880" y="2327400"/>
            <a:ext cx="3733920" cy="296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Tells the reader where and when the story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na01062_"/>
          <p:cNvPicPr/>
          <p:nvPr/>
        </p:nvPicPr>
        <p:blipFill>
          <a:blip r:embed="rId2"/>
          <a:stretch/>
        </p:blipFill>
        <p:spPr>
          <a:xfrm>
            <a:off x="4952880" y="2144880"/>
            <a:ext cx="3733920" cy="3328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acteriz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imaginary people who appear to be real to the reader.  The writer gives information about the characters in the s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9" descr="pe01832_"/>
          <p:cNvPicPr/>
          <p:nvPr/>
        </p:nvPicPr>
        <p:blipFill>
          <a:blip r:embed="rId2"/>
          <a:stretch/>
        </p:blipFill>
        <p:spPr>
          <a:xfrm>
            <a:off x="4952880" y="2103480"/>
            <a:ext cx="3733920" cy="341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o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events through which the writer reveals what is happening, to whom, and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pe02097_"/>
          <p:cNvPicPr/>
          <p:nvPr/>
        </p:nvPicPr>
        <p:blipFill>
          <a:blip r:embed="rId2"/>
          <a:stretch/>
        </p:blipFill>
        <p:spPr>
          <a:xfrm>
            <a:off x="4952880" y="2314440"/>
            <a:ext cx="3733920" cy="298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lic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problem in the story that needs to be re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d06990_"/>
          <p:cNvPicPr/>
          <p:nvPr/>
        </p:nvPicPr>
        <p:blipFill>
          <a:blip r:embed="rId2"/>
          <a:stretch/>
        </p:blipFill>
        <p:spPr>
          <a:xfrm>
            <a:off x="4952880" y="2224080"/>
            <a:ext cx="373392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max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action comes to its highest point of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pe01496_"/>
          <p:cNvPicPr/>
          <p:nvPr/>
        </p:nvPicPr>
        <p:blipFill>
          <a:blip r:embed="rId2"/>
          <a:stretch/>
        </p:blipFill>
        <p:spPr>
          <a:xfrm>
            <a:off x="5086440" y="17524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olution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action after the climax until the end of the story. The “conclusion” of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pe01476_"/>
          <p:cNvPicPr/>
          <p:nvPr/>
        </p:nvPicPr>
        <p:blipFill>
          <a:blip r:embed="rId2"/>
          <a:stretch/>
        </p:blipFill>
        <p:spPr>
          <a:xfrm>
            <a:off x="4984920" y="1752480"/>
            <a:ext cx="3668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7:17:08Z</dcterms:created>
  <dc:creator>Jerald and Mary Ellington</dc:creator>
  <dc:description/>
  <dc:language>en-US</dc:language>
  <cp:lastModifiedBy>RomaK</cp:lastModifiedBy>
  <dcterms:modified xsi:type="dcterms:W3CDTF">2015-09-02T09:43:49Z</dcterms:modified>
  <cp:revision>10</cp:revision>
  <dc:subject/>
  <dc:title>how to write a short story</dc:title>
</cp:coreProperties>
</file>