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whoosh.wav" ContentType="audio/x-wav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type.wav" ContentType="audio/x-wav"/>
  <Override PartName="/ppt/media/image14.wmf" ContentType="image/x-wmf"/>
  <Override PartName="/ppt/media/image12.wmf" ContentType="image/x-wmf"/>
  <Override PartName="/ppt/media/carbrake.wav" ContentType="audio/x-wav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4.gif" ContentType="image/gif"/>
  <Override PartName="/ppt/media/image7.png" ContentType="image/png"/>
  <Override PartName="/ppt/media/image15.wmf" ContentType="image/x-wm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DF13-124D-4281-B554-5693E0882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554-A8FC-4C59-BF68-2ECFA02F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1DA-38C1-4EE7-A4A8-7F9E76D5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340-C412-4B83-B1BA-3E20F8AF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C8A-E7BB-4736-8211-A2A2637D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2AE-4FC3-49BF-994D-7436EE2B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1AB1-7137-4D88-9093-CE28E7CD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64B2-7E28-48B3-832D-64267844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BEEA-9181-4B4B-97B3-1B5013E8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7260-E6D7-4D53-9AEC-1B265D55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D77-70E1-4417-9B63-0FE93973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5DB4-73AA-4024-81C2-69B3DE4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A43-042D-4444-B030-46D39A01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E869-8400-49EB-9A70-3D07F6B1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D8C6-3DBD-4B42-B028-D9216A54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31B6-F7EE-49C3-AC1C-20793B9B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D33F-4D94-4F7A-A8DF-520CD240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0C39-D9A6-469E-B5A2-B8B0C2F0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01F-D299-449F-939B-0E2E23AD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356-480A-41DC-8B69-1A2529C8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AF1-902E-4C40-BEF6-0FD5CD14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55F-281C-4A85-BD65-2DEF57E6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802-3C4D-4D9F-8F6D-719DCC8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D2D-CFB4-471F-A096-5F412981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116-363D-43B8-986E-E7E56C35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E734-9CCD-4CA2-88C0-9C8637EAD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E080-C017-487A-A8B5-F94D2C705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main ideas.  The “message” the writer intends to communicate by telling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j0158031"/>
          <p:cNvPicPr/>
          <p:nvPr/>
        </p:nvPicPr>
        <p:blipFill>
          <a:blip r:embed="rId2"/>
          <a:stretch/>
        </p:blipFill>
        <p:spPr>
          <a:xfrm>
            <a:off x="4952880" y="2203560"/>
            <a:ext cx="373392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int of view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sition of the narrator of the story and what the writer sees from that vantag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j0158055"/>
          <p:cNvPicPr/>
          <p:nvPr/>
        </p:nvPicPr>
        <p:blipFill>
          <a:blip r:embed="rId2"/>
          <a:stretch/>
        </p:blipFill>
        <p:spPr>
          <a:xfrm>
            <a:off x="4952880" y="208116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75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75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25760" y="27432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666880" y="91440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Short 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Definition of a Short Sto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s about a single event or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ctional (not 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0 to 15,000 words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a beginning, middle, an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s an impression on the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1828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ag00428_"/>
          <p:cNvPicPr/>
          <p:nvPr/>
        </p:nvPicPr>
        <p:blipFill>
          <a:blip r:embed="rId6"/>
          <a:stretch/>
        </p:blipFill>
        <p:spPr>
          <a:xfrm>
            <a:off x="4952880" y="2327400"/>
            <a:ext cx="3733920" cy="296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Tells the reader where and when the story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na01062_"/>
          <p:cNvPicPr/>
          <p:nvPr/>
        </p:nvPicPr>
        <p:blipFill>
          <a:blip r:embed="rId2"/>
          <a:stretch/>
        </p:blipFill>
        <p:spPr>
          <a:xfrm>
            <a:off x="4952880" y="2144880"/>
            <a:ext cx="3733920" cy="3328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acteriz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imaginary people who appear to be real to the reader.  The writer gives information about the characters in the s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9" descr="pe01832_"/>
          <p:cNvPicPr/>
          <p:nvPr/>
        </p:nvPicPr>
        <p:blipFill>
          <a:blip r:embed="rId2"/>
          <a:stretch/>
        </p:blipFill>
        <p:spPr>
          <a:xfrm>
            <a:off x="4952880" y="2103480"/>
            <a:ext cx="3733920" cy="341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o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events through which the writer reveals what is happening, to whom, and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pe02097_"/>
          <p:cNvPicPr/>
          <p:nvPr/>
        </p:nvPicPr>
        <p:blipFill>
          <a:blip r:embed="rId2"/>
          <a:stretch/>
        </p:blipFill>
        <p:spPr>
          <a:xfrm>
            <a:off x="4952880" y="2314440"/>
            <a:ext cx="3733920" cy="298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lic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problem in the story that needs to be re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d06990_"/>
          <p:cNvPicPr/>
          <p:nvPr/>
        </p:nvPicPr>
        <p:blipFill>
          <a:blip r:embed="rId2"/>
          <a:stretch/>
        </p:blipFill>
        <p:spPr>
          <a:xfrm>
            <a:off x="4952880" y="2224080"/>
            <a:ext cx="373392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max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action comes to its highest point of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pe01496_"/>
          <p:cNvPicPr/>
          <p:nvPr/>
        </p:nvPicPr>
        <p:blipFill>
          <a:blip r:embed="rId2"/>
          <a:stretch/>
        </p:blipFill>
        <p:spPr>
          <a:xfrm>
            <a:off x="5086440" y="17524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olution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action after the climax until the end of the story. The “conclusion” of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pe01476_"/>
          <p:cNvPicPr/>
          <p:nvPr/>
        </p:nvPicPr>
        <p:blipFill>
          <a:blip r:embed="rId2"/>
          <a:stretch/>
        </p:blipFill>
        <p:spPr>
          <a:xfrm>
            <a:off x="4984920" y="1752480"/>
            <a:ext cx="3668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7:17:08Z</dcterms:created>
  <dc:creator>Jerald and Mary Ellington</dc:creator>
  <dc:description/>
  <dc:language>en-US</dc:language>
  <cp:lastModifiedBy>RomaK</cp:lastModifiedBy>
  <dcterms:modified xsi:type="dcterms:W3CDTF">2015-09-02T09:43:49Z</dcterms:modified>
  <cp:revision>10</cp:revision>
  <dc:subject/>
  <dc:title>how to write a short story</dc:title>
</cp:coreProperties>
</file>