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3C03-4C48-4592-BCCB-DD9326BDBB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ers for Algern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Depart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dwell Jr. High Schoo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ng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r enough to be easily seen or notic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tangible evidence of Casey’s gui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a or guess about something that has yet to be pro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dea that Sasquatch is real is only a hypothe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damage something or make it not as good as it should b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llness had impaired his ability to think and concentra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portun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one who uses every opportunity to gain power, money, or unfair advantag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honest kid was an opportun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eeling that you get from one of your five senses, especially the sense of tou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sign of a heart attack is a tingling sensation in the left ar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et of numbers which represent facts or measure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stics show that 50% of new businesses fail in their first ye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cu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ing no intelligence or having no useful purpo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id’s vacuous expression showed he wasn’t very b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u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ly stupid or unreason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n’s mullet was absu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spe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ding to think deeply about your own thoughts, feelings, or behav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ighth grader sat alone and was very deep and introspec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r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correct or most suitable relationship to it in size, amount, impor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ns head was not proportional to his bod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r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unpleasant woman who always argues and disagrees with peop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an old woman down the street was a shre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ndr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llness which consists of a set of physical or mental probl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ckholm Syndrome is when a person who is kidnapped shows loyalty to the kidnap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ïvet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having much experience of how complicated lif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untry bumpkin showed his naiveté when he went to the big c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t of returning to an earlier condition that is worse or less develop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 regressed when his little sister was bor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ing one’s interests or activities to one particular subjec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ctor’s specialization was fe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4841-5DE8-403D-875A-A759C6535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71B6-560E-47F1-8F73-8682256D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EEF5-47F9-45A5-A627-8F69DBA0F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1A08-E975-4B11-B0DB-FD703BB02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9420-DBFD-45C4-A971-E5C02C3E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EDD4-B0CE-400E-A606-2FD43EC3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CDC5-2547-4B17-BD2C-751A2C56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17A0-C7A0-4CC1-BC47-967017B0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3F2F-F6C0-403C-961C-0B0B0629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F21A-18B2-4E56-A452-EB1432C4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81BC-41A0-49DB-AC30-38347927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EB41-F648-409C-A31C-00501A27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79E9-A3A3-4B98-8D18-A921B68E8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ers for Algern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dwell Jr. High Scho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Cj03392220000[1]"/>
          <p:cNvPicPr/>
          <p:nvPr/>
        </p:nvPicPr>
        <p:blipFill>
          <a:blip r:embed="rId1"/>
          <a:stretch/>
        </p:blipFill>
        <p:spPr>
          <a:xfrm>
            <a:off x="3733920" y="7621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g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 enough to be easily seen or notic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tangible evidence of Casey’s gui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jby0091l"/>
          <p:cNvPicPr/>
          <p:nvPr/>
        </p:nvPicPr>
        <p:blipFill>
          <a:blip r:embed="rId1"/>
          <a:stretch/>
        </p:blipFill>
        <p:spPr>
          <a:xfrm>
            <a:off x="2438280" y="3695760"/>
            <a:ext cx="38102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 or guess about something that has yet to be pro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a that Sasquatch is real is only a hypo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MessinWithSasquatch_2-full"/>
          <p:cNvPicPr/>
          <p:nvPr/>
        </p:nvPicPr>
        <p:blipFill>
          <a:blip r:embed="rId1"/>
          <a:stretch/>
        </p:blipFill>
        <p:spPr>
          <a:xfrm>
            <a:off x="3962520" y="4267080"/>
            <a:ext cx="15555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76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amage something or make it not as good as it should b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llness had impaired his ability to think and concentr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CrazyMan-01"/>
          <p:cNvPicPr/>
          <p:nvPr/>
        </p:nvPicPr>
        <p:blipFill>
          <a:blip r:embed="rId1"/>
          <a:stretch/>
        </p:blipFill>
        <p:spPr>
          <a:xfrm>
            <a:off x="5354640" y="990720"/>
            <a:ext cx="3398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portun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who uses every opportunity to gain power, money, or unfair advant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shonest kid was an opportun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ksmn94l"/>
          <p:cNvPicPr/>
          <p:nvPr/>
        </p:nvPicPr>
        <p:blipFill>
          <a:blip r:embed="rId1"/>
          <a:srcRect l="0" t="12000" r="0" b="0"/>
          <a:stretch/>
        </p:blipFill>
        <p:spPr>
          <a:xfrm>
            <a:off x="5181480" y="1981080"/>
            <a:ext cx="37339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eling that you get from one of your five senses, especially the sense of tou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sign of a heart attack is a tingling sensation in the left ar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heart-attack-picture"/>
          <p:cNvPicPr/>
          <p:nvPr/>
        </p:nvPicPr>
        <p:blipFill>
          <a:blip r:embed="rId1"/>
          <a:stretch/>
        </p:blipFill>
        <p:spPr>
          <a:xfrm>
            <a:off x="6591240" y="3962520"/>
            <a:ext cx="2552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s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t of numbers which represent facts or measur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 show that 50% of new businesses fail in their first ye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going_out_of_business"/>
          <p:cNvPicPr/>
          <p:nvPr/>
        </p:nvPicPr>
        <p:blipFill>
          <a:blip r:embed="rId1"/>
          <a:stretch/>
        </p:blipFill>
        <p:spPr>
          <a:xfrm>
            <a:off x="2514600" y="4238640"/>
            <a:ext cx="37908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ing no intelligence or having no useful purpo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id’s vacuous expression showed he wasn’t very br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boy"/>
          <p:cNvPicPr/>
          <p:nvPr/>
        </p:nvPicPr>
        <p:blipFill>
          <a:blip r:embed="rId1"/>
          <a:stretch/>
        </p:blipFill>
        <p:spPr>
          <a:xfrm>
            <a:off x="6172200" y="1676520"/>
            <a:ext cx="26668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u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ly stupid or unreason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n’s mullet was absu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Super-Mullet"/>
          <p:cNvPicPr/>
          <p:nvPr/>
        </p:nvPicPr>
        <p:blipFill>
          <a:blip r:embed="rId1"/>
          <a:stretch/>
        </p:blipFill>
        <p:spPr>
          <a:xfrm>
            <a:off x="5715000" y="914400"/>
            <a:ext cx="317016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ding to think deeply about your own thoughts, feelings, or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ighth grader sat alone and was very deep and introspec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Emo_Kid_color_variant_02_by_sabisaotome"/>
          <p:cNvPicPr/>
          <p:nvPr/>
        </p:nvPicPr>
        <p:blipFill>
          <a:blip r:embed="rId1"/>
          <a:stretch/>
        </p:blipFill>
        <p:spPr>
          <a:xfrm>
            <a:off x="3733920" y="4200480"/>
            <a:ext cx="19987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25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correct or most suitable relationship to it in size, amount, impor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ns head was not proportional to his bod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marine-vignette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791320" y="2209680"/>
            <a:ext cx="30002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r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unpleasant woman who always argues and disagrees with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an old woman down the street was a shr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Simpsons_CrazyCatLady"/>
          <p:cNvPicPr/>
          <p:nvPr/>
        </p:nvPicPr>
        <p:blipFill>
          <a:blip r:embed="rId1"/>
          <a:stretch/>
        </p:blipFill>
        <p:spPr>
          <a:xfrm>
            <a:off x="3352680" y="3886200"/>
            <a:ext cx="2368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d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llness which consists of a set of physical or mental 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kholm Syndrome is when a person who is kidnapped shows loyalty to the kidnap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MCj04280670000[1]"/>
          <p:cNvPicPr/>
          <p:nvPr/>
        </p:nvPicPr>
        <p:blipFill>
          <a:blip r:embed="rId1"/>
          <a:stretch/>
        </p:blipFill>
        <p:spPr>
          <a:xfrm>
            <a:off x="3581280" y="4495680"/>
            <a:ext cx="19400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ïvet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having much experience of how complicated lif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untry bumpkin showed his naiveté when he went to the big c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fool"/>
          <p:cNvPicPr/>
          <p:nvPr/>
        </p:nvPicPr>
        <p:blipFill>
          <a:blip r:embed="rId1"/>
          <a:stretch/>
        </p:blipFill>
        <p:spPr>
          <a:xfrm>
            <a:off x="6010200" y="1066680"/>
            <a:ext cx="313380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t of returning to an earlier condition that is worse or less develop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y regressed when his little sister was b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thumbs2"/>
          <p:cNvPicPr/>
          <p:nvPr/>
        </p:nvPicPr>
        <p:blipFill>
          <a:blip r:embed="rId1"/>
          <a:stretch/>
        </p:blipFill>
        <p:spPr>
          <a:xfrm>
            <a:off x="6095880" y="3962520"/>
            <a:ext cx="24973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ing one’s interests or activities to one particular sub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octor’s specialization was f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doctor"/>
          <p:cNvPicPr/>
          <p:nvPr/>
        </p:nvPicPr>
        <p:blipFill>
          <a:blip r:embed="rId1"/>
          <a:stretch/>
        </p:blipFill>
        <p:spPr>
          <a:xfrm>
            <a:off x="2438280" y="4295880"/>
            <a:ext cx="38102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01:36:19Z</dcterms:created>
  <dc:creator>Shannon</dc:creator>
  <dc:description/>
  <dc:language>en-US</dc:language>
  <cp:lastModifiedBy>RomaK</cp:lastModifiedBy>
  <dcterms:modified xsi:type="dcterms:W3CDTF">2015-09-02T09:43:10Z</dcterms:modified>
  <cp:revision>13</cp:revision>
  <dc:subject/>
  <dc:title>Flowers for Algernon </dc:title>
</cp:coreProperties>
</file>