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0356-3F04-4613-B0B8-DDBD3FC6B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ers for Algern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Depar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dwell Jr. High Scho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ng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 enough to be easily seen or notic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tangible evidence of Casey’s g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 or guess about something that has yet to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dea that Sasquatch is real is only a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amage something or make it not as good as it should 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llness had impaired his ability to think and concentrat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ho uses every opportunity to gain power, money, or unfair advanta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honest kid was an opportun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eling that you get from one of your five senses, especially the sense of to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ign of a heart attack is a tingling sensation in the left 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which represent facts or measure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cs show that 50% of new businesses fail in their first ye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ing no intelligence or having no useful purpo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d’s vacuous expression showed he wasn’t very b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u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ly stupid or unreason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’s mullet was absu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spe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ing to think deeply about your own thoughts, feelings, or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ighth grader sat alone and was very deep and introsp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rrect or most suitable relationship to it in size, amount, impor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ns head was not proportional to his bod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unpleasant woman who always argues and disagrees with peo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an old woman down the street was a shr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d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llness which consists of a set of physical or mental probl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ckholm Syndrome is when a person who is kidnapped shows loyalty to the kidna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ïvet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having much experience of how complicated lif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bumpkin showed his naiveté when he went to the big 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t of returning to an earlier condition that is worse or less develop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regressed when his little sister was bo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one’s interests or activities to one particular subje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tor’s specialization was f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B19-D414-4AFF-8750-C2FD7B7EE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7FD-D0AD-4844-8F9B-D37BF823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618-FEC4-4D9A-A1B2-68A82E97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A11-28A9-4467-8F1F-8F42CC44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620-FBE3-4C65-8214-8AFB82F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AAB-8347-4DB9-9CBB-847939ED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5AD-1703-4190-90A8-4A20C0E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28C-337B-44DE-9D10-8D367BC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F84-1CBF-4116-8612-527E39E7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4BD-6393-4AC5-9287-BA359FD6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E27-B51E-4ED5-BDD5-621BBAF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24B-384C-4198-BA7E-F71A068A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67A-9997-4C8C-8330-35AE21D09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s for Algern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dwell Jr. High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Cj03392220000[1]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nough to be easily seen or noti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tangible evidence of Casey’s gui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by0091l"/>
          <p:cNvPicPr/>
          <p:nvPr/>
        </p:nvPicPr>
        <p:blipFill>
          <a:blip r:embed="rId1"/>
          <a:stretch/>
        </p:blipFill>
        <p:spPr>
          <a:xfrm>
            <a:off x="2438280" y="3695760"/>
            <a:ext cx="38102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or guess about something that has yet to be pr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Sasquatch is real is only a hypo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essinWithSasquatch_2-full"/>
          <p:cNvPicPr/>
          <p:nvPr/>
        </p:nvPicPr>
        <p:blipFill>
          <a:blip r:embed="rId1"/>
          <a:stretch/>
        </p:blipFill>
        <p:spPr>
          <a:xfrm>
            <a:off x="3962520" y="4267080"/>
            <a:ext cx="1555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amage something or make it not as good as it should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llness had impaired his ability to think and concen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razyMan-01"/>
          <p:cNvPicPr/>
          <p:nvPr/>
        </p:nvPicPr>
        <p:blipFill>
          <a:blip r:embed="rId1"/>
          <a:stretch/>
        </p:blipFill>
        <p:spPr>
          <a:xfrm>
            <a:off x="5354640" y="990720"/>
            <a:ext cx="33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uses every opportunity to gain power, money, or unfair 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shonest kid was an opportu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ksmn94l"/>
          <p:cNvPicPr/>
          <p:nvPr/>
        </p:nvPicPr>
        <p:blipFill>
          <a:blip r:embed="rId1"/>
          <a:srcRect l="0" t="12000" r="0" b="0"/>
          <a:stretch/>
        </p:blipFill>
        <p:spPr>
          <a:xfrm>
            <a:off x="5181480" y="1981080"/>
            <a:ext cx="3733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eling that you get from one of your five senses, especially the sense of tou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ign of a heart attack is a tingling sensation in the left a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eart-attack-picture"/>
          <p:cNvPicPr/>
          <p:nvPr/>
        </p:nvPicPr>
        <p:blipFill>
          <a:blip r:embed="rId1"/>
          <a:stretch/>
        </p:blipFill>
        <p:spPr>
          <a:xfrm>
            <a:off x="6591240" y="3962520"/>
            <a:ext cx="2552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numbers which represent facts or measu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show that 50% of new businesses fail in their first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going_out_of_business"/>
          <p:cNvPicPr/>
          <p:nvPr/>
        </p:nvPicPr>
        <p:blipFill>
          <a:blip r:embed="rId1"/>
          <a:stretch/>
        </p:blipFill>
        <p:spPr>
          <a:xfrm>
            <a:off x="2514600" y="4238640"/>
            <a:ext cx="3790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ing no intelligence or having no useful purp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d’s vacuous expression showed he wasn’t very b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oy"/>
          <p:cNvPicPr/>
          <p:nvPr/>
        </p:nvPicPr>
        <p:blipFill>
          <a:blip r:embed="rId1"/>
          <a:stretch/>
        </p:blipFill>
        <p:spPr>
          <a:xfrm>
            <a:off x="6172200" y="1676520"/>
            <a:ext cx="26668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u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stupid or un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’s mullet was absu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uper-Mullet"/>
          <p:cNvPicPr/>
          <p:nvPr/>
        </p:nvPicPr>
        <p:blipFill>
          <a:blip r:embed="rId1"/>
          <a:stretch/>
        </p:blipFill>
        <p:spPr>
          <a:xfrm>
            <a:off x="5715000" y="914400"/>
            <a:ext cx="317016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ing to think deeply about your own thoughts, feelings, or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ighth grader sat alone and was very deep and introsp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Emo_Kid_color_variant_02_by_sabisaotome"/>
          <p:cNvPicPr/>
          <p:nvPr/>
        </p:nvPicPr>
        <p:blipFill>
          <a:blip r:embed="rId1"/>
          <a:stretch/>
        </p:blipFill>
        <p:spPr>
          <a:xfrm>
            <a:off x="3733920" y="4200480"/>
            <a:ext cx="1998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orrect or most suitable relationship to it in size, amount,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s head was not proportional to his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marine-vignette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91320" y="2209680"/>
            <a:ext cx="3000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pleasant woman who always argues and disagrees with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an old woman down the street was a shr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impsons_CrazyCatLady"/>
          <p:cNvPicPr/>
          <p:nvPr/>
        </p:nvPicPr>
        <p:blipFill>
          <a:blip r:embed="rId1"/>
          <a:stretch/>
        </p:blipFill>
        <p:spPr>
          <a:xfrm>
            <a:off x="3352680" y="38862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llness which consists of a set of physical or mental 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holm Syndrome is when a person who is kidnapped shows loyalty to the kidnap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MCj04280670000[1]"/>
          <p:cNvPicPr/>
          <p:nvPr/>
        </p:nvPicPr>
        <p:blipFill>
          <a:blip r:embed="rId1"/>
          <a:stretch/>
        </p:blipFill>
        <p:spPr>
          <a:xfrm>
            <a:off x="3581280" y="4495680"/>
            <a:ext cx="1940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having much experience of how complicated lif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bumpkin showed his naiveté when he went to the big c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ool"/>
          <p:cNvPicPr/>
          <p:nvPr/>
        </p:nvPicPr>
        <p:blipFill>
          <a:blip r:embed="rId1"/>
          <a:stretch/>
        </p:blipFill>
        <p:spPr>
          <a:xfrm>
            <a:off x="6010200" y="1066680"/>
            <a:ext cx="313380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 of returning to an earlier condition that is worse or less develop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 regressed when his little sist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thumbs2"/>
          <p:cNvPicPr/>
          <p:nvPr/>
        </p:nvPicPr>
        <p:blipFill>
          <a:blip r:embed="rId1"/>
          <a:stretch/>
        </p:blipFill>
        <p:spPr>
          <a:xfrm>
            <a:off x="6095880" y="3962520"/>
            <a:ext cx="2497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ing one’s interests or activities to one particular su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ctor’s specialization was f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doctor"/>
          <p:cNvPicPr/>
          <p:nvPr/>
        </p:nvPicPr>
        <p:blipFill>
          <a:blip r:embed="rId1"/>
          <a:stretch/>
        </p:blipFill>
        <p:spPr>
          <a:xfrm>
            <a:off x="2438280" y="4295880"/>
            <a:ext cx="3810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1:36:19Z</dcterms:created>
  <dc:creator>Shannon</dc:creator>
  <dc:description/>
  <dc:language>en-US</dc:language>
  <cp:lastModifiedBy>RomaK</cp:lastModifiedBy>
  <dcterms:modified xsi:type="dcterms:W3CDTF">2015-09-02T09:43:10Z</dcterms:modified>
  <cp:revision>13</cp:revision>
  <dc:subject/>
  <dc:title>Flowers for Algernon </dc:title>
</cp:coreProperties>
</file>