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camera.wav" ContentType="audio/x-wav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whoosh.wav" ContentType="audio/x-wav"/>
  <Override PartName="/ppt/media/carbrake.wav" ContentType="audio/x-wav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1904-8593-425A-8092-26F018896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xplication- The Easy Way Out!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By Tricia Coon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ar not my weary pilgrims, this is much easier than it seems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plication- The Easy Way Out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not my weary pilgrims, this is much easier than it seem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Way Do I G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xplication contains THREE (3) par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PARAPHRA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ANALY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INTERPRE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y Do I G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plication contains THREE (3)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PARAPHR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NTERPRE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phr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araphrase is merely putting the poem into your own word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ay want to paraphrase stanza by stanz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poems are real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icult and requi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to paraphra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 by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aphrase is merely putting the poem into your own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want to paraphrase stanza by stanz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ems are real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 and requ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to paraphr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by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your true chance to shine and demonstrate how much you really know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t small - point out how many stanzas etc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, go for the GUSTO!  Point out all of the literary devices used in the poe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iteration,allusions,similes, metaphors… remember these?? See you do use this stuff again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your true chance to shine and demonstrate how much you really know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small - point out how many stanzas et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go for the GUSTO!  Point out all of the literary devices used in the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,allusions,similes, metaphors… remember these?? See you do use this stuff again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fun par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a paragraph on what YOU think the poet is trying to say to you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ortion of the explication will be different for each person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really is NO WRONG ANSWER as long as you back up what your saying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fun 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paragraph on what YOU think the poet is trying to say to you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rtion of the explication will be different for each pers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really is NO WRONG ANSWER as long as you back up what your say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n’t so b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eak down the process one step at a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intain a positive at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you get stuck don’t give up – it’s o.k. to as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hel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n’t so b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 down the process one step at a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 positive at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get stuck don’t give up – it’s o.k. to 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as easy as pulling a RABBITT out of a ha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s easy as pulling a RABBITT out of a ha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279A-8489-45B1-AF25-D8A64EE0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75D9-CD4C-4619-8E06-44054815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3EA1-D2FB-465F-B4CD-A1FD2579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87F0-4479-45DA-B05A-A8190518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48D87-E59F-44B4-9628-0612D0E6E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FF7A-C333-40B8-BD03-23900E92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DDE2-45EF-423E-B9C4-02F85F91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7494-83EA-4816-9084-44153AE6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7D26-D00E-431E-8854-764087F7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15FF-6F37-4FA9-BE8F-7A49852D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C5D3-198A-402B-831B-D89E5099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DDE6-C812-4AD9-8B67-B63A6B63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1D38-9C1B-428F-BCFD-9F570A37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2F3F-38A4-4D8F-9AEA-A54926E5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B660-DFFD-4E59-A9E9-C66E59B4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8079-DC24-4257-A14E-166CAEDB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5148-DBE5-4FAE-A979-57781A379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60C1-1DAE-41A8-B3C7-F93AE346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6A1-4892-4F23-B321-469096CE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38B-12BA-416A-8F4C-28036E14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E806-7B0E-4079-82A6-6A1909DA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29F1-7F3E-4497-A861-6BA9C041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125B-5851-4841-BF80-C205A8AA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EADF-6D50-4CC0-BD4A-8654D13A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7AEB-7BDE-4CB5-B6E8-7390AB6D12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F644-F348-4EB9-8131-248B3EC0C1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An Explication- The Easy Way Out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By Tricia Coone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r not my weary pilgrims, this is much easier than it seems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457840" y="4190760"/>
            <a:ext cx="152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j0076212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24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ag00433_"/>
          <p:cNvPicPr/>
          <p:nvPr/>
        </p:nvPicPr>
        <p:blipFill>
          <a:blip r:embed="rId2"/>
          <a:stretch/>
        </p:blipFill>
        <p:spPr>
          <a:xfrm>
            <a:off x="7680240" y="1143000"/>
            <a:ext cx="1463760" cy="1154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ag00343_"/>
          <p:cNvPicPr/>
          <p:nvPr/>
        </p:nvPicPr>
        <p:blipFill>
          <a:blip r:embed="rId3"/>
          <a:stretch/>
        </p:blipFill>
        <p:spPr>
          <a:xfrm>
            <a:off x="4038480" y="5181480"/>
            <a:ext cx="1474920" cy="1406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ag00388_"/>
          <p:cNvPicPr/>
          <p:nvPr/>
        </p:nvPicPr>
        <p:blipFill>
          <a:blip r:embed="rId4"/>
          <a:stretch/>
        </p:blipFill>
        <p:spPr>
          <a:xfrm>
            <a:off x="685800" y="1295280"/>
            <a:ext cx="879480" cy="663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Which Way Do I Go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An Explication contains THREE (3) par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1.  PARAPHRAS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2.  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3.  INTERPRE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6" descr="j0076212"/>
          <p:cNvPicPr/>
          <p:nvPr/>
        </p:nvPicPr>
        <p:blipFill>
          <a:blip r:embed="rId1"/>
          <a:stretch/>
        </p:blipFill>
        <p:spPr>
          <a:xfrm>
            <a:off x="1371600" y="838080"/>
            <a:ext cx="64771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HM00361_"/>
          <p:cNvPicPr/>
          <p:nvPr/>
        </p:nvPicPr>
        <p:blipFill>
          <a:blip r:embed="rId1"/>
          <a:stretch/>
        </p:blipFill>
        <p:spPr>
          <a:xfrm>
            <a:off x="5300640" y="3389400"/>
            <a:ext cx="3843360" cy="3468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Ravie"/>
              </a:rPr>
              <a:t>Paraphra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380880" y="838080"/>
            <a:ext cx="84582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 paraphrase is merely putting the poem into your own wor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 may want to paraphrase stanza by stanz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ome poems are reall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difficult and requir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 to paraphras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line by l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743200" y="76176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This is your true chance to shine and demonstrate how much you really know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Start small - point out how many stanzas etc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Then, go for the GUSTO!  Point out all of the literary devices used in the po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High Tower Text"/>
              </a:rPr>
              <a:t>Alliteration,allusions,similes, metaphors… remember these?? See you do use this stuff again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pe03513_"/>
          <p:cNvPicPr/>
          <p:nvPr/>
        </p:nvPicPr>
        <p:blipFill>
          <a:blip r:embed="rId1"/>
          <a:stretch/>
        </p:blipFill>
        <p:spPr>
          <a:xfrm>
            <a:off x="0" y="1752480"/>
            <a:ext cx="3070080" cy="3353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373392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66"/>
                </a:solidFill>
                <a:latin typeface="Ravie"/>
              </a:rPr>
              <a:t>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230c4"/>
            </a:gs>
            <a:gs pos="50000">
              <a:srgbClr val="99ffcc"/>
            </a:gs>
            <a:gs pos="100000">
              <a:srgbClr val="f230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Expl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the fun par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a paragraph on what YOU think the poet is trying to say to you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portion of the explication will be different for each person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e really is NO WRONG ANSWER as long as you back up what your saying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934320" y="3049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8" descr="j0235319"/>
          <p:cNvPicPr/>
          <p:nvPr/>
        </p:nvPicPr>
        <p:blipFill>
          <a:blip r:embed="rId1"/>
          <a:stretch/>
        </p:blipFill>
        <p:spPr>
          <a:xfrm>
            <a:off x="7359480" y="5035680"/>
            <a:ext cx="17845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00"/>
            </a:gs>
            <a:gs pos="50000">
              <a:srgbClr val="ffccff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See…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This wasn’t so b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Break down the process one step at a ti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Maintain a positive attitu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If you get stuck don’t give up – it’s o.k. to a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for he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j0205462"/>
          <p:cNvPicPr/>
          <p:nvPr/>
        </p:nvPicPr>
        <p:blipFill>
          <a:blip r:embed="rId1"/>
          <a:stretch/>
        </p:blipFill>
        <p:spPr>
          <a:xfrm>
            <a:off x="7010280" y="4735440"/>
            <a:ext cx="21337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cc"/>
            </a:gs>
            <a:gs pos="50000">
              <a:srgbClr val="ffff00"/>
            </a:gs>
            <a:gs pos="100000">
              <a:srgbClr val="99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057400"/>
            <a:ext cx="53341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It’s as easy as pulling a RABBITT out of a hat!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3" name="Picture 4" descr="j0312712"/>
          <p:cNvPicPr/>
          <p:nvPr/>
        </p:nvPicPr>
        <p:blipFill>
          <a:blip r:embed="rId1"/>
          <a:stretch/>
        </p:blipFill>
        <p:spPr>
          <a:xfrm>
            <a:off x="5338800" y="3124080"/>
            <a:ext cx="38052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8:48:25Z</dcterms:created>
  <dc:creator>Graves County High School</dc:creator>
  <dc:description/>
  <dc:language>en-US</dc:language>
  <cp:lastModifiedBy>RomaK</cp:lastModifiedBy>
  <dcterms:modified xsi:type="dcterms:W3CDTF">2015-09-02T09:43:03Z</dcterms:modified>
  <cp:revision>17</cp:revision>
  <dc:subject/>
  <dc:title>Science Reasoning</dc:title>
</cp:coreProperties>
</file>