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5.wmf" ContentType="image/x-wmf"/>
  <Override PartName="/ppt/media/camera.wav" ContentType="audio/x-wav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whoosh.wav" ContentType="audio/x-wav"/>
  <Override PartName="/ppt/media/carbrake.wav" ContentType="audio/x-wav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C02F-28E8-4E7E-9331-B67E84A57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xplication- The Easy Way Out!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By Tricia Coone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ar not my weary pilgrims, this is much easier than it seems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plication- The Easy Way Out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ricia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not my weary pilgrims, this is much easier than it seem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Way Do I Go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xplication contains THREE (3) par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PARAPHRA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ANALY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INTERPRE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y Do I G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plication contains THREE (3)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PARAPHR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INTERPRE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phr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paraphrase is merely putting the poem into your own word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may want to paraphrase stanza by stanz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poems are reall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icult and requi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to paraphra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e by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aphrase is merely putting the poem into your own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want to paraphrase stanza by stanz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ems are real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icult and requ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to paraphr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by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your true chance to shine and demonstrate how much you really know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t small - point out how many stanzas etc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n, go for the GUSTO!  Point out all of the literary devices used in the poe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iteration,allusions,similes, metaphors… remember these?? See you do use this stuff again!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your true chance to shine and demonstrate how much you really know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small - point out how many stanzas et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, go for the GUSTO!  Point out all of the literary devices used in the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teration,allusions,similes, metaphors… remember these?? See you do use this stuff again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the fun par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a paragraph on what YOU think the poet is trying to say to you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portion of the explication will be different for each person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really is NO WRONG ANSWER as long as you back up what your saying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fun p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paragraph on what YOU think the poet is trying to say to you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rtion of the explication will be different for each pers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really is NO WRONG ANSWER as long as you back up what your say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n’t so b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eak down the process one step at a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intain a positive at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you get stuck don’t give up – it’s o.k. to as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hel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n’t so b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 down the process one step at a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 positive at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get stuck don’t give up – it’s o.k. to 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as easy as pulling a RABBITT out of a ha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s easy as pulling a RABBITT out of a ha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2AD-A10E-4712-98B8-F6368C38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6723-267A-4B2B-A0E8-FEE0842B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AB8D-5790-40CD-9096-D9C0F037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5F01-987D-4736-BD16-76B5A2B7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5E19-E4C9-4F0C-97FB-5F1A5976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ED83-DCA9-42E9-9E98-464A05BA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58C1-6B4A-423C-8440-123F0904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2209-7459-43D1-8A88-4E9A6528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9F97-190D-4BC5-BE96-81B350DD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24C1-E4B3-4C33-8D9B-56B1BF74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94D1-7FD4-4F79-B786-21DFC2F4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9FD0-2431-4AAC-8809-B6315C27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C602-F9F6-4C7B-A689-A19C2399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9252-2E3D-4E1C-8802-1458D66A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CA9B-FF9B-48F5-B57E-C33186F4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4BDE-7CA6-48CC-A7FE-5FEAA127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C1B1-19DD-4D9C-99FD-D749556B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32BA-72F1-4B30-9BA0-BB541F5C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8A16-583B-4B0B-B921-2C83A862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16EE-DBC0-4C1A-A483-E3863B55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D484-CF84-4B68-871D-2BEAE1F7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5BE4-24DE-4228-9515-C50EAE13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3001-08B4-42C5-8C3A-6A989966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D56C-1182-48F0-8ECF-DC6FFC71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706C-BBB2-4F0C-9189-9040977CA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EE65-7543-4D41-B55F-F3BF029EEB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An Explication- The Easy Way Out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By Tricia Coone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r not my weary pilgrims, this is much easier than it seems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457840" y="4190760"/>
            <a:ext cx="152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j0076212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324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ag00433_"/>
          <p:cNvPicPr/>
          <p:nvPr/>
        </p:nvPicPr>
        <p:blipFill>
          <a:blip r:embed="rId2"/>
          <a:stretch/>
        </p:blipFill>
        <p:spPr>
          <a:xfrm>
            <a:off x="7680240" y="1143000"/>
            <a:ext cx="1463760" cy="1154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ag00343_"/>
          <p:cNvPicPr/>
          <p:nvPr/>
        </p:nvPicPr>
        <p:blipFill>
          <a:blip r:embed="rId3"/>
          <a:stretch/>
        </p:blipFill>
        <p:spPr>
          <a:xfrm>
            <a:off x="4038480" y="5181480"/>
            <a:ext cx="1474920" cy="1406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ag00388_"/>
          <p:cNvPicPr/>
          <p:nvPr/>
        </p:nvPicPr>
        <p:blipFill>
          <a:blip r:embed="rId4"/>
          <a:stretch/>
        </p:blipFill>
        <p:spPr>
          <a:xfrm>
            <a:off x="685800" y="1295280"/>
            <a:ext cx="879480" cy="663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Which Way Do I Go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An Explication contains THREE (3) par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1.  PARAPHRAS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2.  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3.  INTERPRE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6" descr="j0076212"/>
          <p:cNvPicPr/>
          <p:nvPr/>
        </p:nvPicPr>
        <p:blipFill>
          <a:blip r:embed="rId1"/>
          <a:stretch/>
        </p:blipFill>
        <p:spPr>
          <a:xfrm>
            <a:off x="1371600" y="838080"/>
            <a:ext cx="64771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HM00361_"/>
          <p:cNvPicPr/>
          <p:nvPr/>
        </p:nvPicPr>
        <p:blipFill>
          <a:blip r:embed="rId1"/>
          <a:stretch/>
        </p:blipFill>
        <p:spPr>
          <a:xfrm>
            <a:off x="5300640" y="3389400"/>
            <a:ext cx="3843360" cy="3468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Ravie"/>
              </a:rPr>
              <a:t>Paraphra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380880" y="838080"/>
            <a:ext cx="84582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 paraphrase is merely putting the poem into your own wor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You may want to paraphrase stanza by stanz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Some poems are reall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difficult and requir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you to paraphras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line by li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66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743200" y="76176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This is your true chance to shine and demonstrate how much you really know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Start small - point out how many stanzas etc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Then, go for the GUSTO!  Point out all of the literary devices used in the po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High Tower Text"/>
              </a:rPr>
              <a:t>Alliteration,allusions,similes, metaphors… remember these?? See you do use this stuff again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4" descr="pe03513_"/>
          <p:cNvPicPr/>
          <p:nvPr/>
        </p:nvPicPr>
        <p:blipFill>
          <a:blip r:embed="rId1"/>
          <a:stretch/>
        </p:blipFill>
        <p:spPr>
          <a:xfrm>
            <a:off x="0" y="1752480"/>
            <a:ext cx="3070080" cy="3353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373392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66"/>
                </a:solidFill>
                <a:latin typeface="Ravie"/>
              </a:rPr>
              <a:t>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230c4"/>
            </a:gs>
            <a:gs pos="50000">
              <a:srgbClr val="99ffcc"/>
            </a:gs>
            <a:gs pos="100000">
              <a:srgbClr val="f230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Expl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the fun par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a paragraph on what YOU think the poet is trying to say to you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portion of the explication will be different for each person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re really is NO WRONG ANSWER as long as you back up what your saying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934320" y="3049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8" descr="j0235319"/>
          <p:cNvPicPr/>
          <p:nvPr/>
        </p:nvPicPr>
        <p:blipFill>
          <a:blip r:embed="rId1"/>
          <a:stretch/>
        </p:blipFill>
        <p:spPr>
          <a:xfrm>
            <a:off x="7359480" y="5035680"/>
            <a:ext cx="17845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00"/>
            </a:gs>
            <a:gs pos="50000">
              <a:srgbClr val="ffccff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See…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This wasn’t so b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Break down the process one step at a ti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Maintain a positive attitu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If you get stuck don’t give up – it’s o.k. to as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for he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j0205462"/>
          <p:cNvPicPr/>
          <p:nvPr/>
        </p:nvPicPr>
        <p:blipFill>
          <a:blip r:embed="rId1"/>
          <a:stretch/>
        </p:blipFill>
        <p:spPr>
          <a:xfrm>
            <a:off x="7010280" y="4735440"/>
            <a:ext cx="213372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cc"/>
            </a:gs>
            <a:gs pos="50000">
              <a:srgbClr val="ffff00"/>
            </a:gs>
            <a:gs pos="100000">
              <a:srgbClr val="99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057400"/>
            <a:ext cx="53341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It’s as easy as pulling a RABBITT out of a hat!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3" name="Picture 4" descr="j0312712"/>
          <p:cNvPicPr/>
          <p:nvPr/>
        </p:nvPicPr>
        <p:blipFill>
          <a:blip r:embed="rId1"/>
          <a:stretch/>
        </p:blipFill>
        <p:spPr>
          <a:xfrm>
            <a:off x="5338800" y="3124080"/>
            <a:ext cx="38052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8:48:25Z</dcterms:created>
  <dc:creator>Graves County High School</dc:creator>
  <dc:description/>
  <dc:language>en-US</dc:language>
  <cp:lastModifiedBy>RomaK</cp:lastModifiedBy>
  <dcterms:modified xsi:type="dcterms:W3CDTF">2015-09-02T09:43:03Z</dcterms:modified>
  <cp:revision>17</cp:revision>
  <dc:subject/>
  <dc:title>Science Reasoning</dc:title>
</cp:coreProperties>
</file>