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5.wmf" ContentType="image/x-wmf"/>
  <Override PartName="/ppt/media/camera.wav" ContentType="audio/x-wav"/>
  <Override PartName="/ppt/media/image3.gif" ContentType="image/gif"/>
  <Override PartName="/ppt/media/image6.wmf" ContentType="image/x-wmf"/>
  <Override PartName="/ppt/media/image4.gif" ContentType="image/gif"/>
  <Override PartName="/ppt/media/image7.wmf" ContentType="image/x-wmf"/>
  <Override PartName="/ppt/media/whoosh.wav" ContentType="audio/x-wav"/>
  <Override PartName="/ppt/media/carbrake.wav" ContentType="audio/x-wav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A3E64-4A9F-4B2E-9B17-F393A9EE0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- The Easy Way Out!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y Tricia Coon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Way Do I G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ication contains THREE (3)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NTERPRE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ph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raphrase is merely putting the poem into your own w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want to paraphrase stanza by stanz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oems are real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icult and requi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to paraphra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by 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true chance to shine and demonstrate how much you really know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t small - point out how many stanzas et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, go for the GUSTO!  Point out all of the literary devices used in the po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iteration,allusions,similes, metaphors… remember these?? See you do use this stuff again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asn’t so b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down the process one step at a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 positive at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get stuck don’t give up – it’s o.k. to 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e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as easy as pulling a RABBITT out of a ha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109-C540-4295-B524-80ADB2F7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EE56-1C39-4E85-AC03-5A1E10B9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1F7-8308-49B8-BB91-473174CC3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4575-CE65-4FF0-BEDA-8FEA48967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FD16-E21E-4D5A-A7D1-EDE4A831F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8638-5F92-430D-A1A5-654BF85A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B65A-BE7A-4997-8964-8292A253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BB01-6B1A-4486-A326-3E52190B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E8F3-9762-4BBC-BF96-9573AE09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6E09A-8104-4797-8F27-6D84D7CD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1EF76-3F6A-4999-BAE0-6D9838F74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1E4F-CF65-4D55-A92C-51EFB228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AC5F-7B7E-4AAD-BEFB-1877C861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3B52F-7044-4100-942D-BC3FD7E1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09DA-440D-4740-8E02-ACB9CBF6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88FE-D566-4361-9DBC-091D6AD36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6C477-3B97-41B2-BC48-9252CF8F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FAC8-0E04-4D01-9745-FB581E42D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6F9E-62E4-488B-919B-FCD230A6A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4B44-96F8-4EBD-BF74-EC0122CF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D164-E072-4C2F-960C-ECABCA9DB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49E0-C0AB-431B-9FAC-C36D20AC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DBC8-486F-4EA3-817B-1C5E1833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0160-C3C5-41FA-A53A-98D5DD649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A76A-1CEA-43F4-8A8E-035F4A08BA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Rectangle 3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Freeform 8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Freeform 9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10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11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5EC1-B2A5-46FB-8067-E7C1D2F219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An Explication- The Easy Way Out!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avie"/>
              </a:rPr>
              <a:t>By Tricia Cooney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r not my weary pilgrims, this is much easier than it seems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457840" y="4190760"/>
            <a:ext cx="152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j0076212"/>
          <p:cNvPicPr/>
          <p:nvPr/>
        </p:nvPicPr>
        <p:blipFill>
          <a:blip r:embed="rId1"/>
          <a:stretch/>
        </p:blipFill>
        <p:spPr>
          <a:xfrm>
            <a:off x="0" y="2286000"/>
            <a:ext cx="9144000" cy="2324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ag00433_"/>
          <p:cNvPicPr/>
          <p:nvPr/>
        </p:nvPicPr>
        <p:blipFill>
          <a:blip r:embed="rId2"/>
          <a:stretch/>
        </p:blipFill>
        <p:spPr>
          <a:xfrm>
            <a:off x="7680240" y="1143000"/>
            <a:ext cx="1463760" cy="1154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ag00343_"/>
          <p:cNvPicPr/>
          <p:nvPr/>
        </p:nvPicPr>
        <p:blipFill>
          <a:blip r:embed="rId3"/>
          <a:stretch/>
        </p:blipFill>
        <p:spPr>
          <a:xfrm>
            <a:off x="4038480" y="5181480"/>
            <a:ext cx="1474920" cy="1406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ag00388_"/>
          <p:cNvPicPr/>
          <p:nvPr/>
        </p:nvPicPr>
        <p:blipFill>
          <a:blip r:embed="rId4"/>
          <a:stretch/>
        </p:blipFill>
        <p:spPr>
          <a:xfrm>
            <a:off x="685800" y="1295280"/>
            <a:ext cx="879480" cy="663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Which Way Do I Go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Ravie"/>
              </a:rPr>
              <a:t>An Explication contains THREE (3)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1.  PARAPHRASE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2.  ANALYSI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abith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bitha"/>
              </a:rPr>
              <a:t>3.  INTERPRETA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Picture 6" descr="j0076212"/>
          <p:cNvPicPr/>
          <p:nvPr/>
        </p:nvPicPr>
        <p:blipFill>
          <a:blip r:embed="rId1"/>
          <a:stretch/>
        </p:blipFill>
        <p:spPr>
          <a:xfrm>
            <a:off x="1371600" y="838080"/>
            <a:ext cx="647712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99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HM00361_"/>
          <p:cNvPicPr/>
          <p:nvPr/>
        </p:nvPicPr>
        <p:blipFill>
          <a:blip r:embed="rId1"/>
          <a:stretch/>
        </p:blipFill>
        <p:spPr>
          <a:xfrm>
            <a:off x="5300640" y="3389400"/>
            <a:ext cx="3843360" cy="3468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Ravie"/>
              </a:rPr>
              <a:t>Paraphras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380880" y="838080"/>
            <a:ext cx="84582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A paraphrase is merely putting the poem into your own wor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may want to paraphrase stanza by stanz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Some poems are really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difficult and requir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 to paraphra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ine by l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6699"/>
            </a:gs>
            <a:gs pos="100000">
              <a:srgbClr val="ffff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743200" y="761760"/>
            <a:ext cx="6400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is is your true chance to shine and demonstrate how much you really know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Start small - point out how many stanzas etc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9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High Tower Text"/>
              </a:rPr>
              <a:t>Then, go for the GUSTO!  Point out all of the literary devices used in the po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High Tower Tex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44"/>
                </a:solidFill>
                <a:latin typeface="High Tower Text"/>
              </a:rPr>
              <a:t>Alliteration,allusions,similes, metaphors… remember these?? See you do use this stuff again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pe03513_"/>
          <p:cNvPicPr/>
          <p:nvPr/>
        </p:nvPicPr>
        <p:blipFill>
          <a:blip r:embed="rId1"/>
          <a:stretch/>
        </p:blipFill>
        <p:spPr>
          <a:xfrm>
            <a:off x="0" y="1752480"/>
            <a:ext cx="3070080" cy="33530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3733920" y="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66"/>
                </a:solidFill>
                <a:latin typeface="Ravie"/>
              </a:rPr>
              <a:t>Analy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6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230c4"/>
            </a:gs>
            <a:gs pos="50000">
              <a:srgbClr val="99ffcc"/>
            </a:gs>
            <a:gs pos="100000">
              <a:srgbClr val="f230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Ravie"/>
              </a:rPr>
              <a:t>Explicatio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the fun part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is a paragraph on what YOU think the poet is trying to say to you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s portion of the explication will be different for each person.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e really is NO WRONG ANSWER as long as you back up what your saying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934320" y="30492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8" descr="j0235319"/>
          <p:cNvPicPr/>
          <p:nvPr/>
        </p:nvPicPr>
        <p:blipFill>
          <a:blip r:embed="rId1"/>
          <a:stretch/>
        </p:blipFill>
        <p:spPr>
          <a:xfrm>
            <a:off x="7359480" y="5035680"/>
            <a:ext cx="1784520" cy="18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00"/>
            </a:gs>
            <a:gs pos="50000">
              <a:srgbClr val="ffccff"/>
            </a:gs>
            <a:gs pos="100000">
              <a:srgbClr val="ff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See…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This wasn’t so b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Break down the process one step at a tim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Maintain a positive attitu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Ravi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If you get stuck don’t give up – it’s o.k. to as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Ravie"/>
              </a:rPr>
              <a:t>for help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Picture 4" descr="j0205462"/>
          <p:cNvPicPr/>
          <p:nvPr/>
        </p:nvPicPr>
        <p:blipFill>
          <a:blip r:embed="rId1"/>
          <a:stretch/>
        </p:blipFill>
        <p:spPr>
          <a:xfrm>
            <a:off x="7010280" y="4735440"/>
            <a:ext cx="2133720" cy="21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900cc"/>
            </a:gs>
            <a:gs pos="50000">
              <a:srgbClr val="ffff00"/>
            </a:gs>
            <a:gs pos="100000">
              <a:srgbClr val="9900cc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057400"/>
            <a:ext cx="53341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avie"/>
              </a:rPr>
              <a:t>It’s as easy as pulling a RABBITT out of a hat!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3" name="Picture 4" descr="j0312712"/>
          <p:cNvPicPr/>
          <p:nvPr/>
        </p:nvPicPr>
        <p:blipFill>
          <a:blip r:embed="rId1"/>
          <a:stretch/>
        </p:blipFill>
        <p:spPr>
          <a:xfrm>
            <a:off x="5338800" y="3124080"/>
            <a:ext cx="38052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5T18:48:25Z</dcterms:created>
  <dc:creator>Graves County High School</dc:creator>
  <dc:description/>
  <dc:language>en-US</dc:language>
  <cp:lastModifiedBy>RomaK</cp:lastModifiedBy>
  <dcterms:modified xsi:type="dcterms:W3CDTF">2015-09-02T09:43:03Z</dcterms:modified>
  <cp:revision>17</cp:revision>
  <dc:subject/>
  <dc:title>Science Reasoning</dc:title>
</cp:coreProperties>
</file>