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camera.wav" ContentType="audio/x-wav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whoosh.wav" ContentType="audio/x-wav"/>
  <Override PartName="/ppt/media/carbrake.wav" ContentType="audio/x-wav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CC56-25C1-4FA8-B8CC-72A4142A1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72EF-3DDD-4415-A5E6-BEBBA4EC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E61-0D5E-4564-81CA-5E0DF82F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BB72-9C7D-4A91-B302-A377F0A5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DF71-DF73-4440-BDC4-B7C67B8B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71D4-1158-4BC1-9FF1-6C8CD346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7777-AA0D-4406-B289-DA32B4D0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C921-5352-49D4-95B8-42C13EB0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A198-9BA5-4117-8B19-E7DE15BA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5D74-A528-4B0F-B1ED-B93F725D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5BDB-91F7-491A-957A-FA01B0E7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8F88-090F-45F0-A797-A550153B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F2EB-5E53-4876-BD06-8B63AFE6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A180-C2FA-4C65-8EB5-CA764DA7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D513-E0A5-4C01-8D29-EAB79C60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76B6-E53F-4DC8-A20D-2589D091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E409-C7EB-4214-AD2E-17A0C3E8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66E4-BEBB-4B9A-A436-715525EB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9BB-A559-4E35-8D88-3C5D3B7C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4F0-27D2-4214-8BE3-68268E4B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0F31-0145-43F9-8C91-223CFB75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C78-9A46-4A90-A079-D3705D88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3F5-E337-4D05-AF0D-C1D543BD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B347-58BC-4FD1-B010-2A408151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7E7-86F9-4E8F-BB37-C346CD9F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154C-DA49-41B7-A435-EB10A8593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3794-8F16-46A8-BD06-4243A66C9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An Explication- The Easy Way Out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By Tricia Coone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457840" y="4190760"/>
            <a:ext cx="152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j0076212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24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ag00433_"/>
          <p:cNvPicPr/>
          <p:nvPr/>
        </p:nvPicPr>
        <p:blipFill>
          <a:blip r:embed="rId2"/>
          <a:stretch/>
        </p:blipFill>
        <p:spPr>
          <a:xfrm>
            <a:off x="7680240" y="1143000"/>
            <a:ext cx="1463760" cy="1154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ag00343_"/>
          <p:cNvPicPr/>
          <p:nvPr/>
        </p:nvPicPr>
        <p:blipFill>
          <a:blip r:embed="rId3"/>
          <a:stretch/>
        </p:blipFill>
        <p:spPr>
          <a:xfrm>
            <a:off x="4038480" y="5181480"/>
            <a:ext cx="1474920" cy="1406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g00388_"/>
          <p:cNvPicPr/>
          <p:nvPr/>
        </p:nvPicPr>
        <p:blipFill>
          <a:blip r:embed="rId4"/>
          <a:stretch/>
        </p:blipFill>
        <p:spPr>
          <a:xfrm>
            <a:off x="685800" y="1295280"/>
            <a:ext cx="879480" cy="66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Which Way Do I G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An Explication contains THREE (3) p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1.  PARAPHRAS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2. 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3.  INTERPRE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6" descr="j0076212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HM00361_"/>
          <p:cNvPicPr/>
          <p:nvPr/>
        </p:nvPicPr>
        <p:blipFill>
          <a:blip r:embed="rId1"/>
          <a:stretch/>
        </p:blipFill>
        <p:spPr>
          <a:xfrm>
            <a:off x="5300640" y="3389400"/>
            <a:ext cx="3843360" cy="3468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Ravie"/>
              </a:rPr>
              <a:t>Paraphra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80880" y="838080"/>
            <a:ext cx="84582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 paraphrase is merely putting the poem into your own wor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may want to paraphrase stanza by stanz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ome poems are real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difficult and requi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to paraphra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ine by l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743200" y="76176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is is your true chance to shine and demonstrate how much you really know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Start small - point out how many stanzas etc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en, go for the GUSTO!  Point out all of the literary devices used in the po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High Tower Text"/>
              </a:rPr>
              <a:t>Alliteration,allusions,similes, metaphors… remember these?? See you do use this stuff again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pe03513_"/>
          <p:cNvPicPr/>
          <p:nvPr/>
        </p:nvPicPr>
        <p:blipFill>
          <a:blip r:embed="rId1"/>
          <a:stretch/>
        </p:blipFill>
        <p:spPr>
          <a:xfrm>
            <a:off x="0" y="1752480"/>
            <a:ext cx="3070080" cy="3353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373392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66"/>
                </a:solidFill>
                <a:latin typeface="Ravie"/>
              </a:rPr>
              <a:t>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230c4"/>
            </a:gs>
            <a:gs pos="50000">
              <a:srgbClr val="99ffcc"/>
            </a:gs>
            <a:gs pos="100000">
              <a:srgbClr val="f230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Expl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934320" y="3049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j0235319"/>
          <p:cNvPicPr/>
          <p:nvPr/>
        </p:nvPicPr>
        <p:blipFill>
          <a:blip r:embed="rId1"/>
          <a:stretch/>
        </p:blipFill>
        <p:spPr>
          <a:xfrm>
            <a:off x="7359480" y="5035680"/>
            <a:ext cx="17845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50000">
              <a:srgbClr val="ffccff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See…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This wasn’t so b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Break down the process one step at a 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Maintain a positive attitu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If you get stuck don’t give up – it’s o.k. to a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for he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j0205462"/>
          <p:cNvPicPr/>
          <p:nvPr/>
        </p:nvPicPr>
        <p:blipFill>
          <a:blip r:embed="rId1"/>
          <a:stretch/>
        </p:blipFill>
        <p:spPr>
          <a:xfrm>
            <a:off x="7010280" y="4735440"/>
            <a:ext cx="21337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cc"/>
            </a:gs>
            <a:gs pos="50000">
              <a:srgbClr val="ffff00"/>
            </a:gs>
            <a:gs pos="100000">
              <a:srgbClr val="99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057400"/>
            <a:ext cx="5334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It’s as easy as pulling a RABBITT out of a hat!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Picture 4" descr="j0312712"/>
          <p:cNvPicPr/>
          <p:nvPr/>
        </p:nvPicPr>
        <p:blipFill>
          <a:blip r:embed="rId1"/>
          <a:stretch/>
        </p:blipFill>
        <p:spPr>
          <a:xfrm>
            <a:off x="5338800" y="3124080"/>
            <a:ext cx="38052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8:48:25Z</dcterms:created>
  <dc:creator>Graves County High School</dc:creator>
  <dc:description/>
  <dc:language>en-US</dc:language>
  <cp:lastModifiedBy>RomaK</cp:lastModifiedBy>
  <dcterms:modified xsi:type="dcterms:W3CDTF">2015-09-02T09:43:03Z</dcterms:modified>
  <cp:revision>17</cp:revision>
  <dc:subject/>
  <dc:title>Science Reasoning</dc:title>
</cp:coreProperties>
</file>