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98D1-D84D-4934-A501-D8219F5E4F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0A9-A158-4CB2-8CE2-5EE3EDDE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E76-3BB1-486C-813A-07B55C43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9839-2136-4CF0-902A-D7FBCDD1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368-232D-4F8A-9AB7-A0C9FC10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6502-0A23-40F0-881F-B5CB0011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5858-2D28-4BF8-82E0-EBB22EC9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F711-BAA5-43B9-ACD5-17A6B25C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6D83-FC1E-4767-ACE4-091C264A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263D-8ABA-4927-8412-77CEF83E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FF7F-F3E4-4FFB-92BA-8EE6F582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9195-4E26-4788-A8A1-91CC10A7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7AA-D3A7-4826-A902-ED252D9D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E11B-D997-4B36-B822-0E6BB032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AD5C-1B7D-47C1-8F41-A7280815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934B-E69C-4254-914B-1B88A9BA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322A-F7FF-480F-AD65-4A0CC1CE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CB37-2E0C-47FE-936E-FAC7C7C0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89AF-6AB6-4F5D-AED9-666E2CE8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FA1-F05B-4B33-A2F6-0A0550F9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511-9F12-42D4-B8CA-FAF315B7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19A-D2D8-4FBF-A2B0-B43A1D22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894-A86E-4D98-8A2E-5D33939E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C5F-04CB-4459-9C91-546FBD5A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B0A9-C648-46CC-B2BE-5B375E3D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8502-D3C9-4789-941F-1C4DE35862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8343-E172-49B5-894C-C8EE2AB9F7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En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Paragraph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paragra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each time you start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top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or when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speak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ays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 object 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s walked down the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hing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specially for a young audien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oin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instructions, information or explana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n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st 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descriptive or persuasive writ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 sentenc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mple sentences connect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, but, so,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s walked down the roa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ir parents waved from the ho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in clause (simple sentence) and subordinate clause (doesn’t make sense on its own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Connective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, also, as well as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quenc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ext, then, first second third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use and effect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, so, 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fy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owever, although, unless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llustra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, such as, fo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s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as, instead of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Tone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know your reader and/or they’re older tha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school govern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ter to a shop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know your reader well and/or you’re the same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your year group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y and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ice for a frie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Let’s Look At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lanning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ext Types – A Reminder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 F A (FAP)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y was it writ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at type of tex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o was it written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Planning Technique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question.  Make sure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/underline/highlight key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t down what you think the PFA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, you are focused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tructure and Paragraph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Beginn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Have you ever wondered how man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The subject I am going to wri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Midd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16:58Z</dcterms:created>
  <dc:creator>al</dc:creator>
  <dc:description/>
  <dc:language>en-US</dc:language>
  <cp:lastModifiedBy>RomaK</cp:lastModifiedBy>
  <dcterms:modified xsi:type="dcterms:W3CDTF">2015-09-02T09:42:57Z</dcterms:modified>
  <cp:revision>15</cp:revision>
  <dc:subject/>
  <dc:title>SATs Revision</dc:title>
</cp:coreProperties>
</file>