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2CBE-40DB-4586-BBB9-913C0306CD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E1E-C90E-43A8-81EF-850EECD0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2DD-4670-467D-A46D-E42E621A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DF7-22A8-4871-B506-5CF504C9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AE1-5FF1-4F54-823C-7212C273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DEF4-14CA-473B-AD6E-675A0E28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0FB4-8365-4815-B204-17917959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240F-4570-4B83-82F9-22F93AFB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E344-E940-41F2-8678-85AD151D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B0A8-A74C-4D26-923D-4F64BD43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97B2-9CF4-4901-9BFD-C276FAE4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1824-767F-44BA-86A8-2264C179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FDE-54D8-4950-9187-1AE508A0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E4FD-D540-4E0A-8F22-4CE506D6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26FA-2337-49D8-986E-DD8D239A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7455-8F69-478B-8B32-5BD41614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4A6E-25FB-4F09-9B5A-1AD27AFB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3A8D-673E-45FC-A787-908FDDF7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D83-79F5-4122-996A-9F71281C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18F-E206-48A8-BF78-309E41B5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4CD-4838-4CAE-A980-EBB9C380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AA90-FDF3-464C-B68D-B02E1049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DB6-A35B-45A0-9832-03AA2BE2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5CF-9D91-4E57-8EA1-D567A915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909-6829-414B-9BDB-4038E7B0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B75E-91C4-4719-9D7A-16A43276EF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896C-F57F-4880-B0C1-38A40DA067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En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Paragraph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aragra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ach time you start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op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 when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peak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ys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 object 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alked down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in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specially for a young audi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oin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instructions, information or explan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st 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descriptive or persuasive wri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sentenc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mple sentences conn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but, so,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walked down the roa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parents waved from the ho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in clause (simple sentence) and subordinate clause (doesn’t make sense on its ow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Connective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, also, as well a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quenc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xt, then, first second third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 and effect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, so, 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fy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owever, although, unles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lustra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such as,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s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as, instead of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Tone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 your reader and/or they’re older tha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school govern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ter to a shop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know your reader well and/or you’re the sam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your year group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y and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ce for a frie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Let’s Look At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lanning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ext Types – A Reminde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 F A (FAP)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y was it wr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at type of tex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o was it written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Planning Technique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.  Make sur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/underline/highlight key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down what you think the PFA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you are focused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tructure and Paragraph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Beginn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Have you ever wondered how man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The subject I am going to wri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Midd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16:58Z</dcterms:created>
  <dc:creator>al</dc:creator>
  <dc:description/>
  <dc:language>en-US</dc:language>
  <cp:lastModifiedBy>RomaK</cp:lastModifiedBy>
  <dcterms:modified xsi:type="dcterms:W3CDTF">2015-09-02T09:42:57Z</dcterms:modified>
  <cp:revision>15</cp:revision>
  <dc:subject/>
  <dc:title>SATs Revision</dc:title>
</cp:coreProperties>
</file>