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move the slide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B52D31-4F32-43F7-8C4A-57455CF9CAEB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A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riting P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SA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Writing Pap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es: End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 up your ideas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 confident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your ending striking and give it impac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’T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ve it hanging the reader needs to make up their mind about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zzle 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 with death and destruction or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‘then I woke up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es: End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m up your ideas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 confident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your ending striking and give it impac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’T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ave it hanging the reader needs to make up their mind about th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zzle ou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d with death and destruction or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‘then I woke up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graph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 paragraph - each time you start a new topic in or when a new speaker says somethin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ry your sentence leng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graph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w paragraph - each time you start a new topic in or when a new speaker says somethin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ary your sentence length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tenc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ple sentences: subject  object  ver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The boys walked down the roa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to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ep things simple, especially for a young audienc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points clear in instructions, information or explanat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eate drama, tension or a fast pace in descriptive or persuasive writin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tenc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mple sentences: subject  object  ver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The boys walked down the roa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to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ep things simple, especially for a young audienc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ke points clear in instructions, information or explanat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eate drama, tension or a fast pace in descriptive or persuasive writing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tenc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und sentences: two simple sentences connected by and, but, so, beca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The boys walked down the road and their parents waved from the hous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vantag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llow you to build more detail into your wri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tenc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und sentences: two simple sentences connected by and, but, so, becau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.g. The boys walked down the road and their parents waved from the hous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vantag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y allow you to build more detail into your writ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tenc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x sentences: main clause (simple sentence) and subordinate clause (doesn’t make sense on its ow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oys walked quickly down the road, feeling a little nervous because today was their first exa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tenc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x sentences: main clause (simple sentence) and subordinate clause (doesn’t make sense on its ow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oys walked quickly down the road, feeling a little nervous because today was their first exam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nectiv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ng: and, also, as well as, to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quencing: next, then, first second third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finally,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se and effect: because, so, theref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alifying: however, although, unless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except, if, as long as, y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lustrating: for example, such as, fo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ins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asting: whereas, instead of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alternative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nectiv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ng: and, also, as well as, to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quencing: next, then, first second third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finally,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use and effect: because, so, therefo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alifying: however, although, unless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except, if, as long as, y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lustrating: for example, such as, for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ins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rasting: whereas, instead of,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       alternativel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al T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al – if you don’t know your reader and/or they’re older than yo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ch to school governors – form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ter to a shop manager – formal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rmal T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rmal – if you know your reader well and/or you’re the same 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ch to your year group – lively and inform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vice for a friend – inform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n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al T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al – if you don’t know your reader and/or they’re older than you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ch to school governors – form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ter to a shop manager – formal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rmal T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rmal – if you know your reader well and/or you’re the same 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peech to your year group – lively and inform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vice for a friend – informa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Finall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’t panic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your bes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luck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Finall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’t panic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your best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luck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Look A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graphs and 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tences and Punct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t’s Look At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graphs and Structu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ntences and Punctu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nin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ng Writing Task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 – 15 m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– 25 m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 – 5 m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rt Writing Task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 – 10 m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– 15 m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 – 5 m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ning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ng Writing Task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 – 15 m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– 25 m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 – 5 m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rt Writing Task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 – 10 m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– 15 m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eck – 5 m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Types – A Remin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uasive le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inary newspaper re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ption of a person, a place, or, ev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gazine article to give ad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rmative le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view of film or s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alysis or commentary about a sub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ort giving to sides of an argu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Types – A Remind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suasive le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inary newspaper repo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scription of a person, a place, or, ev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gazine article to give ad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formative let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view of film or sto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alysis or commentary about a subjec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ort giving to sides of an argu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 F A (FA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K.A – Purpose, Form, Audi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rpose – why was it writte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 – what type of text is i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dience – who was it written fo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 F A (FA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.K.A – Purpose, Form, Audi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rpose – why was it writte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m – what type of text is it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udience – who was it written for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ning Techniqu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ly – READ the question.  Make sure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know what the question i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ask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ly – Circle/underline/highlight key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words.  This will help you foc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ly – Jot down what you think the PFA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ally – Plan, you are focused an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understand exactly what you’ve got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to 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anning Techniqu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ly – READ the question.  Make sure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know what the question i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asking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ly – Circle/underline/highlight key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words.  This will help you foc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ly – Jot down what you think the PFA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a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ally – Plan, you are focused an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understand exactly what you’ve got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to 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e and Paragraph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could be make or brea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ine your work is a buil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ings nee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m found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ong gird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out these things, they will COLLAP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e and Paragraph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could be make or brea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magine your work is a build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ildings nee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m foundatio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ong gird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thout these things, they will COLLAP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es: Beginn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iner: set the scene and create interest, if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you do this you will achieve most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mar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– ‘Have you ever wondered how many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people use Campsall Park?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’T – ‘The subject I am going to writ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about is blah, blah, blah.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es: Beginning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iner: set the scene and create interest, if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you do this you will achieve most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mar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 – ‘Have you ever wondered how many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people use Campsall Park?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N’T – ‘The subject I am going to write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         about is blah, blah, blah.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es: Midd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ddle section needs 3-5 paragrap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elop ideas that you included on planning she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a new paragraph when you start a new 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question there may be prompts suggesting what you can inclu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ructures: Middl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ddle section needs 3-5 paragraph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elop ideas that you included on planning she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a new paragraph when you start a new 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question there may be prompts suggesting what you can inclu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D6860-E132-4654-92C3-1CCFDBF003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59758-FBEF-4DAE-A983-6FD4F7AA9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2EE0D-C9F8-484C-80F9-5D6FA60AB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163CE-B600-4667-A82D-08900EFCD3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BFD66-F698-4260-B793-6E3A31D53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E8B99-6325-486B-A91F-F6374BD75F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B92728-E2A3-45E3-9FCB-D859C67A3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00FF8-E01D-4DA5-BC83-67E1C3223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5FC577-0AA8-43FF-9058-31E2A08C9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79173B-EF45-407B-863F-AC658C64D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52BA35-720C-4D55-8750-D2C488DA6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37375-2779-4A7A-B687-35058EE23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622AB-D7DA-49B0-95A5-2B45B3E622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B8267F-9E98-482A-8D93-49ED38195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C6DA9-C8D4-4A5C-A4F0-6B694F2353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9FBEED-32D9-4AC0-8865-2FD3F12AA7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33BF0C-9952-49AE-A769-411497D56E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00A2C-34E7-4193-9E37-DD2AE1503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BA493-182E-480F-B404-4F6E41BCC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F9A55-F6D7-457B-97CA-F074E9484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578DB-4192-4EF2-A494-99A926298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734DB-C60F-44F0-8231-E8BF956B9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79737-5F2A-4C3F-B664-2776C1A5B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DDC14-0D3B-4CC2-9449-CDCC9002A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Line 6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C16AF-462B-4C82-9E2D-3C8C5A8D2325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Line 12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e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Group 2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Rectangle 3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Group 4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Rectangle 5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Rectangle 6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Line 7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Group 8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Rectangle 9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Line 10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A0EC4-44B4-4DDF-8BFC-572AD571B9F6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0" spc="-1" strike="noStrike">
                <a:solidFill>
                  <a:srgbClr val="330033"/>
                </a:solidFill>
                <a:latin typeface="Times New Roman"/>
              </a:rPr>
              <a:t>SATs</a:t>
            </a:r>
            <a:endParaRPr b="0" lang="en-US" sz="10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spcBef>
                <a:spcPts val="1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500" spc="-1" strike="noStrike">
                <a:solidFill>
                  <a:srgbClr val="000000"/>
                </a:solidFill>
                <a:latin typeface="Arial"/>
              </a:rPr>
              <a:t>Writing Paper</a:t>
            </a:r>
            <a:endParaRPr b="0" lang="en-US" sz="6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Structures: Ending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Arial"/>
              </a:rPr>
              <a:t>DO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m up your ideas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d confidentl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ke your ending striking and give it impact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000000"/>
                </a:solidFill>
                <a:latin typeface="Arial"/>
              </a:rPr>
              <a:t>DON’T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eave it hanging the reader needs to make up their mind about thing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zzle ou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End with death and destruction or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      ‘then I woke up’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500" spc="-1" strike="noStrike">
                <a:solidFill>
                  <a:srgbClr val="330033"/>
                </a:solidFill>
                <a:latin typeface="Times New Roman"/>
              </a:rPr>
              <a:t>Paragraphs:</a:t>
            </a:r>
            <a:endParaRPr b="0" lang="en-US" sz="55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New paragraph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- each time you start a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new topic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in or when a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new speaker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says something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000000"/>
                </a:solidFill>
                <a:latin typeface="Arial"/>
              </a:rPr>
              <a:t>Vary your sentence length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6000" spc="-1" strike="noStrike">
                <a:solidFill>
                  <a:srgbClr val="330033"/>
                </a:solidFill>
                <a:latin typeface="Times New Roman"/>
              </a:rPr>
              <a:t>Sentences:</a:t>
            </a:r>
            <a:endParaRPr b="0" lang="en-US" sz="6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mple sentences: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subject  object  ver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boys walked down the roa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sed to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keep things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simpl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especially for a young audience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make points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clear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in instructions, information or explanations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reate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drama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tension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or a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fast pace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in descriptive or persuasive writing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0033"/>
                </a:solidFill>
                <a:latin typeface="Times New Roman"/>
              </a:rPr>
              <a:t>Sentences:</a:t>
            </a:r>
            <a:endParaRPr b="0" lang="en-US" sz="6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mpound sentences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wo simple sentences connected by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d, but, so, becau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.g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boys walked down the road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their parents waved from the hous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y allow you to build more detail into your writ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0033"/>
                </a:solidFill>
                <a:latin typeface="Times New Roman"/>
              </a:rPr>
              <a:t>Sentences:</a:t>
            </a:r>
            <a:endParaRPr b="0" lang="en-US" sz="60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2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000000"/>
                </a:solidFill>
                <a:latin typeface="Arial"/>
              </a:rPr>
              <a:t>Complex sentences: </a:t>
            </a: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main clause (simple sentence) and subordinate clause (doesn’t make sense on its own)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25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Arial"/>
              </a:rPr>
              <a:t>The boys walked quickly down the road, feeling a little nervous because today was their first exam. </a:t>
            </a: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8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500" spc="-1" strike="noStrike">
                <a:solidFill>
                  <a:srgbClr val="330033"/>
                </a:solidFill>
                <a:latin typeface="Times New Roman"/>
              </a:rPr>
              <a:t>Connectives:</a:t>
            </a:r>
            <a:endParaRPr b="0" lang="en-US" sz="55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Adding: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and, also, as well as, to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Sequencing: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next, then, first second third,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             finally, af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ause and effect: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because, so, therefo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Qualifying: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however, although, unless,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 except, if, as long as, y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Illustrating: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for example, such as, for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           insta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Arial"/>
              </a:rPr>
              <a:t>Contrasting: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hereas, instead of,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                 alternative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5500" spc="-1" strike="noStrike">
                <a:solidFill>
                  <a:srgbClr val="330033"/>
                </a:solidFill>
                <a:latin typeface="Times New Roman"/>
              </a:rPr>
              <a:t>Tone:</a:t>
            </a:r>
            <a:endParaRPr b="0" lang="en-US" sz="55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Formal To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rmal 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you don’t know your reader and/or they’re older than yo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eech to school governors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– forma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tter to a shop manager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– formal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000000"/>
                </a:solidFill>
                <a:latin typeface="Arial"/>
              </a:rPr>
              <a:t>Informal To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formal –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you know your reader well and/or you’re the same 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eech to your year group –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ively and informal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dvice for a frien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– informal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330033"/>
                </a:solidFill>
                <a:latin typeface="Times New Roman"/>
              </a:rPr>
              <a:t>And Finally: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00000"/>
                </a:solidFill>
                <a:latin typeface="Arial"/>
              </a:rPr>
              <a:t>Don’t panic!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00000"/>
                </a:solidFill>
                <a:latin typeface="Arial"/>
              </a:rPr>
              <a:t>Do your best!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00000"/>
                </a:solidFill>
                <a:latin typeface="Arial"/>
              </a:rPr>
              <a:t>Good luck!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330033"/>
                </a:solidFill>
                <a:latin typeface="Times New Roman"/>
              </a:rPr>
              <a:t>Let’s Look At:</a:t>
            </a:r>
            <a:endParaRPr b="0" lang="en-US" sz="55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lan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aragraphs and Structur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ntences and Punctu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330033"/>
                </a:solidFill>
                <a:latin typeface="Times New Roman"/>
              </a:rPr>
              <a:t>Planning:</a:t>
            </a:r>
            <a:endParaRPr b="0" lang="en-US" sz="55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ng Writing Tas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n – 15 m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– 25 m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ck – 5 m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876560" y="1599840"/>
            <a:ext cx="380988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hort Writing Task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lan – 10 m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e – 15 m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eck – 5 m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330033"/>
                </a:solidFill>
                <a:latin typeface="Times New Roman"/>
              </a:rPr>
              <a:t>Text Types – A Reminder</a:t>
            </a:r>
            <a:endParaRPr b="0" lang="en-US" sz="4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suasive let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maginary newspaper re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cription of a person, a place, or, ev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gazine article to give advi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formative let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view of film or s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alysis or commentary about a subjec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port giving to sides of an argu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500" spc="-1" strike="noStrike">
                <a:solidFill>
                  <a:srgbClr val="330033"/>
                </a:solidFill>
                <a:latin typeface="Times New Roman"/>
              </a:rPr>
              <a:t>P F A (FAP)</a:t>
            </a:r>
            <a:endParaRPr b="0" lang="en-US" sz="55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.K.A – Purpose, Form, Audienc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rpos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why was it writte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what type of text is it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udienc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who was it written fo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330033"/>
                </a:solidFill>
                <a:latin typeface="Times New Roman"/>
              </a:rPr>
              <a:t>Planning Techniques:</a:t>
            </a:r>
            <a:endParaRPr b="0" lang="en-US" sz="4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ly 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AD the question.  Make sure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know what the question i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asking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ly 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ircle/underline/highlight key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words.  This will help you focu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ly 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ot down what you think the PFA 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a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ly –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, you are focused an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understand exactly what you’ve got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to 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600" spc="-1" strike="noStrike">
                <a:solidFill>
                  <a:srgbClr val="330033"/>
                </a:solidFill>
                <a:latin typeface="Times New Roman"/>
              </a:rPr>
              <a:t>Structure and Paragraphs:</a:t>
            </a:r>
            <a:endParaRPr b="0" lang="en-US" sz="46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his could be make or break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Imagine your work is a building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uildings need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901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rm foundation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901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trong girder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ithout these things, they will COLLAPS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Structures: Beginning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iner: set the scene and create interest, if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you do this you will achieve mos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ma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‘Have you ever wondered how man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   people use Campsall Park?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ON’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‘The subject I am going to writ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          about is blah, blah, blah.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200" spc="-1" strike="noStrike">
                <a:solidFill>
                  <a:srgbClr val="330033"/>
                </a:solidFill>
                <a:latin typeface="Times New Roman"/>
              </a:rPr>
              <a:t>Structures: Middles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8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Middle section needs 3-5 paragraphs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Develop ideas that you included on planning shee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Start a new paragraph when you start a new point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85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In the question there may be prompts suggesting what you can include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8T10:16:58Z</dcterms:created>
  <dc:creator>al</dc:creator>
  <dc:description/>
  <dc:language>en-US</dc:language>
  <cp:lastModifiedBy>RomaK</cp:lastModifiedBy>
  <dcterms:modified xsi:type="dcterms:W3CDTF">2015-09-02T09:42:57Z</dcterms:modified>
  <cp:revision>15</cp:revision>
  <dc:subject/>
  <dc:title>SATs Revision</dc:title>
</cp:coreProperties>
</file>