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15A9-819E-4EF9-BAB9-45214115A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es for ex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motiv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How important is (?) role in these two extr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how how and why (?) behaviour changes in these two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formance of the pl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the tex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(quote given) explore the significance of this statement in relation to these two ex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, themes and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omparing your two extracts explain how the issue of (?) is expl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kle that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(qu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665-988F-41A4-83E6-58926FC8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CD5-4831-42EE-A453-0750E2CF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5A4-AA1A-49A9-ADF4-C302934B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D0B8-3327-472E-AF3A-B951098B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3D0F-D24E-4902-9FC2-01A82FD8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88B7-8DDF-44AB-A676-7AEB39FD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4BD5-0A53-4672-94C7-BCA6C422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607A-9477-4A84-8980-93C1F797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10B-7988-4ADC-8047-7C514570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D283-F9C6-49CA-9125-9C3691AE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B2F0-66D3-4943-AA45-C54C1EAC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9527-7D17-4C21-9464-B9D3903B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6E53-37F1-45A1-9304-BC32E8DC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64C6-2583-4327-88BC-94DBCD2D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8C21-CA93-457C-A491-B01E5613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7105-1FCF-4EAD-A3B1-33261E2E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6501-33EA-4B1E-9964-4032EBA3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94E1-DEE7-47A9-B370-E393581D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496-C40F-4554-941E-CE11618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3F7-124E-4758-8B1E-E7BCBA2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AAF-0A2A-4849-A7F1-0D1EAF40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E84-79DD-4D8B-9EA1-AC52ADB7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8CC-725A-494E-85DB-1EF20EC0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2BC-AE60-46F5-B240-54E655DB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A336-4719-4E98-A5F4-D085E0A020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15BC-19D1-4377-BDC8-F289A53422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000000"/>
                </a:solidFill>
                <a:latin typeface="Arial"/>
              </a:rPr>
              <a:t>Shakespeare Paper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Focuses for exam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haracter and motiv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performance of the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anguage of the tex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deas, themes and iss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Character and motiva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question could ask what we learn about the characters, the reasons for their behaviour and their relationships with each 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mportant is (?) role in thes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extra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E.g. Sh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how and why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(?) behavi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MS Mincho"/>
              </a:rPr>
              <a:t>changes</a:t>
            </a:r>
            <a:r>
              <a:rPr b="0" lang="en-US" sz="3200" spc="-1" strike="noStrike">
                <a:solidFill>
                  <a:srgbClr val="000000"/>
                </a:solidFill>
                <a:latin typeface="MS Mincho"/>
              </a:rPr>
              <a:t> in these two ex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he performance of the pla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estion may be about how an audience reacts to the play, or how you would direct a particular character in the two extr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want them to act and react and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hem to scowl as they say something you need to explain what this will show e.g. his disgust, his f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33"/>
                </a:solidFill>
                <a:latin typeface="Times New Roman"/>
              </a:rPr>
              <a:t>The language of the text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erstanding the language is important and you could have a question about what a character says and what you think they really me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E.g. (quote given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significance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 of this statement in relation to the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MS Mincho"/>
              </a:rPr>
              <a:t>two extracts</a:t>
            </a:r>
            <a:r>
              <a:rPr b="0" lang="en-US" sz="2800" spc="-1" strike="noStrike">
                <a:solidFill>
                  <a:srgbClr val="000000"/>
                </a:solidFill>
                <a:latin typeface="MS Mincho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Ideas, themes and issu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plays deal with a number of issues, so the question might ask you about how the characters are involv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E.g.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Comparing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your two extracts explai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how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the issue of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(?)</a:t>
            </a:r>
            <a:r>
              <a:rPr b="0" lang="en-US" sz="3400" spc="-1" strike="noStrike">
                <a:solidFill>
                  <a:srgbClr val="000000"/>
                </a:solidFill>
                <a:latin typeface="MS Mincho"/>
              </a:rPr>
              <a:t> i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MS Mincho"/>
              </a:rPr>
              <a:t>explor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330033"/>
                </a:solidFill>
                <a:latin typeface="Times New Roman"/>
              </a:rPr>
              <a:t>Tackle that question: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 and pick out the key words (think about the focuses I have just talked ab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rough your ex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t down/plan what things you wan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the questio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gin (make sure you compare and write in essay sty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oi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vidence (quot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0:17:29Z</dcterms:created>
  <dc:creator>Andrea Lownes</dc:creator>
  <dc:description/>
  <dc:language>en-US</dc:language>
  <cp:lastModifiedBy>RomaK</cp:lastModifiedBy>
  <dcterms:modified xsi:type="dcterms:W3CDTF">2015-09-02T09:42:50Z</dcterms:modified>
  <cp:revision>10</cp:revision>
  <dc:subject/>
  <dc:title>SATs</dc:title>
</cp:coreProperties>
</file>