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07B4-A69F-4074-BEE8-949D8AA9AA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9C6-CB6D-4C64-BDAC-9D9614C8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914-E5F7-4A99-9E4F-F1B60CF0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80F-F88F-4EFD-9D46-8E9D5D05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D25-856A-4A48-B01C-F51EF6B8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A573-2351-46FA-A93C-EC393A6F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1CBA-298D-45B8-8630-BA12A277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8A4D-8CEC-4C85-BD89-05C8096B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1F33-7A79-4A2B-AE33-34B7557E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A32A-C5A0-4724-9025-3871F486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1ADE-A1B6-4CDD-B5CF-AC100DB8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2759-C397-48C5-91EC-C9CAECE8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F6D-37E2-4CC0-A099-397BEECA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43E7-5A34-43B8-AD5C-C2DD29F0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1657-B186-43E6-8B71-F5AB2989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EF5C-EA05-492C-BD29-EE35205B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E939-3261-4584-97AA-00E2E165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E39A-4084-4BB5-8D9E-8325123B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E44-D006-4A36-AB2C-11FB72F5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EBC-5782-4ADB-AFDE-4AFF65A5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6F4-5D20-411E-B987-04FEDF92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108-DC94-4C2D-8BD5-3F00C905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900-F8F0-4641-8725-8FD56825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649-B94E-42F2-BF22-855733AC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761-75D7-45BB-A84E-BADE828D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20A7-D938-4B7E-A188-231990EFC8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9919-FC16-4003-A6A0-3A9DD9E2B8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Focuses for exam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Character and motiva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mportant is (?) role in the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extra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S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 and why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(?) behavi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n these two ex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he performance of the pla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The language of the text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E.g. (quote given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explor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significanc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of this statement in relation to the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two extracts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deas, themes and issu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Comparing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your two extracts explai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the issue of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(?)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i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explo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330033"/>
                </a:solidFill>
                <a:latin typeface="Times New Roman"/>
              </a:rPr>
              <a:t>Tackle that ques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50Z</dcterms:modified>
  <cp:revision>10</cp:revision>
  <dc:subject/>
  <dc:title>SATs</dc:title>
</cp:coreProperties>
</file>