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A403-7825-4008-B571-F7F25D8259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505-B0B7-47B0-A567-C6E83094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AF1-5095-46B2-BD9F-446C4ECB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D320-1E52-4F04-8D0B-0EC64A8D1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B85-0906-49BA-91CB-49A24ED6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5A05-7CF2-4BF9-ACE4-A276C1E3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01B4-9414-4B91-B835-7AE4EF0F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9959-FD64-4E5D-99A8-47860F84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7D2C-D228-4CF7-91C1-0DBEEE2C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C4E1-D7D5-4CC1-9583-01B98832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3A77-2C15-40B3-AB95-69F81524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B581-7A20-4575-8573-969A8ED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B32-F078-4BA2-BDDF-4E638D13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B9EE-0E7C-4FD4-AB3E-662F05B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ECE3-FA0D-4D28-92FF-FD5130DA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F1E0-02BB-447E-8718-1F8AEC1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8E0E-F94E-4252-86BA-BE958B9C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483F-B99E-47B6-A6C4-D9BFE90B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A5D-1CC8-430B-BB93-83C48FA8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167-C537-49B2-BF1D-C8F9DF72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250-C66A-405A-964E-566838AB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FE23-2666-4167-865F-BB1DE93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CD6-E8D2-4C96-8AAC-2C9EAFCB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76E-373D-4A6F-A6A1-D7BF22D5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1EA-30D2-47CB-8283-0EFAFCE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165-3209-44F8-A852-243B25A46A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7120-834E-4BF2-B14D-CE91C2AACA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verpool lat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6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giv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seen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your response –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do not say that it’s boring or cra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 (FITCLAS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Of Mice and M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Blood Br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answer Question 1a, it is based on an extract inclu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can answer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Question 1b or Question 1c these relate to the novel as a wh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neliness –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onely in so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44Z</dcterms:modified>
  <cp:revision>7</cp:revision>
  <dc:subject/>
  <dc:title>GCSE English literature</dc:title>
</cp:coreProperties>
</file>