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E6DA-1F08-4072-BF93-C4F8676341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: Blood Br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: Blood Br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lat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lat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given one unsee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ponse – do not say that it’s boring or c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given one unsee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ponse – do not say that it’s boring or c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 (FIT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 (FIT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nswer Question 1a, it is based on an extrac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nswer either Question 1b or Question 1c these relate to the novel as a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nswer Question 1a, it is based on an extrac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nswer either Question 1b or Question 1c these relate to the novel as a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they are all lonely in som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they are all lonely in som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AEA-91EA-47DB-A7CF-D617F4F8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152-BE38-4456-A4EB-1F11241D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0A3-9BEE-4CF4-88C6-AF1F6455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A7D7-B0CA-445D-9EAA-3010FFE9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CBE4-AAE7-4D17-A771-7401CD31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C0BA-4F8C-48BF-9939-8BC9243C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4B35-CECF-449C-A9BC-22DC8D84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A1A9-2E5F-4D7F-ADDB-21FF3B5F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45A0-1EE9-4002-B6CD-FF8AF245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D33A-1577-472E-A5D5-3D6CDCE1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6A14-F42A-4F04-812D-F9481D53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2F47-3CDD-41C6-BD43-4C91869F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1A24-CE68-4BD8-9DC5-456D209A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D588-DDD3-41B2-A548-66F10DCA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10A3-1A77-4ED7-BFB0-FA9E3DAC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5929-35F3-4575-AFE1-F6F836D1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DB57-53B4-4C16-9607-A2B39BD2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670F-1BC8-4955-808F-7685258F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271-A486-4160-98A5-76971CDC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761-B3A3-4319-AF44-EF54B0C0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07B8-05C3-4B45-BEF4-57C1F3C4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039-F78A-49E3-BECF-C9520201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4D1-F2C1-4704-9DFA-26B7DFCE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AFB-6553-4623-B87B-886C3424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05EB-A678-4A6A-AF44-3D35AB921C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D742-F32D-464E-BB11-23BB618480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anguage an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verpool late 2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6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Language an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C: Poet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be giv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seen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your response – 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do not say that it’s boring or cra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C: Poetry (FITCLAS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 </a:t>
            </a:r>
            <a:r>
              <a:rPr b="0" lang="en-GB" sz="3100" spc="-1" strike="noStrike" u="sng">
                <a:solidFill>
                  <a:srgbClr val="000000"/>
                </a:solidFill>
                <a:uFillTx/>
                <a:latin typeface="Arial"/>
              </a:rPr>
              <a:t>Of Mice and M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</a:t>
            </a:r>
            <a:r>
              <a:rPr b="0" lang="en-GB" sz="3100" spc="-1" strike="noStrike" u="sng">
                <a:solidFill>
                  <a:srgbClr val="000000"/>
                </a:solidFill>
                <a:uFillTx/>
                <a:latin typeface="Arial"/>
              </a:rPr>
              <a:t>Blood Broth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answer Question 1a, it is based on an extract includ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You can answer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either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Question 1b or Question 1c these relate to the novel as a wh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neliness – they are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lonely in som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4:01:47Z</dcterms:created>
  <dc:creator>al</dc:creator>
  <dc:description/>
  <dc:language>en-US</dc:language>
  <cp:lastModifiedBy>RomaK</cp:lastModifiedBy>
  <dcterms:modified xsi:type="dcterms:W3CDTF">2015-09-02T09:42:44Z</dcterms:modified>
  <cp:revision>7</cp:revision>
  <dc:subject/>
  <dc:title>GCSE English literature</dc:title>
</cp:coreProperties>
</file>