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7E8C-DC98-4D90-80CB-1FB414FAE8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F87-8995-4807-951A-3EB89F62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AE6-0BD4-4076-BCB2-B0EEAE2A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A4A-BADA-449D-96AE-E5F46E25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F58-9D8B-4000-B846-FB85864F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D59E-B35F-41CE-AABA-3E3A72DE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4212-21AC-447A-902D-4E4D4474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CAC-EE6E-452D-9B4E-21A8F05F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541C-DBCD-4BD4-8A11-B17F6872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334-AA12-4C8C-A317-9753F6EA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6D6D-5953-4122-AD70-1C003180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142B-FD2B-4731-B715-58E6B1D0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335-D8CB-49A0-A778-01C7A2AE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4CE4-4643-460B-B7B7-F393F7A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A3C1-D803-47B5-91FE-7AB44DB5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665B-8437-42E3-BFA1-A042CADF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DD17-85F8-4EBA-A24E-5049EB89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C03C-A45E-4E0C-B1A9-DBF0DC84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5F4-F94D-49BA-A22C-F0488110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D75-A359-40AC-9463-CE5461CB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068-C1F3-4F64-A454-E6D8CB9F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1FA-F78E-4127-9E23-4B5E24A5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919-A54F-4763-96AF-2EED41EA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1D8-C837-4282-B373-4CA8F6F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F47-9BE8-4592-9FD7-93C92D38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988E-F9E5-4327-AAD7-298D8CE39A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33D9-55CD-4A5F-8026-DA08F1EF30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verpool lat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6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giv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seen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your response –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do not say that it’s boring or cra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 (FITCLAS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Of Mice and M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Blood Br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answer Question 1a, it is based on an extract inclu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can answer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Question 1b or Question 1c these relate to the novel as a wh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neliness –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onely in so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44Z</dcterms:modified>
  <cp:revision>7</cp:revision>
  <dc:subject/>
  <dc:title>GCSE English literature</dc:title>
</cp:coreProperties>
</file>