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CD3B-7EB5-4967-947B-4785A4B68F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D34-540C-4441-B57A-A803709F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2E0-CEB9-432D-A14A-7535C06F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418-CF49-48BA-8BAB-8D6C7C87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433-0714-4E7D-B685-F2B624B7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FD9B-F2A2-4917-849F-8FF36DA7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9670-864C-4D05-9B8F-6BD7564C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ABA6-DB28-4000-ABCD-3D68623B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EAF9-C5A2-4EF6-A5C8-E28C8409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20C9-AA83-4A7D-B478-FEEF91CD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67AE-491C-4B95-8EC9-4F4AE8F5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AA3F-88A1-4EC1-8555-476898F7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9B7-9724-4E7C-A843-DC9F2F81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901D-8563-447C-B1AC-3651925C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7533-F2B4-416B-AD3C-EA9A308D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D354-916A-4CFB-97A6-AC331C2D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4A7B-769F-439E-92DD-A4A9F767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AD09-837A-42DE-BA92-FDA55421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269-73B9-413D-8022-A0EE0150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204-6629-4593-BB4D-B2868C4C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412-DEE8-4871-AE17-9CC390F3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4622-F334-490B-9204-687A3620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6F1-6811-4965-A9A2-D88497FF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025-12AC-46A4-8E89-D2CBE74B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DFB-E275-4A9B-98F1-9D5551DC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7B02-E04C-49AB-BA87-5693FF7460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15A2-274F-440B-B2AC-2C328749CC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hrouded – covered up, hidden, a link with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supporting an answer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questions need an explanation or a comment which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pported by a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.g. explai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wo differ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ys a negative impression is given a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ach answer with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uot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is need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2 i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What We’ll Look At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 hour and 15 minut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(15 mins reading tim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bout 20 minutes answering the questions on each tex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extr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ill come from different GENRES or FOR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iction, non-fiction, pre-Twentieth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nclu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leaflet, story, historical writing, article, informative or persuasive writing, letter or part of an auto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to home in on the information, and write it d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gu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32Z</dcterms:modified>
  <cp:revision>11</cp:revision>
  <dc:subject/>
  <dc:title>SATs</dc:title>
</cp:coreProperties>
</file>