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B911-045E-457F-82AF-E7A314DA9A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d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d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ing you understand how a writer uses language for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rouded – covered up, hidden, a link with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ing you understand how a writer uses language for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rouded – covered up, hidden, a link with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supporting an answ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questions need an explanation or a comment which MUST be supported by a qu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explain two different ways a negative impression is given and support each answer with a qu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eds: 2 i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qu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KNOW WHAT THE QUESTION IS ASKI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supporting an answ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questions need an explanation or a comment which MUST be supported by a qu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explain two different ways a negative impression is given and support each answer with a qu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eds: 2 i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qu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KNOW WHAT THE QUESTION IS ASKI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big questions in th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th – 5 marks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bullet points to guide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doesn’t give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big questions in th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th – 5 marks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bullet points to guide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doesn’t give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write about ALL 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bullet po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 in every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you are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very carefully about how the writer has use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write about ALL 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bullet po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 in every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you are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very carefully about how the writer has use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’ll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’ll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hour and 15 minutes (15 mins reading 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about 20 minutes answering the questions on each tex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hour and 15 minutes (15 mins reading 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about 20 minutes answering the questions on each tex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extracts will come from different GENRES or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ing – fiction, non-fiction, pre-Twentie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include - leaflet, story, historical writing, article, informative or persuasive writing, letter or part of an autobiogra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extracts will come from different GENRES or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ing – fiction, non-fiction, pre-Twentie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include - leaflet, story, historical writing, article, informative or persuasive writing, letter or part of an autobiogra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to home in on the information, and write it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to home in on the information, and write it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5E16-DDFB-45E7-84C2-BE1F0EBD3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AC36-FE6D-4456-89A2-1B00D130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B3D1-8BB5-434A-8A87-083788B73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C910-7ABF-41A8-952C-92067864D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75FA-9A2E-4F3E-9002-7A15DF4C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4335-BBF9-42C8-972C-F91B4626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BF45-7FE9-4F68-83B8-4DDC781E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D59D-CCC2-4E27-8619-12C02087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9314-C340-4937-88CA-39F48C13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AC02-3FE9-4920-A08A-A207F164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4949-FA64-43DD-BD91-42D16F9B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555A-620A-4AD9-A40D-BD1E062B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DFFF-E423-4090-AF5C-53B35279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67FC-9F19-45B0-9C53-E5E33D73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AE67-ABBB-41EC-B0B9-BC432557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36D3-C2B4-4E62-95A4-6D8FD6AA3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56DE-B202-439F-AA71-2F908A35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BEB5-8ADA-435E-AA7C-63D9C6E3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6084-1282-43ED-B75A-0EE0BA38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9B9D-474E-4754-B670-801E726C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1EAE-92F6-4D54-87F6-528440F5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9EB0-E70C-4EDA-B262-A09CDECC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6AF6-8BDD-45EF-96F6-58B228BF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4085-3565-4664-8274-5E722CA8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F5E3-C634-4344-89AF-62A33164E1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E9C4-5C95-4ADA-A786-B9C8A68F3E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0033"/>
                </a:solidFill>
                <a:latin typeface="Times New Roman"/>
              </a:rPr>
              <a:t>SATs</a:t>
            </a:r>
            <a:endParaRPr b="0" lang="en-US" sz="10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00"/>
                </a:solidFill>
                <a:latin typeface="Arial"/>
              </a:rPr>
              <a:t>Reading Pap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8360" y="1484280"/>
          <a:ext cx="8229600" cy="431964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the end of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pause in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longer pau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before a list or when giving evid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 ”  ‘ 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direct speech, a quotation or to show sarcas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1484280"/>
          <a:ext cx="8229600" cy="475452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ques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surprise, shock, humour or exciteme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words are missing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an aside, or less important poi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 used informally to show a pause, or to link two words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possession or a missing letter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Langu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cus – showing you understand how a writer uses language for effe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shrouded – covered up, hidden, a link with de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supporting an answer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questions need an explanation or a comment which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MUS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supported by a qu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.g. explain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wo differen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ways a negative impression is given and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uppor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each answer with a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quotation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his need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2 imp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 quote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URE YOU KNOW WHAT THE QUESTION IS ASKING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Big questions</a:t>
            </a: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2 big questions in the pap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Worth – 5 marks eac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1 = bullet points to guide yo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1 = doesn’t give bullet poin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Big ques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ullet Poin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ST write about ALL  bullet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bullet point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E in ever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on-bullet Point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ere you are on your 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ink very carefully about how the writer has used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What We’ll Look At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xt Typ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nding Informat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Question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iming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1 hour and 15 minutes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(15 mins reading time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end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bout 20 minutes answering the questions on each text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ext Typ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e extrac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will come from different GENRES or FORM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fiction, non-fiction, pre-Twentieth Centur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y includ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leaflet, story, historical writing, article, informative or persuasive writing, letter or part of an autobiograph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ext Typ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need to decide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ype of text is it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ext typ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was it written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purpos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was it written for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arget audien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se affect th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the tex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Finding Inform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rst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read the text really carefu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ead question to make sure you understand exactly what it's asking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use skimming and scanning skills to home in on the information, and write it dow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: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int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vidence (a quotation) and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guing an ide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10:17:29Z</dcterms:created>
  <dc:creator>Andrea Lownes</dc:creator>
  <dc:description/>
  <dc:language>en-US</dc:language>
  <cp:lastModifiedBy>RomaK</cp:lastModifiedBy>
  <dcterms:modified xsi:type="dcterms:W3CDTF">2015-09-02T09:42:32Z</dcterms:modified>
  <cp:revision>11</cp:revision>
  <dc:subject/>
  <dc:title>SATs</dc:title>
</cp:coreProperties>
</file>