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83C6-EBE0-45E4-9C2E-C0C59057DC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343-7E7A-4A6B-9EC0-A57E2198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85B-C02B-4AD6-BF56-FBFC981C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D45-A30B-4FB8-AC69-BC36C494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76B-4AC0-4678-AFF3-17794F4E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96B6-4A7F-40F9-80C7-3D23BD2A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EA72-9511-4685-BEF9-33EEB440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105E-086C-4B78-9FD4-2B9E3330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56CA-CDC7-48DB-9DDF-1518862A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EFC0-4AC5-4294-904A-28DEE0BB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350C-D638-4270-AB3D-A2945C83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9E46-9C23-45CC-B7D7-C8435581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BE3-E902-4696-86BF-A0F89DA5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476B-AE71-450E-8A00-A95C1229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9CAA-B220-46C3-8020-7963558C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0634-357A-4AC3-A33F-0CEBF9D3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F60D-FF39-47B7-B0A8-909138EA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8012-FFB7-4393-A16E-42925181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0CA-C1CC-42B8-BCA1-BEDF7676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192-7872-48A1-9487-C6DE2EB7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CE9-C1EC-4DBC-A2B3-87B6F26F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CFF-8650-44B5-AB37-A660724D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DB4-B5D5-4F5E-835D-4F8FFCBE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76A0-93B1-4A2C-9C4D-F7BF940B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8D6-8A43-4C25-B6C4-4E746E4E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EE96-0843-49E1-8F6A-15B8B35E3E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7BAE-3A53-4599-A4BE-12090BD174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hrouded – covered up, hidden, a link with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supporting an answer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questions need an explanation or a comment which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upported by a qu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.g. explai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wo differ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ays a negative impression is given a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ach answer with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uota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is need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2 i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What We’ll Look At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 hour and 15 minut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(15 mins reading tim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bout 20 minutes answering the questions on each tex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extrac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ill come from different GENRES or FOR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iction, non-fiction, pre-Twentieth Centu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y inclu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leaflet, story, historical writing, article, informative or persuasive writing, letter or part of an auto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to home in on the information, and write it dow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gu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32Z</dcterms:modified>
  <cp:revision>11</cp:revision>
  <dc:subject/>
  <dc:title>SATs</dc:title>
</cp:coreProperties>
</file>