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C90-3D89-4DDF-9044-5A0C36E013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rouded – covered up, hidden, a link with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supporting an answ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need an explanation or a comment which MUST be supported by a qu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explain two different ways a negative impression is given and support each answer with a qu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eds: 2 i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Big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’ll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our and 15 minutes (15 mins reading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bout 20 minutes answering the questions on each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extracts will come from different GENRES or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– fiction, non-fiction, pre-Twentie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include - leaflet, story, historical writing, article, informative or persuasive writing, letter or part of an autobi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to home in on the information, and write it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96C-0DE2-4F0B-AD28-F78B6DB8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AA6-481A-4134-8E37-99C603DA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FDB-55A4-4C5F-B80A-162C5F73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03E-1085-40CF-A5F5-E00E0485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D29E-488C-4049-B702-A9A618F4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9B74-2FC7-4321-BFD2-6435ED1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4434-8F48-4E0A-8B90-EF91476C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B8A-D803-4BF5-ADF4-AD7A04A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A0D4-5743-4CD9-8D48-6B4B4C76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B1C9-5921-4DAC-97F1-C087A4E6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1BD5-A5A2-4F52-A3F5-F23C3DF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2A6-55C7-4F0D-A0A1-2C7905F0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B6A8-5DD7-46DB-A6AA-D157488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4E8B-B4F2-4AF3-8947-96352128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EB8-D292-4100-A4C0-67D94DE7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DA22-B562-42D4-897F-2C7F4F7B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FD1-22D3-498F-B80C-519E1E39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674-AF69-4C7C-BD80-C66F7CAD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511-6746-479A-9043-2A493C0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2A4-E23A-4EFE-A47F-677448A8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562-45D9-49D4-9799-AC1A2869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AD9-60A0-4F7F-B74E-9F29690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C2C-ACC7-4AA2-B295-1E7FCD7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F67-75F9-462F-A222-FDE51C4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CDB-FDC3-4298-92F7-E2F27D5CF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4D65-9219-4E04-BC23-CDAD436402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Read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cus – showing you understand how a writer uses language for ef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hrouded – covered up, hidden, a link with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supporting an answer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questions need an explanation or a comment which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upported by a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.g. explai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wo differen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ys a negative impression is given and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each answer with a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quota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his need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2 i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quot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KNOW WHAT THE QUESTION IS ASK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2 big questions in the pap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orth – 5 marks eac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bullet points to guide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1 = doesn’t give bullet poi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Big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llet Poin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write about ALL  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bullet poi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 in ever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n-bullet Poin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re you are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k very carefully about how the writer has used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What We’ll Look At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Typ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 hour and 15 minut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15 mins reading time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bout 20 minutes answering the questions on each tex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extr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ill come from different GENRES or FOR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iction, non-fiction, pre-Twentieth Centu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y inclu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leaflet, story, historical writing, article, informative or persuasive writing, letter or part of an autobiograp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to home in on the information, and write it d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gu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32Z</dcterms:modified>
  <cp:revision>11</cp:revision>
  <dc:subject/>
  <dc:title>SATs</dc:title>
</cp:coreProperties>
</file>