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9D5-FCC5-48EF-A62C-192A59EE0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dangerous predators’ the polar bears are described in this way offering negative connotations  in order to make tourists wary of their surroun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1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2: Possibl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one main clause (subject object verb) e.g. It wa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 e.g. It was late but I wasn’t t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 e.g. Although it was late, I wasn’t t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Media &amp; Non-F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: P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dec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text is it? (text ty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it written? (purpos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it written for? (target aud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ffect the content and style of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397-E6BF-4E52-9AFD-271C6F65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A41-86F1-4921-8BA8-D33C3B57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307-2950-4292-A8D8-5B5CB802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6C3-0ADB-4E43-9A00-CB88F9DC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80D5-C08B-4446-A8F5-AC3C0043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95CC-44E1-432E-97D3-D0A5609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C5AA-853D-43C7-BBFE-BDDD156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20F-4625-4D86-97E5-1E54964D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F22F-0395-4CDB-BED9-A438876D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1AC-9851-4C51-8260-E53F0668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8006-7A7B-4FFD-B1BD-D48B909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B7E-D037-49CA-B30E-6092828F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BE6-4D7E-49CE-890B-ADA9CBB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818E-D1D3-4659-8923-1FCF3AE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B75-37CA-45DB-8D42-5EF466F9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A348-0D4D-4BE6-BFD2-DAC26C0A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9461-A619-448B-A9FC-9E630596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E68-BFB7-4AAC-8058-8576312A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B10-E26A-4436-BAC8-8F8072C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DBA-714C-41BC-B35E-BE341C6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175-78DE-488E-9200-14DFDB0C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E43-08BC-490D-9F27-30013EE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4E0-EA3C-482B-919D-894853B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481-5B8F-48BD-B4AF-71698A4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62BE-C38C-4B15-9EFF-30DA70D54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4B3-B484-4C2C-A231-98965D823E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dangerous predators’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polar bears are described in this way offering negative connotations  in order to make tourists wary of their surround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rgue/Persuade/ Adv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nalyse/Review/ Com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4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1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formal letter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s (perhaps to adv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ossible Task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rticle for newspaper/magaz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tter formal/Inf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eafl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sentences used: simple/compound/comp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ntence Typ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one main clause (subject object verb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ound sentences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imple sentences connect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, but, so,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t was l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asn’t 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simple sentence) and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(doesn’t make sense on its own) e.g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lthough it was lat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I wasn’t tir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edia &amp; Non-Fi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s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yout a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ext Types: PF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need to decid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ype of text is it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ext typ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was it written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urpos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was it written for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target audi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affec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you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specific terminology and the effect of layout e.g. headline, subheading, pictures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y the writer has chosen this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The author has used bullet points in this leaflet to make it more accessible to its target audience, children and teena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26Z</dcterms:modified>
  <cp:revision>6</cp:revision>
  <dc:subject/>
  <dc:title>GCSE English paper2</dc:title>
</cp:coreProperties>
</file>