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3F3E-C15D-4B7C-B6B5-A83982F7A7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01B-9B0A-411D-9595-23F52103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8E16-FE79-4857-A31F-A3EE0E22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53E-300D-4502-8A91-B57B4B83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BB9-17BD-4209-83A1-81F2FE5C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4137-CFD0-40C9-BED3-6586C9EE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D443-C3BC-448A-8C9B-1DD71B7D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A850-D1E6-404E-96B3-CC4FADE2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CD4C-A451-4D27-9178-FD795676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C80C-4345-4285-84E7-30E733D9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0354-5F64-494C-8835-6D0B4367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4422-57A9-4808-9500-3B28B0E4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E6A-6CD5-4FC8-BBA7-3FC49B06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2EDE-9458-4900-9B9E-6B45884A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1169-1971-4724-93A6-8104303C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1424-EB8D-437A-B5E1-F82F4906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8BFD-62B0-4CC4-B502-88540165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A481-C364-490C-8FE5-F0B86881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BF2-058B-4798-A573-9AB38FE9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8A8-F117-4F5B-9920-B080F7B1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8C1-623C-4A12-A94D-562AA071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61FB-7770-47BC-B432-394F375D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900-1F15-4F4F-BF9A-C4899324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099D-8A48-4C4D-BDA7-50752DB8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E0C-C99C-4C29-9657-A3607452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9C53-BE12-4D0D-9A46-9FA9E1C672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1CD6-F7A2-4DD5-B24B-3825980C4C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dangerous predators’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polar bears are described in this way offering negative connotations  in order to make tourists wary of their surround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1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ntence Ty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one main clause (subject object verb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ound sentence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simple sentences connected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, but, so, beca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wasn’t t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in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simple sentence) and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ubordinate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doesn’t make sense on its own) e.g.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Although it was lat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I wasn’t tire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dia &amp; Non-Fi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 PF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you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26Z</dcterms:modified>
  <cp:revision>6</cp:revision>
  <dc:subject/>
  <dc:title>GCSE English paper2</dc:title>
</cp:coreProperties>
</file>