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05FA9-7118-4789-98C7-C1624FFEF82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CSE Engl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per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CSE Engl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per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: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 – show you understand how a writer uses language for eff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and comment on words / sentences and why a writer has chosen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‘dangerous predators’ the polar bears are described in this way offering negative connotations  in order to make tourists wary of their surrounding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: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 – show you understand how a writer uses language for eff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and comment on words / sentences and why a writer has chosen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‘dangerous predators’ the polar bears are described in this way offering negative connotations  in order to make tourists wary of their surrounding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B: 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gue/Persuade/ Adv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choice giv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t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nd 40 mins on this s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lyse/Review/ Com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choice giv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t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nd 40 mins on this s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B: 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gue/Persuade/ Adv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choice giv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t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nd 40 mins on this s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lyse/Review/ Com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choice giv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t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nd 40 mins on this s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 B1: Possible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al letter 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al letter 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flets (perhaps to advi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icle for newspaper/magaz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 B1: Possible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al letter 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al letter 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flets (perhaps to advi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icle for newspaper/magaz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ction B2: Possible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por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ticle for newspaper/magaz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tter formal/Inform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afle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ction B2: Possible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por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ticle for newspaper/magaz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tter formal/Inform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afle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B1: Pla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y punct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y sentences used: simple/compound/compl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+ paragra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B1: Pla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y punct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y sentences used: simple/compound/compl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+ paragra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B2: Pla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y punct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y sentences used: simple/compound/compl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+ paragra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B2: Pla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y punct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y sentences used: simple/compound/compl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+ paragra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tence Ty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 sentences: one main clause (subject object verb) e.g. It was 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und sentences: two simple sentences connected by and, but, so, because e.g. It was late but I wasn’t ti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x sentences: main clause (simple sentence) and subordinate clause (doesn’t make sense on its own) e.g. Although it was late, I wasn’t ti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tence Ty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 sentences: one main clause (subject object verb) e.g. It was 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und sentences: two simple sentences connected by and, but, so, because e.g. It was late but I wasn’t ti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x sentences: main clause (simple sentence) and subordinate clause (doesn’t make sense on its own) e.g. Although it was late, I wasn’t ti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nctu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nctu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nctu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nctu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B: Proof Re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sure you spend 5 mins proof reading your 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you got paragraph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you used punctu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you varied your punctu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you add anymore detai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you vary vocab making it even more interestin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B: Proof Re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sure you spend 5 mins proof reading your 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you got paragraph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you used punctu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you varied your punctu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you add anymore detai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you vary vocab making it even more interestin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hours allowed in to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A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s Reading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 40 min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B: Tests Writing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 40 minutes for B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 40 minutes for 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hours allowed in to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A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s Reading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 40 min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B: Tests Writing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 40 minutes for B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 40 minutes for 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Finall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panic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your bes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luck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Finall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panic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your bes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luck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A: Re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extracts – Media &amp; Non-Fi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comprehension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s at 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ract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ract Tw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es Bo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rpose, Form, Aud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yout and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A: Re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extracts – Media &amp; Non-Fi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comprehension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s at 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ract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ract Tw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es Bo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rpose, Form, Aud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yout and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ing Inform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ly - read the text really carefu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ly - read question to make sure you understand exactly what it's asking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ly - use skimming and scanning skills and annotate the text by underlining or highligh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ing Inform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ly - read the text really carefu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ly - read question to make sure you understand exactly what it's asking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ly - use skimming and scanning skills and annotate the text by underlining or highligh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idence (a quotation) and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idence (a quotation) and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Types: PF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need to decid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ype of text is it? (text type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was it written? (purpose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s it written for? (target audien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ffect the content and style of th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Types: PF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need to decid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ype of text is it? (text type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was it written? (purpose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s it written for? (target audien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ffect the content and style of th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: Conn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ing an idea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... therefore... because... but... and... furthermore.. also... in addition... then... as well as... next... whereas... in contrast... later... at first... similarly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: Conn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ing an idea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... therefore... because... but... and... furthermore.. also... in addition... then... as well as... next... whereas... in contrast... later... at first... similarly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: Conn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ing an ide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mplies... this suggests... which gives the impression that... this shows... this clearly shows... possibly... perhaps... this indicates that... obviously... this conveys to the reader that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: Conn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ing an ide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mplies... this suggests... which gives the impression that... this shows... this clearly shows... possibly... perhaps... this indicates that... obviously... this conveys to the reader that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: Lay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 – Show that you understand specific terminology and the effect of layout e.g. headline, subheading, pictures etc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why the writer has chosen this lay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: The author has used bullet points in this leaflet to make it more accessible to its target audience, children and teenag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: Lay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 – Show that you understand specific terminology and the effect of layout e.g. headline, subheading, pictures etc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why the writer has chosen this lay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: The author has used bullet points in this leaflet to make it more accessible to its target audience, children and teenag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FA42-FA3B-48F4-86EC-F0AB7BFFC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99B1-1B33-4E9B-BACB-CE641BCEC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F8AA-CF85-4740-A84D-9E8A50680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DFFF-1B4F-42E4-90E3-77F7E548E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11B82-8C23-4E2D-AD74-72315F4CF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611BE-59CB-4F6E-A85F-CC65E5AF4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1EDD1-1DBA-473D-BEF2-4B5FB0EBD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8698A-BE9D-44B9-AD4B-F7903453E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5BB17-09F1-4969-B8E6-0A817EFAD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FF4CA-4B84-4621-A3F5-91697EC58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0B009-8C37-4B4D-ADBF-9E4E85CEE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A00E-7CB5-4EF2-A7F0-131CAD84D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250CC-370D-497B-A533-471B770B7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B387E-BA3C-49F2-BBDD-7A670D179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1D1BB-5BD5-4B2E-BA47-15FC74F03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028A8-3055-4F8C-ACAF-EE5F6D7D4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20174-8F9A-4458-8004-407D95D40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9104-764F-499F-9C81-FE7CBD58A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BF68-0958-466F-869A-430AF0D78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8801-7ED5-4C0E-8896-CB4CC3CAD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FE85-7845-415F-B3CF-8036EC8ED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8475-23CD-4597-8EE6-1ECC8B6F5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81E4-C05A-43A9-BB43-6420DC6AD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63C6-1652-4B97-AB35-3E1E066E1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47677-7EF9-41BF-8454-001B8008DB8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52031-31C5-46B4-894A-966E1422E5B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330033"/>
                </a:solidFill>
                <a:latin typeface="Times New Roman"/>
              </a:rPr>
              <a:t>GCSE English</a:t>
            </a:r>
            <a:endParaRPr b="0" lang="en-US" sz="8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500" spc="-1" strike="noStrike">
                <a:solidFill>
                  <a:srgbClr val="000000"/>
                </a:solidFill>
                <a:latin typeface="Arial"/>
              </a:rPr>
              <a:t>Paper 2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Questions: Languag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cus – show you understand how a writer uses language for eff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2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Arial"/>
              </a:rPr>
              <a:t>Explain and comment on words / sentences and why a writer has chosen them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‘dangerous predators’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e polar bears are described in this way offering negative connotations  in order to make tourists wary of their surrounding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Section B: Writing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B1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Argue/Persuade/ Advi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No choice giv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One ta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Spend 40 mins on this s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B2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Analyse/Review/ Com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No choice giv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One ta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Spend 40 mins on this s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Section  B1: Possible Task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Formal letter wri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Informal letter wri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Leaflets (perhaps to advis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Article for newspaper/magaz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Speech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Section B2: Possible Task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Repor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Article for newspaper/magazi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Letter formal/Inform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Leafle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600" spc="-1" strike="noStrike">
                <a:solidFill>
                  <a:srgbClr val="330033"/>
                </a:solidFill>
                <a:latin typeface="Times New Roman"/>
              </a:rPr>
              <a:t>Section B1: Planning</a:t>
            </a: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Vary punctu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Vary sentences used: simple/compound/comple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5+ paragraph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3337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Section B2: Planning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Vary punctu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Vary sentences used: simple/compound/comple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5+ paragraph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Sentence Typ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ple sentences: one main clause (subject object verb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It was 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mpound sentences: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wo simple sentences connected b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d, but, so, becaus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It was lat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bu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 wasn’t ti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mplex sentences: 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main clause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(simple sentence) and 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subordinate clause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(doesn’t make sense on its own) e.g. </a:t>
            </a:r>
            <a:r>
              <a:rPr b="0" lang="en-US" sz="2900" spc="-1" strike="noStrike" u="sng">
                <a:solidFill>
                  <a:srgbClr val="000000"/>
                </a:solidFill>
                <a:uFillTx/>
                <a:latin typeface="Arial"/>
              </a:rPr>
              <a:t>Although it was late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, I wasn’t tired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Punctuation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68360" y="1484280"/>
          <a:ext cx="8229600" cy="4319640"/>
        </p:xfrm>
        <a:graphic>
          <a:graphicData uri="http://schemas.openxmlformats.org/drawingml/2006/table">
            <a:tbl>
              <a:tblPr/>
              <a:tblGrid>
                <a:gridCol w="874800"/>
                <a:gridCol w="7354800"/>
              </a:tblGrid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s the end of a sentenc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s a pause in a sentenc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;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s a longer paus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d before a list or when giving evidenc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0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 ”  ‘ ‘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d around direct speech, a quotation or to show sarcasm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Punctuation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468360" y="1484280"/>
          <a:ext cx="8229600" cy="4754520"/>
        </p:xfrm>
        <a:graphic>
          <a:graphicData uri="http://schemas.openxmlformats.org/drawingml/2006/table">
            <a:tbl>
              <a:tblPr/>
              <a:tblGrid>
                <a:gridCol w="874800"/>
                <a:gridCol w="7354800"/>
              </a:tblGrid>
              <a:tr h="579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s a question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4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!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s surprise, shock, humour or excitement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s words are missing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 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d around an aside, or less important point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5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metimes used informally to show a pause, or to link two words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‘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s possession or a missing letter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Section B: Proof Reading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ke sure you spend 5 mins proof reading your wr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ve you got paragraph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ve you used punctu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ve you varied your punctu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uld you add anymore detai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uld you vary vocab making it even more interest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600" spc="-1" strike="noStrike">
                <a:solidFill>
                  <a:srgbClr val="330033"/>
                </a:solidFill>
                <a:latin typeface="Times New Roman"/>
              </a:rPr>
              <a:t>Timing:</a:t>
            </a: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2 hours allowed in tota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Section A: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Tests Reading Skill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allow 40 minut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Section B: Tests Writing Skill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allow 40 minutes for B1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allow 40 minutes for B2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600" spc="-1" strike="noStrike">
                <a:solidFill>
                  <a:srgbClr val="330033"/>
                </a:solidFill>
                <a:latin typeface="Times New Roman"/>
              </a:rPr>
              <a:t>And Finally:</a:t>
            </a: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Don’t panic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Do your best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Good luck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Section A: Reading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wo extracts –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Media &amp; Non-Fic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Standard comprehension ques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Looks at :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tract 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tract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mpares Bo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urpose, Form, Aud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ayout and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Finding Information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rstl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- read the text really carefull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ly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 read question to make sure you understand exactly what it's asking yo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ly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 use skimming and scanning skills and annotate the text by underlining or highlight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500" spc="-1" strike="noStrike">
                <a:solidFill>
                  <a:srgbClr val="330033"/>
                </a:solidFill>
                <a:latin typeface="Times New Roman"/>
              </a:rPr>
              <a:t>PEE:</a:t>
            </a:r>
            <a:endParaRPr b="0" lang="en-US" sz="6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oint</a:t>
            </a:r>
            <a:br>
              <a:rPr sz="4600"/>
            </a:b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vidence (a quotation) and</a:t>
            </a:r>
            <a:br>
              <a:rPr sz="4600"/>
            </a:b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xplanation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Text Types: PF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You need to decide: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type of text is it?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text type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was it written?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purpose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o was it written for?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target audienc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se affect the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ten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yl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of the tex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PEE: Connectiv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Supporting an idea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ever... therefore... because... but... and... furthermore.. also... in addition... then... as well as... next... whereas... in contrast... later... at first... similarly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PEE: Connectiv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Explaining an idea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mplies... this suggests... which gives the impression that... this shows... this clearly shows... possibly... perhaps... this indicates that... obviously... this conveys to the reader that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Questions: Layou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ocus – Show that you understand specific terminology and the effect of layout e.g. headline, subheading, pictures etc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plain why the writer has chosen this lay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Eg: The author has used bullet points in this leaflet to make it more accessible to its target audience, children and teenag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8T14:01:47Z</dcterms:created>
  <dc:creator>al</dc:creator>
  <dc:description/>
  <dc:language>en-US</dc:language>
  <cp:lastModifiedBy>RomaK</cp:lastModifiedBy>
  <dcterms:modified xsi:type="dcterms:W3CDTF">2015-09-02T09:42:26Z</dcterms:modified>
  <cp:revision>6</cp:revision>
  <dc:subject/>
  <dc:title>GCSE English paper2</dc:title>
</cp:coreProperties>
</file>