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36CC-417E-4A2C-8E71-58BEEC1288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C98-7357-451B-B7A8-434FF075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EA5-DE43-44C2-8AA3-8CD4521E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CC4-02CE-4124-8FDD-A209907D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8CB-F731-4B06-9FF8-995726BE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1279-1D22-481B-B2BB-051D35E2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2AC4-99F1-4467-A355-11E973E6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C6D7-FE9B-43E2-A4F3-DE1325BC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6DC7-19F4-4EE6-ABBD-D0002AF6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1DD6-1853-4664-9341-D48D3BED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18C7-49C5-41DE-A8E1-7E6F5130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136F-09C4-413A-8CA7-467ACB51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1D0-F243-4A7E-B5A9-A936ABA9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C267-B9CE-4197-8683-4D04D321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024A-0221-4C05-9108-FA9C8EE9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D67A-9A6E-4009-9BA5-B6C78F49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C93D-E016-4DE5-8C45-546B7221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CBB9-E405-4787-845E-8315FFC3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1A4-08D8-4191-A45B-BD10E29E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465-C52A-4DF5-8422-6A69AF41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8EE-82E8-4EA4-9B5C-3B667153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1BC-A8EF-4893-873B-40910D5A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E81-EA89-4FCA-B212-B2E1D218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665-4EB0-4D6E-B791-E8D5226C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BF5-E966-4EA9-A20A-9DE466F1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E502-55D4-4BFD-A0F4-87BCEF2A01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6EBD-91BC-430B-9990-A7480B080B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dangerous predators’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olar bears are described in this way offering negative connotations  in order to make tourists wary of their surround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1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ntence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one main clause (subject object verb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ound sentenc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imple sentences connect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, but, so, beca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wasn’t 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in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simple sentence) and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doesn’t make sense on its own) e.g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Although it was l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 wasn’t tir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dia &amp; Non-Fi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 PF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yo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26Z</dcterms:modified>
  <cp:revision>6</cp:revision>
  <dc:subject/>
  <dc:title>GCSE English paper2</dc:title>
</cp:coreProperties>
</file>