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810E-3A06-4B4C-9DF1-46CABD9B24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C82-3BE9-4DA4-97BF-34DFFA36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B0B-B5EB-4A32-A357-08EE588C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314-DE2B-49C6-A298-D8E704F3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67A-6FD1-4002-A09D-3EF2AA07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1D0B-D823-411F-B72E-5FC3C500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49FC-F61D-4B07-8169-3E1F8489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4C71-6D30-4534-B1F0-A9F77A98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3DB2-97A1-4421-9BE1-D0E85640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A74C-FE6D-4D5D-922D-2CCC5798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1AEE-DFBE-4DF0-A13D-1CD0BC69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919F-E6E1-494C-8294-B2307EC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C7F-A3D6-4A32-82B1-983BD838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7DE5-3780-4C0A-92F1-562AD20A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358B-5F93-4BEE-91E4-1B3342D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FE1B-63E8-425D-9903-E8CC65A7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1127-AB8C-4E08-8545-A9319B17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37B6-528F-4223-A10F-99893C45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063-2DC3-4B86-89F0-B60A0F6E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6C7-A233-4D43-9C3D-76B7F3A8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CC8-8382-47D4-A50C-BBF5F4D8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E29-9FC4-47DC-B8FA-D11FA8DD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C22-803A-4CCC-A796-0EF01ED4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418-F5E8-4876-8EAC-93AEDAE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85C-B488-432B-ACD8-E03994F4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4219-2986-4F1B-996B-3299CE6681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7EA9-4C93-4237-A02E-5BD41A6A67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The gold was shrouded in mystery’ 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his word suggests that the treasure has been covered up, hidden or has links with the semantic field of dea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Questions: Thoughts and Feeling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oughts and feelings about the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Charac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s she is emotional, yet reserved, through the choice of the conditional verb ‘if’ and the repetition of the word’ cr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Mea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‘Frank found himself advancing alone through a wall of fog’ –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writer shows horror by highlighting isolation and using a metaphor for the weather which affects Frank’s 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15Z</dcterms:modified>
  <cp:revision>17</cp:revision>
  <dc:subject/>
  <dc:title>SATs</dc:title>
</cp:coreProperties>
</file>