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36F0-9A71-457C-AEBD-0780485934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p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p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The gold was shrouded in mystery’ – T his word suggests that the treasure has been covered up, hidden or has links with the semantic field of de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The gold was shrouded in mystery’ – T his word suggests that the treasure has been covered up, hidden or has links with the semantic field of de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Thoughts and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consider language, character and meaning and how they contribute and how they contribute to your thoughts and feelings about the ex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arefully at the task and what it asks you to do.  E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bout the whole pa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bout part of the pa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Thoughts and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consider language, character and meaning and how they contribute and how they contribute to your thoughts and feelings about the ex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arefully at the task and what it asks you to do.  E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bout the whole pa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bout part of the pa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to desc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3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at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6 choices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5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to desc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3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at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6 choices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5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 B1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e 5 s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cribe minut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 B1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e 5 s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cribe minut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2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peech sparing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2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peech sparing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Pro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Pro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30 minutes for 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50 minutes for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30 minutes for 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50 minutes for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extracts –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s &amp;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extracts –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s &amp;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and annotate the text by underlining or high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and annotate the text by underlining or high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that you understand how the writer creates characters using langu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‘If she could only cry now, cry for a long time over everything’ – Shows she is emotional, yet reserved, through the choice of the conditional verb ‘if’ and the repetition of the word’ cr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that you understand how the writer creates characters using langu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‘If she could only cry now, cry for a long time over everything’ – Shows she is emotional, yet reserved, through the choice of the conditional verb ‘if’ and the repetition of the word’ cr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how the writer conveys emotions and atmosphere through the choices of language and literary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Frank found himself advancing alone through a wall of fog’ – The writer shows horror by highlighting isolation and using a metaphor for the weather which affects Frank’s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how the writer conveys emotions and atmosphere through the choices of language and literary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Frank found himself advancing alone through a wall of fog’ – The writer shows horror by highlighting isolation and using a metaphor for the weather which affects Frank’s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1BF6-9BD4-43A7-A287-B9349355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36D3-2537-4097-A171-8E82F494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DBD5-301A-456E-AB77-100A6F8B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C440-50A1-4999-B3C2-CFDF20D8B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713E-94CF-4E57-AEF3-3C6EC220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C32A-673A-4D56-A727-A5DEC212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0AEE-9727-464F-96E1-67E6D04A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2BC7-6D84-4C01-9A52-C5028644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3370-A488-4C4F-8B01-4A031630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748E-848D-444A-8147-B19E92E3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A1D9-450A-4D55-8BBB-D38DC870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9D50-219D-49BB-B110-19652968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AD1A-A6C2-400E-9646-6274C0D8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655F-A1F1-4393-B98A-16C33CC6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BB22-DC89-4833-A41C-E46EC187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3E91-3256-4EC6-BB8B-CFF21B82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3C8C-D08F-4A3B-8A00-BC62448D7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EA3A-E67C-4428-929F-417E7D70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5616-5EB4-40F9-BE6F-BE9BD098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DE62-A686-42FD-88C4-C67E75CA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C5BD-EE3E-4AB4-A6BF-CF479BD0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E568-EE74-4ABC-B005-48E27F38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7C95-6BB1-427B-BA04-C0A20282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0B45-E88D-42F0-A245-86E96B25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24E1-E6CB-41CD-82C1-CBCFD6FCE6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41CF-F5E1-4462-B924-F40C92ABDA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330033"/>
                </a:solidFill>
                <a:latin typeface="Times New Roman"/>
              </a:rPr>
              <a:t>GCSE English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00"/>
                </a:solidFill>
                <a:latin typeface="Arial"/>
              </a:rPr>
              <a:t>Paper 1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Langu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‘The gold was shrouded in mystery’ –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his word suggests that the treasure has been covered up, hidden or has links with the semantic field of death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Questions: Thoughts and Feeling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cus: consider language, character and meaning and how they contribute and how they contribute to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you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thoughts and feelings about the ex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ok carefully at the task and what it asks you to do.  E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Write about the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whole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pa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Write about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part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of the pa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Writ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Writing to descri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pend 30 mins on this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arrative wri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5/6 choices g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Complete one ta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pend 50 mins on this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Section B1: Planning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Use the 5 sens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Describe minute detai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2: Plann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Arial"/>
              </a:rPr>
              <a:t>Use speech sparingl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1484280"/>
          <a:ext cx="8229600" cy="431964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the end of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pause in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longer pa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before a list or when giving evid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 ”  ‘ 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direct speech, a quotation or to show sarcas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1484280"/>
          <a:ext cx="8229600" cy="475452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ques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surprise, shock, humour or exciteme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words are missing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an aside, or less important poi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 used informally to show a pause, or to link two words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possession or a missing letter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Proof Rea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iming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30 minutes for B1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50 minutes for B2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Rea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o extracts –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oughts &amp;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Finding Inform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rst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read the text really carefu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ead question to make sure you understand exactly what it's asking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use skimming and scanning skills and annotate the text by underlining or highligh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: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int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vidence (a quotation) and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upporting an ide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Charact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cus – Show that you understand how the writer creates characters using l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Eg: ‘If she could only cry now, cry for a long time over everything’ –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s she is emotional, yet reserved, through the choice of the conditional verb ‘if’ and the repetition of the word’ cry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Mean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ocus: how the writer conveys emotions and atmosphere through the choices of language and literary devi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‘Frank found himself advancing alone through a wall of fog’ –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writer shows horror by highlighting isolation and using a metaphor for the weather which affects Frank’s vi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0:17:29Z</dcterms:created>
  <dc:creator>Andrea Lownes</dc:creator>
  <dc:description/>
  <dc:language>en-US</dc:language>
  <cp:lastModifiedBy>RomaK</cp:lastModifiedBy>
  <dcterms:modified xsi:type="dcterms:W3CDTF">2015-09-02T09:42:15Z</dcterms:modified>
  <cp:revision>17</cp:revision>
  <dc:subject/>
  <dc:title>SATs</dc:title>
</cp:coreProperties>
</file>