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6F90-33DC-4C38-94A2-C5A6C35724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p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p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The gold was shrouded in mystery’ – T his word suggests that the treasure has been covered up, hidden or has links with the semantic field of de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The gold was shrouded in mystery’ – T his word suggests that the treasure has been covered up, hidden or has links with the semantic field of de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Thoughts and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consider language, character and meaning and how they contribute and how they contribute to your thoughts and feelings about the ex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arefully at the task and what it asks you to do.  E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bout the whole pa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bout part of the pa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Thoughts and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consider language, character and meaning and how they contribute and how they contribute to your thoughts and feelings about the ex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arefully at the task and what it asks you to do.  E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bout the whole pa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bout part of the pa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to descr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3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ative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6 choices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5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to descr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3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ative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6 choices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5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ion B1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e 5 s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cribe minut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ion B1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e 5 s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cribe minut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2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peech sparing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2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peech sparing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Proof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Proof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30 minutes for 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50 minutes for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30 minutes for 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50 minutes for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extracts – 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s &amp;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extracts – 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s &amp;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and annotate the text by underlining or highl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and annotate the text by underlining or highl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Chara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that you understand how the writer creates characters using langu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‘If she could only cry now, cry for a long time over everything’ – Shows she is emotional, yet reserved, through the choice of the conditional verb ‘if’ and the repetition of the word’ cr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Chara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that you understand how the writer creates characters using langu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‘If she could only cry now, cry for a long time over everything’ – Shows she is emotional, yet reserved, through the choice of the conditional verb ‘if’ and the repetition of the word’ cr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how the writer conveys emotions and atmosphere through the choices of language and literary de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Frank found himself advancing alone through a wall of fog’ – The writer shows horror by highlighting isolation and using a metaphor for the weather which affects Frank’s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how the writer conveys emotions and atmosphere through the choices of language and literary de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Frank found himself advancing alone through a wall of fog’ – The writer shows horror by highlighting isolation and using a metaphor for the weather which affects Frank’s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2BC0-5447-4FED-ADEB-273DB4927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AEB0-0091-404D-9FAD-C6A38218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1CB5-70A8-4E02-87ED-BCEFA8B4B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BF66-1702-4749-BEF9-0C7FD3D82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D089-F56E-4499-8F31-558D89EAB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0062-2313-4914-ACAB-F90FC222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2467-E085-4A9E-BAD9-A600A77B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4AD8-3494-4499-AC78-A097DCDE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D9DB-9EB8-4A59-9C50-0C682948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2798-8F1A-44A0-B696-9029C4CA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6B75-0090-4A05-99FC-4EABA836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82E4-A86D-4A2A-846E-101FDBD6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6669-F9C7-4D82-97C1-A324E193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4106-C0DE-4488-A697-EE96EE9D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F594-29E9-48BA-87C4-B48ADAB1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8D46-2BFE-4A5A-8235-C196695B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4C57-91EB-4F90-8991-C7EC30848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7269-BB0B-48EE-BF3F-226110FD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075E-DEA5-4413-BF0E-B98BAF27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203A-22C2-4857-B392-4FF719F2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107F-CAA6-42AA-AFE0-4CDD5A3F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9AAE-3651-4395-B92C-C2C94B41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08A2-6618-466D-ACCE-C56A5657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E9F4-9CD4-41FF-8F16-E34CF13B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46C5-A029-4B37-BA9B-87750B2FA7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7CBA-46DD-42E7-A8DF-E2CB7F405E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330033"/>
                </a:solidFill>
                <a:latin typeface="Times New Roman"/>
              </a:rPr>
              <a:t>GCSE English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00"/>
                </a:solidFill>
                <a:latin typeface="Arial"/>
              </a:rPr>
              <a:t>Paper 1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Langua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‘The gold was shrouded in mystery’ –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his word suggests that the treasure has been covered up, hidden or has links with the semantic field of death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Questions: Thoughts and Feeling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cus: consider language, character and meaning and how they contribute and how they contribute to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you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thoughts and feelings about the ex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ok carefully at the task and what it asks you to do.  E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Write about the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whole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pa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Write about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part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of the pa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Writ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Writing to describ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pend 30 mins on this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arrative wri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5/6 choices gi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Complete one ta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pend 50 mins on this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Section B1: Planning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Use the 5 sens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Describe minute detai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2: Plann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Arial"/>
              </a:rPr>
              <a:t>Use speech sparingl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1484280"/>
          <a:ext cx="8229600" cy="431964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the end of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pause in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longer pau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before a list or when giving evid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 ”  ‘ 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direct speech, a quotation or to show sarcas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68360" y="1484280"/>
          <a:ext cx="8229600" cy="475452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quest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surprise, shock, humour or exciteme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words are missing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an aside, or less important poi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imes used informally to show a pause, or to link two words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possession or a missing letter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Proof Rea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iming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30 minutes for B1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50 minutes for B2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Rea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wo extracts –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oughts &amp; Fee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Finding Inform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rst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read the text really carefu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ead question to make sure you understand exactly what it's asking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use skimming and scanning skills and annotate the text by underlining or highligh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: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oint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vidence (a quotation) and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upporting an ide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Charact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cus – Show that you understand how the writer creates characters using langu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Eg: ‘If she could only cry now, cry for a long time over everything’ –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s she is emotional, yet reserved, through the choice of the conditional verb ‘if’ and the repetition of the word’ cry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Mean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ocus: how the writer conveys emotions and atmosphere through the choices of language and literary devic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‘Frank found himself advancing alone through a wall of fog’ –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writer shows horror by highlighting isolation and using a metaphor for the weather which affects Frank’s vi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10:17:29Z</dcterms:created>
  <dc:creator>Andrea Lownes</dc:creator>
  <dc:description/>
  <dc:language>en-US</dc:language>
  <cp:lastModifiedBy>RomaK</cp:lastModifiedBy>
  <dcterms:modified xsi:type="dcterms:W3CDTF">2015-09-02T09:42:15Z</dcterms:modified>
  <cp:revision>17</cp:revision>
  <dc:subject/>
  <dc:title>SATs</dc:title>
</cp:coreProperties>
</file>