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6676150"/>
        <c:axId val="3714167"/>
      </c:scatterChart>
      <c:valAx>
        <c:axId val="6676150"/>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3714167"/>
        <c:crossesAt val="0"/>
        <c:crossBetween val="midCat"/>
      </c:valAx>
      <c:valAx>
        <c:axId val="3714167"/>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6676150"/>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71398416"/>
        <c:axId val="35129182"/>
      </c:scatterChart>
      <c:valAx>
        <c:axId val="71398416"/>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35129182"/>
        <c:crossesAt val="0"/>
        <c:crossBetween val="midCat"/>
      </c:valAx>
      <c:valAx>
        <c:axId val="35129182"/>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71398416"/>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