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64694389"/>
        <c:axId val="81223906"/>
      </c:scatterChart>
      <c:valAx>
        <c:axId val="64694389"/>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81223906"/>
        <c:crossesAt val="0"/>
        <c:crossBetween val="midCat"/>
      </c:valAx>
      <c:valAx>
        <c:axId val="81223906"/>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64694389"/>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55497048"/>
        <c:axId val="22415090"/>
      </c:scatterChart>
      <c:valAx>
        <c:axId val="55497048"/>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22415090"/>
        <c:crossesAt val="0"/>
        <c:crossBetween val="midCat"/>
      </c:valAx>
      <c:valAx>
        <c:axId val="22415090"/>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55497048"/>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