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95701456"/>
        <c:axId val="3195908"/>
      </c:scatterChart>
      <c:valAx>
        <c:axId val="95701456"/>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3195908"/>
        <c:crossesAt val="0"/>
        <c:crossBetween val="midCat"/>
      </c:valAx>
      <c:valAx>
        <c:axId val="3195908"/>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95701456"/>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40506565"/>
        <c:axId val="99243822"/>
      </c:scatterChart>
      <c:valAx>
        <c:axId val="40506565"/>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99243822"/>
        <c:crossesAt val="0"/>
        <c:crossBetween val="midCat"/>
      </c:valAx>
      <c:valAx>
        <c:axId val="99243822"/>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40506565"/>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