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540C-BB88-4AA1-9DD7-40CEBFD64F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2EF-83DD-41F8-88E8-63E70D0D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BE6-E283-44CC-A5E3-E92239AD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886-1D0C-4A03-9395-705F2F70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87E-B670-40BD-9444-4617F70C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A867-AF30-47AF-A206-25888067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4929-3A50-45A6-B87F-7B495C27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EBD4-8A64-4166-9FC8-958FAF5D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B4DE-4D16-4081-A62B-FEB21A87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F717-A668-4646-8C7C-A550589E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90B5-30E2-4CC5-99AC-F47651B5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623D-BD3C-4983-B444-1450CBDA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A56-9554-4BAC-92F4-4B2B10C2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2334-ED1B-4C0D-A0E0-E0EA41B7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F404-14FA-47F9-A9A0-9985D81D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D404-4134-4FE8-8CCA-00CF1785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EC95-1F33-49AF-8D3C-B2925D0D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065C-7067-44F5-A571-2C19F73D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AB9-60F7-439E-8839-467F6670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EA0-1878-4B58-B9A6-30B09581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0C2-49DD-47C9-9C1A-37ADBBBD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4A3-09A6-4E70-91A4-55EA31F3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6F9-10A0-4CBC-9BAE-FD84C90D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D14-1F7E-4A40-88AF-DDDA7DBE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E45-B280-49E7-BC32-CA36DA20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3678-1A76-49CA-A25E-ED3CB5E4A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D6F7-CF05-460F-94AF-F2B8675DD6A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verbs –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DO and HAVE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ave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ve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77920"/>
          <a:ext cx="8229600" cy="581796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hasn't been here all night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has to carry a lantern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has a bright flame that helps Billy see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28600" y="380880"/>
          <a:ext cx="8610480" cy="5578560"/>
        </p:xfrm>
        <a:graphic>
          <a:graphicData uri="http://schemas.openxmlformats.org/drawingml/2006/table">
            <a:tbl>
              <a:tblPr/>
              <a:tblGrid>
                <a:gridCol w="2286000"/>
                <a:gridCol w="1523880"/>
                <a:gridCol w="48006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Nouns or </a:t>
                      </a: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have a good sense of smell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haven't seen this many coon pelts since we were littl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 have to skin the coon, and dry the pelt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have to sell the pelts at Grandpa's stor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_______ 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o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e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________ 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______ 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. Hounds (do, does) hunt best during cool fall night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2. (Do, Does) you know that Billy is a brave young man?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3. The barking (do, does) sound far aw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4. You (doesn’t, don’t) have to stay out here all day chopp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5. I (doesn’t, don’t)  want to give up, Grandpa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6. "No, he (doesn’t, don’t) ," Grandpa said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920" y="838080"/>
          <a:ext cx="8229600" cy="534852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8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does his chores before going hunting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doesn't like to stop hunting long enough to eat dinner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doesn't take long to catch three coons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7. There (has, have) never been a more beautiful night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8. You (has, have)  to leave the tree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9. Raccoons (has, have) many tricks to escape from their captor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0. You (hasn’t, haven’t) seen Little Ann or Old Da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1. The ax (hasn’t, haven’t)  left Billy's hands all d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2. The trouble (hasn’t, haven’t) stopped Billy from try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3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4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s have a deep broad chest and a strong slightly arched back. (2)Their feet has cat-like paws. (3)The medium length tail is slightly bushy.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Redbones are agile which help them when hunting in steep, rocky areas. (2) Redbones enjoy swimming. (3) They has a natural instinct for hunt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838080"/>
          <a:ext cx="8229600" cy="458640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don't bellow unless they have treed a coon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do our hunting at night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do the cooking over a hot fire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_________ know that hounds have a good sense of smell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know that hounds have a good sense of smel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_____ 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_______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1:42:55Z</dcterms:created>
  <dc:creator>Gay  Miller</dc:creator>
  <dc:description/>
  <dc:language>en-US</dc:language>
  <cp:lastModifiedBy>RomaK</cp:lastModifiedBy>
  <dcterms:modified xsi:type="dcterms:W3CDTF">2015-09-02T09:41:51Z</dcterms:modified>
  <cp:revision>31</cp:revision>
  <dc:subject/>
  <dc:title>Slide 1</dc:title>
</cp:coreProperties>
</file>