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37D8-AE9B-4378-B69F-4F22A8B3DA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verbs –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and HAV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bs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nd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late evening the happy tune doesn’t sound happ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late evening the happy tune doesn’t sound hap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______ think I can cut it dow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______ think I can cut it d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don’t think I can cut it dow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think I can cut it d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ve Verb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has with the pronouns he, she, and it, or whenever you mean only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have with the pronouns I, you, they and we, or whenever you mean more than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has with the pronouns he, she, and it, or whenever you mean only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have with the pronouns I, you, they and we, or whenever you mean more than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______ tracked coons in the rain, snow, and hai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______ tracked coons in the rain, snow, and h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have tracked coons in the rain, snow, and hai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racked coons in the rain, snow, and h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ma _______ a special dinner planned for Bill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a _______ a special dinner planned for Bi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ma has a special dinner planned for Bill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a has a special dinner planned for Bi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Verb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does with the pronouns he, she, and it, or whenever you mean only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do with the pronouns I, you, they and we, or whenever you mean more than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oes with the pronouns he, she, and it, or whenever you mean only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o with the pronouns I, you, they and we, or whenever you mean more than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gust of wind ________ been through the valley all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ust of wind ________ been through the valley all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gust of wind hasn’t been through the valley all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ust of wind hasn’t been through the valley all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blisters ______ broken ope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isters ______ broken o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blisters haven’t broken ope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isters haven’t broken o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. Hounds (do, does) hunt best during cool fall nigh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unds (do, does) hunt best during cool fall nigh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(Do, Does) you know that Billy is a brave young man?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(Do, Does) you know that Billy is a brave young ma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The barking (do, does) sound far aw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barking (do, does) sound far a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You (doesn’t, don’t) have to stay out here all day chopp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You (doesn’t, don’t) have to stay out here all day chopp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 I (doesn’t, don’t)  want to give up, Grandpa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I (doesn’t, don’t)  want to give up, Grandp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 "No, he (doesn’t, don’t) ," Grandpa sai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"No, he (doesn’t, don’t) ," Grandpa sa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7. There (has, have) never been a more beautiful nigh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There (has, have) never been a more beautiful n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8. You (has, have)  to leave the tre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You (has, have)  to leave the tr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9. Raccoons (has, have) many tricks to escape from their captor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Raccoons (has, have) many tricks to escape from their cap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0. You (hasn’t, haven’t) seen Little Ann or Old Da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You (hasn’t, haven’t) seen Little Ann or Old D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1. The ax (hasn’t, haven’t)  left Billy's hands all d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The ax (hasn’t, haven’t)  left Billy's hands all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2. The trouble (hasn’t, haven’t) stopped Billy from try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 The trouble (hasn’t, haven’t) stopped Billy from try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3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Redbone coonhounds are a medium sized dog. (2) Their coats are a deep red color. (3) They has brown to hazel eyes. (4) Their ears are low and reach nearly to the end of their noses. 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Redbone coonhounds are a medium sized dog. (2) Their coats are a deep red color. (3) They has brown to hazel eyes. (4) Their ears are low and reach nearly to the end of their nose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4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Redbones have a deep broad chest and a strong slightly arched back. (2)Their feet has cat-like paws. (3)The medium length tail is slightly bushy.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Redbones have a deep broad chest and a strong slightly arched back. (2)Their feet has cat-like paws. (3)The medium length tail is slightly bush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 Redbones are agile which help them when hunting in steep, rocky areas. (2) Redbones enjoy swimming. (3) They has a natural instinct for hunt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 Redbones are agile which help them when hunting in steep, rocky areas. (2) Redbones enjoy swimming. (3) They has a natural instinct for hun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 Most Redbones are used for coon hunting, but they does track bear, cougar, and bobcats. (2) Most hunters prefer to hunt with a pack of Redbones instead of a single do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 Most Redbones are used for coon hunting, but they does track bear, cougar, and bobcats. (2) Most hunters prefer to hunt with a pack of Redbones instead of a single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e _________ know that hounds have a good sense of smell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_________ know that hounds have a good sense of sm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e do know that hounds have a good sense of smel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know that hounds have a good sense of sm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nd _____ blow more in the river bottom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_____ blow more in the river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nd does blow more in the river bottom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does blow more in the river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late evening the happy tune _______sound happ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late evening the happy tune _______sound hap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3DBA-D126-4F40-848B-33662236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CE2B-8FD0-4977-A5AE-1FB51E34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36B7-38BF-45CF-B5F0-28C1CB0F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B685-0284-44FF-9609-9C0F348B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AEEF-3BC1-4484-9E3A-9E3ABCA6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9F52-CA93-47B9-8AD5-E8BC4412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4888-6239-418A-9CC0-984486AB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AD60-C964-45E9-9823-1DD8E8B7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EC65-40CC-40AF-A34F-839AD1CF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D61B-86FC-49BD-8609-B3E0D6AB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91B8-D140-47B4-AFA3-EAD4DBFF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8CC8-30A3-4824-9377-488DF131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EEED-B713-4D29-A852-6ECE847F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9E57-D4A2-4376-AB2A-51EC7533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F9F3-DE7F-4E02-8FBD-F64880BC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6A28-3FF3-4B59-8F23-FB3A1FD7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23AB-9780-44AF-B0F9-DF8A39FD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6C9E-A3C3-475C-B2FD-D75F8815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8052-F755-4883-9871-33FA2D0F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1A28-BFB0-47E0-BAA7-84CDBA65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92FE-D193-460B-BF51-219E36A9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40C2-EADA-4E5E-A48A-6871D9DC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7BC-BF4F-4287-811D-6C19A562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2CED-8779-472A-BD02-919F94AB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0C6B-0DF5-412F-93E7-80D7A5222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653760" indent="-2512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2" marL="1005840" indent="-2008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3" marL="1407960" indent="-2008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4" marL="1810440" indent="-200880">
              <a:spcBef>
                <a:spcPts val="100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5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6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653760" indent="-2512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2" marL="1005840" indent="-2008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3" marL="1407960" indent="-2008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4" marL="1810440" indent="-200880">
              <a:spcBef>
                <a:spcPts val="100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5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6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E215-8213-4D3E-A382-84FCFA5F543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he verbs –</a:t>
            </a:r>
            <a:br>
              <a:rPr sz="5700"/>
            </a:b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DO and HAVE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y late evening the happy tune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es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ound happ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______ think I can cut it dow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ink I can cut it dow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Have Verb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Rule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has with the pronouns he, she, and it, or whenever you mean only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have with the pronouns I, you, they and we, or whenever you mean more than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57200" y="277920"/>
          <a:ext cx="8229600" cy="581796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464832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ingular Nouns or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9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/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n't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hasn't been here all night.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9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/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n'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 has to carry a lantern.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679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/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n'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 has a bright flame that helps Billy see.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28600" y="380880"/>
          <a:ext cx="8610480" cy="5578560"/>
        </p:xfrm>
        <a:graphic>
          <a:graphicData uri="http://schemas.openxmlformats.org/drawingml/2006/table">
            <a:tbl>
              <a:tblPr/>
              <a:tblGrid>
                <a:gridCol w="2286000"/>
                <a:gridCol w="1523880"/>
                <a:gridCol w="48006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lural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Nouns or </a:t>
                      </a: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 have a good sense of smell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 haven't seen this many coon pelts since we were little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You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You have to skin the coon, and dry the pelt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 have to sell the pelts at Grandpa's store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______ tracked coons in the rain, snow, and hail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ve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racked coons in the rain, snow, and hail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Mama _______ a special dinner planned for Bill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Mama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s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a special dinner planned for Bill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o Verb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Rule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does with the pronouns he, she, and it, or whenever you mean only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do with the pronouns I, you, they and we, or whenever you mean more than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A gust of wind ________ been through the valley all da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A gust of wind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s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een through the valley all da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e blisters ______ broken open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e blisters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ve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roken open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ractice – Number your paper from 1 to 15. Write the correct answer for each of the following items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. Hounds (do, does) hunt best during cool fall nights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2. (Do, Does) you know that Billy is a brave young man?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3. The barking (do, does) sound far awa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4. You (doesn’t, don’t) have to stay out here all day choppin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5. I (doesn’t, don’t)  want to give up, Grandpa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6. "No, he (doesn’t, don’t) ," Grandpa said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04920" y="838080"/>
          <a:ext cx="8229600" cy="534852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4648320"/>
              </a:tblGrid>
              <a:tr h="1827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ingular Nouns or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does his chores before going hunting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/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 doesn't like to stop hunting long enough to eat dinner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/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n'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 doesn't take long to catch three coons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7. There (has, have) never been a more beautiful night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8. You (has, have)  to leave the tree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9. Raccoons (has, have) many tricks to escape from their captors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0. You (hasn’t, haven’t) seen Little Ann or Old Da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1. The ax (hasn’t, haven’t)  left Billy's hands all da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2. The trouble (hasn’t, haven’t) stopped Billy from tryin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3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Redbone coonhounds are a medium sized dog. (2) Their coats are a deep red color. (3) They has brown to hazel eyes. (4) Their ears are low and reach nearly to the end of their noses. 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4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Redbones have a deep broad chest and a strong slightly arched back. (2)Their feet has cat-like paws. (3)The medium length tail is slightly bushy.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5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 Redbones are agile which help them when hunting in steep, rocky areas. (2) Redbones enjoy swimming. (3) They has a natural instinct for huntin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5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 Most Redbones are used for coon hunting, but they does track bear, cougar, and bobcats. (2) Most hunters prefer to hunt with a pack of Redbones instead of a single do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838080"/>
          <a:ext cx="8229600" cy="458640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464832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lural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Nouns or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8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 don't bellow unless they have treed a coon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8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 do our hunting at night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 do the cooking over a hot fire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e _________ know that hounds have a good sense of smell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e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know that hounds have a good sense of smell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ind _____ blow more in the river bottom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ind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es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low more in the river bottom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y late evening the happy tune _______sound happ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1:42:55Z</dcterms:created>
  <dc:creator>Gay  Miller</dc:creator>
  <dc:description/>
  <dc:language>en-US</dc:language>
  <cp:lastModifiedBy>RomaK</cp:lastModifiedBy>
  <dcterms:modified xsi:type="dcterms:W3CDTF">2015-09-02T09:41:51Z</dcterms:modified>
  <cp:revision>31</cp:revision>
  <dc:subject/>
  <dc:title>Slide 1</dc:title>
</cp:coreProperties>
</file>