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435E-6556-4F5F-AC00-F620FAF3B3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rbs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nd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doesn’t 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don’t think I can cut it dow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have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______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racked coons in the rain, snow, and h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 or have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_______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a has a special dinner planned for Bil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es with the pronouns he, she, and it, or whenever you mean only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o with the pronouns I, you, they and we, or whenever you mean more than one person or 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________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ust of wind hasn’t been through the valley all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hasn't or have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______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sters haven’t broken o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nds (do, does) hunt best during cool fall nigh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(Do, Does) you know that Billy is a brave young ma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barking (do, does) sound far aw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You (doesn’t, don’t) have to stay out here all day chopp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 (doesn’t, don’t)  want to give up, Grandp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"No, he (doesn’t, don’t) ," Grandpa sa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There (has, have) never been a more beautiful n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You (has, have)  to leave the tr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Raccoons (has, have) many tricks to escape from their cap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You (hasn’t, haven’t) seen Little Ann or Old D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The ax (hasn’t, haven’t)  left Billy's hands all d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The trouble (hasn’t, haven’t) stopped Billy from try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Redbones have a deep broad chest and a strong slightly arched back. (2)Their feet has cat-like paws. (3)The medium length tail is slightly bush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Redbones are agile which help them when hunting in steep, rocky areas. (2) Redbones enjoy swimming. (3) They has a natural instinct for hun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Which sentence in the paragraph below contains a mist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_________ know that hounds have a good sense of sme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know that hounds have a good sense of sm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 or does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_____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 does blow more in the river botto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doesn't or don't to complete the sent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late evening the happy tune _______sound hap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093-8561-4C3F-B017-808157D1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2D81-3F77-414B-88FB-CC14213D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7491-D133-43B6-8B86-48E345B77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B863-F62A-4F47-98ED-94641E8F2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3887-D4F9-4367-B304-1C9769B9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3A0C-CC97-4878-99B1-17877B1D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438C-8F04-4542-9165-D6F9134E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4438-EC1C-486C-AEF2-3B296E2D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4629-9376-4EC6-B978-654C9FB2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B59B-F041-416F-B9B9-6E7672E9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7090-CF75-485F-8237-0C8E8C22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F435-D2B3-4DA8-891B-B8E75693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6430-E5A4-48CD-AC27-7996D28D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4855-3FA4-435C-860D-A009B7C3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E171-F16C-4D8C-82B6-19CF72B9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DD0A-090F-4DA3-89F1-71566815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9D2E-54AA-467C-A5B7-A78C23DA7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5844-1BB7-4BFE-AB06-A62D3441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443-B79A-4F12-803D-42E33445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86B-456D-475F-A090-19CD538C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C6E3-28B0-4311-BEC2-AD9C94AA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5585-7AA4-449B-82F6-90E44715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4076-1E0C-4F7A-B816-0CA77A18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8698-575C-4FAC-9174-F4E563D0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CCD9-9F00-4026-8A91-D33BD89A95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653760" indent="-2512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2" marL="1005840" indent="-2008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3" marL="1407960" indent="-200880">
              <a:spcBef>
                <a:spcPts val="10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4" marL="1810440" indent="-200880">
              <a:spcBef>
                <a:spcPts val="1001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5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6" marL="1810440" indent="-200880">
              <a:spcBef>
                <a:spcPts val="1001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88D5-20F3-4F2F-B74B-A91900FA2350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The verbs –</a:t>
            </a:r>
            <a:br>
              <a:rPr sz="5700"/>
            </a:b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DO and HAVE 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ink I can cut it dow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ave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have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457200" y="277920"/>
          <a:ext cx="8229600" cy="581796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hasn't been here all night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9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has to carry a lantern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/</a:t>
                      </a:r>
                      <a:br>
                        <a:rPr sz="3600"/>
                      </a:b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sn't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has a bright flame that helps Billy see. 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228600" y="380880"/>
          <a:ext cx="8610480" cy="5578560"/>
        </p:xfrm>
        <a:graphic>
          <a:graphicData uri="http://schemas.openxmlformats.org/drawingml/2006/table">
            <a:tbl>
              <a:tblPr/>
              <a:tblGrid>
                <a:gridCol w="2286000"/>
                <a:gridCol w="1523880"/>
                <a:gridCol w="4800600"/>
              </a:tblGrid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br>
                        <a:rPr sz="2800"/>
                      </a:br>
                      <a:r>
                        <a:rPr b="1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Nouns or </a:t>
                      </a: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have a good sense of smell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5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haven't seen this many coon pelts since we were littl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You have to skin the coon, and dry the pelt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5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/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aven'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have to sell the pelts at Grandpa's store. 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______ 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I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racked coons in the rain, snow, and hai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_______ 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Mama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special dinner planned for Bill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o Verb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Ru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es with the pronouns he, she, and it, or whenever you mean only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Use do with the pronouns I, you, they and we, or whenever you mean more than one person or thing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________ 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A gust of 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s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een through the valley all da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have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______ 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e blisters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haven’t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roken open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actice – Number your paper from 1 to 15. Write the correct answer for each of the following items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3504960"/>
            <a:ext cx="8229600" cy="26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. Hounds (do, does) hunt best during cool fall night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2. (Do, Does) you know that Billy is a brave young man?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3. The barking (do, does) sound far aw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4. You (doesn’t, don’t) have to stay out here all day chopp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5. I (doesn’t, don’t)  want to give up, Grandpa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6. "No, he (doesn’t, don’t) ," Grandpa said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920" y="838080"/>
          <a:ext cx="8229600" cy="534852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827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Singular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e does his chores before going hunting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Billy doesn't like to stop hunting long enough to eat dinner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/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esn't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t doesn't take long to catch three coons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7. There (has, have) never been a more beautiful night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8. You (has, have)  to leave the tree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9. Raccoons (has, have) many tricks to escape from their captors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0. You (hasn’t, haven’t) seen Little Ann or Old Dan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1. The ax (hasn’t, haven’t)  left Billy's hands all day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12. The trouble (hasn’t, haven’t) stopped Billy from try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3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 coonhounds are a medium sized dog. (2) Their coats are a deep red color. (3) They has brown to hazel eyes. (4) Their ears are low and reach nearly to the end of their noses. 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4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Redbones have a deep broad chest and a strong slightly arched back. (2)Their feet has cat-like paws. (3)The medium length tail is slightly bushy.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Redbones are agile which help them when hunting in steep, rocky areas. (2) Redbones enjoy swimming. (3) They has a natural instinct for huntin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15. Which sentence in the paragraph below contains a mistak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(1)  Most Redbones are used for coon hunting, but they does track bear, cougar, and bobcats. (2) Most hunters prefer to hunt with a pack of Redbones instead of a single dog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838080"/>
          <a:ext cx="8229600" cy="4586400"/>
        </p:xfrm>
        <a:graphic>
          <a:graphicData uri="http://schemas.openxmlformats.org/drawingml/2006/table">
            <a:tbl>
              <a:tblPr/>
              <a:tblGrid>
                <a:gridCol w="1981080"/>
                <a:gridCol w="1600200"/>
                <a:gridCol w="464832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Plural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Nouns or </a:t>
                      </a: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Pronoun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Verb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eaeaea"/>
                          </a:solidFill>
                          <a:uFillTx/>
                          <a:latin typeface="Verdana"/>
                        </a:rPr>
                        <a:t>Sentences</a:t>
                      </a: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Hounds don't bellow unless they have treed a coon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We do our hunting at night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81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don't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I do the cooking over a hot fire.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_________ know that hounds have a good sense of smell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e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know that hounds have a good sense of smell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895120"/>
            <a:ext cx="822960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_____ 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Wind </a:t>
            </a:r>
            <a:r>
              <a:rPr b="1" lang="en-US" sz="4000" spc="-1" strike="noStrike">
                <a:solidFill>
                  <a:srgbClr val="eec85e"/>
                </a:solidFill>
                <a:latin typeface="Verdana"/>
              </a:rPr>
              <a:t>does 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low more in the river bottom.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e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or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n't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to complete the sentence.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By late evening the happy tune _______sound happy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21:42:55Z</dcterms:created>
  <dc:creator>Gay  Miller</dc:creator>
  <dc:description/>
  <dc:language>en-US</dc:language>
  <cp:lastModifiedBy>RomaK</cp:lastModifiedBy>
  <dcterms:modified xsi:type="dcterms:W3CDTF">2015-09-02T09:41:51Z</dcterms:modified>
  <cp:revision>31</cp:revision>
  <dc:subject/>
  <dc:title>Slide 1</dc:title>
</cp:coreProperties>
</file>