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763D9-2993-4A4D-870F-C260213F00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ubject/Verb Agre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rt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corr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day come the sharing of dinn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day comes the sharing of di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day comes the sharing of din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inner 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is corr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line was three dirty 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line were three dirty 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line were three dirty 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en w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 Number your paper from 1 to 32. Write the correct answer for each of the following it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Grandpa and Billy (build, builds) a special tra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I (see, sees) Grandpa was serious and I get interes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ons (jump, jumps) at the opportunity to steal a shiny piece of me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They (carry, carries) the trap to the ri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Neither Grandpa nor the coons (give, gives) up on the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He (carry, carries) out our knives, forks, and spo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jects and verbs must work together. They must agree. A verb that does not end in a single s, es, or ies is used with a plural noun. These pronoun subjects - I, we, you, or they – are also used with the plural verb fo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Anything that was bright and shinny, he (take, takes) to his d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Mama and Papa (catch, catches) me cutting out the circles of tin with the good sciss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My mother's old churn (topple, topples) over and spills the but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Everything (go, goes) in the trash pi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Papa's words (perk, perks) me up just like air does a deflated inner tub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Morning after morning I (feel, feels) the same old disappoin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 The family (sit, sits) down to breakf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Weeks (go, goes) b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Mama (yell, yells) something to him about a snak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 Neither Little Ann nor Old Dan (see, sees) the racco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nds tr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nds of all varieties train their noses to follow specific sc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s cat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ps by the river catch raccoons quick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ils ma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ils in a hollow log make a good raccoon tr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Each (freeze, freezes) in his trac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Mama’s hot apple pie (grow, grows) cold waiting on the hunters to retu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 Each of the men (catch, catches) three co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 Billy, as well as his Papa, (feel, feels) using a shotgun is unfair in a coon hu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 Neither Little Ann or Old Dan (give, gives) the raccoon a lead in the cha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 Standing there looking happy (was, were) Grandpa and Bi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 Eight pounds of cheese (is, are) heavy to car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 Only one out of five boys in America (like, likes) to hu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5. The news of the coon hunt (spread, spreads) through the hil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 Fifty dollars (was, were) a lot of money for Billy to ea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x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fig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figure he will catch a raccoon in another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trap raccoons down in the vall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 At the end of a long trip (come, comes) a victorious Bi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  Which of the following is written correct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urn the boy pup lo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dart in and grab him by the hind le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pup under each arm Billy run for the hou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ma and Papa yells something to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 Which of the following sentences does not contain a mistak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 shout, "Where did it bite you?"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sisters jumps up and hug 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ma looks at me, smile, and turns to the gir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ir answers surprise Ma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 Choose the answer that is written correct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seems fine to 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irls bury their faces in Mama's dr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a whack him again and it was all o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body smile when they realize Billy is not h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 Which of the following sentences does not contain a mistak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ch trees leans out over the ri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stout legs help with leve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n hunting teach Billy to be pati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grandfather's store sit on top of the moun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2. Choose the answer that is written correct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pa kid Bil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ther Little Ann or Old Dan fall in the ri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years seems like a long time for a 12 year o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hears the wind in the top of the tr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More Examp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 pronouns I and you are singular you use the plural forms of the verb with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hin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hink Billy will catch a raccoon so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b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bet your boots the trap will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many rules about subject verb agreement, but we are going to cover just one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be confused by subjects that come at the end of the sent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ing in the back of the store was Billy’s parents. (Turn the sentence around and it will be clearer. Billy’s parents was standing in the back of the r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ing in the back of the store were Billy’s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coon hunt come the passing out of trophies. (Turn the sentence around and it will be clearer. The passing out of trophies come at the end of the coon hu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of the coon hunt comes the passing out of troph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D7A51-4408-4CC4-A757-24C6F2216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11CB8-B03F-4825-82AB-C2A40CAB9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88D04-33C4-4DB3-9219-4159785FFA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4FA50-2809-44B4-BBC8-A287D0412E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F5F1D4-2D51-438B-8BFB-A1361845AC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10054-FE13-4E86-B81A-778A228622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6564C-C12C-4351-BF38-4EC7389391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DC8306-5D39-415D-86CE-E5A9D4BAE4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53C207-CDA3-4ABF-9FED-D46CA24C6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3A962-C58B-40CC-820E-84C9522814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AD8F0-C9BE-4896-A9B9-0DF2DD185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4FBA7-B277-4FA0-9506-0A95570D5A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DCEC7-7BA6-4C3A-963E-AFD8597ADA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54887-4136-4F52-BF43-AD6785E0A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B82CE-B732-4982-86B7-D48D0C68A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C7E253-AEAB-47E2-A69C-057497648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F2F378-C103-4711-8E05-6A29030063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EAB41-7F32-4FFF-A8BA-1E2103D52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A5250-D471-4059-9858-643831834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1D338-B216-4684-8F73-654E3A5F8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419C1-7E8F-474A-8CAD-00EABF2C2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94390-CEF7-4558-9463-DE02CAA3F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BE6B5-BAD3-4F86-9AD2-51D6E8361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15869-0E07-431E-9ADD-D0A45C11C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8F59E-6786-4E0A-B161-38CD5227BE3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8D4E3-3DAC-411B-B8A7-BF0ECB475B5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14300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Subject/Verb Agreement</a:t>
            </a:r>
            <a:endParaRPr b="0" lang="en-US" sz="5400" spc="-1" strike="noStrike">
              <a:solidFill>
                <a:srgbClr val="ffffcc"/>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Part 2</a:t>
            </a:r>
            <a:endParaRPr b="0" lang="en-US" sz="6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ich is correct?</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day come the sharing of dinner. </a:t>
            </a:r>
            <a:endParaRPr b="0" lang="en-US" sz="4000" spc="-1" strike="noStrike">
              <a:solidFill>
                <a:srgbClr val="ffffff"/>
              </a:solidFill>
              <a:latin typeface="Tahoma"/>
            </a:endParaRPr>
          </a:p>
          <a:p>
            <a:pPr marL="609480" indent="-60948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day comes the sharing of dinn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1001"/>
              </a:spcBef>
              <a:buClr>
                <a:srgbClr val="ffcc66"/>
              </a:buClr>
              <a:buSzPct val="80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day comes the sharing of dinner.</a:t>
            </a:r>
            <a:endParaRPr b="0" lang="en-US" sz="4000" spc="-1" strike="noStrike">
              <a:solidFill>
                <a:srgbClr val="ffffff"/>
              </a:solidFill>
              <a:latin typeface="Tahoma"/>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dinner comes</a:t>
            </a:r>
            <a:endParaRPr b="0" lang="en-US" sz="4000" spc="-1" strike="noStrike">
              <a:solidFill>
                <a:srgbClr val="ffffff"/>
              </a:solidFill>
              <a:latin typeface="Tahoma"/>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ich is correct?</a:t>
            </a:r>
            <a:endParaRPr b="0" lang="en-US" sz="44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line was three dirty men. </a:t>
            </a:r>
            <a:endParaRPr b="0" lang="en-US" sz="4000" spc="-1" strike="noStrike">
              <a:solidFill>
                <a:srgbClr val="ffffff"/>
              </a:solidFill>
              <a:latin typeface="Tahoma"/>
            </a:endParaRPr>
          </a:p>
          <a:p>
            <a:pPr marL="609480" indent="-60948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line were three dirty men. </a:t>
            </a:r>
            <a:endParaRPr b="0" lang="en-US" sz="4000" spc="-1" strike="noStrike">
              <a:solidFill>
                <a:srgbClr val="ffffff"/>
              </a:solidFill>
              <a:latin typeface="Tahoma"/>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609480">
              <a:spcBef>
                <a:spcPts val="1001"/>
              </a:spcBef>
              <a:buClr>
                <a:srgbClr val="ffcc66"/>
              </a:buClr>
              <a:buSzPct val="80000"/>
              <a:buFont typeface="Tahom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line were three dirty men. </a:t>
            </a:r>
            <a:endParaRPr b="0" lang="en-US" sz="4000" spc="-1" strike="noStrike">
              <a:solidFill>
                <a:srgbClr val="ffffff"/>
              </a:solidFill>
              <a:latin typeface="Tahoma"/>
            </a:endParaRPr>
          </a:p>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en were</a:t>
            </a:r>
            <a:endParaRPr b="0" lang="en-US" sz="4000" spc="-1" strike="noStrike">
              <a:solidFill>
                <a:srgbClr val="ffffff"/>
              </a:solidFill>
              <a:latin typeface="Tahoma"/>
            </a:endParaRPr>
          </a:p>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274680"/>
            <a:ext cx="815328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32. Write the correct answer for each of the following items.</a:t>
            </a:r>
            <a:endParaRPr b="0" lang="en-US" sz="4000" spc="-1" strike="noStrike">
              <a:solidFill>
                <a:srgbClr val="ffffcc"/>
              </a:solidFill>
              <a:latin typeface="Tahoma"/>
            </a:endParaRPr>
          </a:p>
        </p:txBody>
      </p:sp>
      <p:sp>
        <p:nvSpPr>
          <p:cNvPr id="11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Grandpa and Billy (build, builds) a special trap.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I (see, sees) Grandpa was serious and I get interested.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Coons (jump, jumps) at the opportunity to steal a shiny piece of metal.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They (carry, carries) the trap to the riv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Neither Grandpa nor the coons (give, gives) up on the pla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He (carry, carries) out our knives, forks, and spoon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1143000"/>
            <a:ext cx="8229600" cy="4952880"/>
          </a:xfrm>
          <a:prstGeom prst="rect">
            <a:avLst/>
          </a:prstGeom>
          <a:noFill/>
          <a:ln w="0">
            <a:noFill/>
          </a:ln>
        </p:spPr>
        <p:txBody>
          <a:bodyPr anchor="t">
            <a:normAutofit fontScale="99000"/>
          </a:bodyPr>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bjects and verbs must work together. They must agree. A verb that does not end in a single s, es, or ies is used with a plural noun. These pronoun subjects - </a:t>
            </a:r>
            <a:r>
              <a:rPr b="1" lang="en-US" sz="4000" spc="-1" strike="noStrike">
                <a:solidFill>
                  <a:srgbClr val="ffffff"/>
                </a:solidFill>
                <a:latin typeface="Tahoma"/>
              </a:rPr>
              <a:t>I, we, you, or they – </a:t>
            </a:r>
            <a:r>
              <a:rPr b="0" lang="en-US" sz="4000" spc="-1" strike="noStrike">
                <a:solidFill>
                  <a:srgbClr val="ffffff"/>
                </a:solidFill>
                <a:latin typeface="Tahoma"/>
              </a:rPr>
              <a:t>are also used with the plural verb form.</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Anything that was bright and shinny, he (take, takes) to his de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Mama and Papa (catch, catches) me cutting out the circles of tin with the good scissor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My mother's old churn (topple, topples) over and spills the butt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Everything (go, goes) in the trash pil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1. Papa's words (perk, perks) me up just like air does a deflated inner tub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2. Morning after morning I (feel, feels) the same old disappointmen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The family (sit, sits) down to breakfas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4. Weeks (go, goes) b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5. Mama (yell, yells) something to him about a snak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6. Neither Little Ann nor Old Dan (see, sees) the raccoo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xamples:</a:t>
            </a:r>
            <a:endParaRPr b="0" lang="en-US" sz="4400" spc="-1" strike="noStrike">
              <a:solidFill>
                <a:srgbClr val="ffffcc"/>
              </a:solidFill>
              <a:latin typeface="Tahoma"/>
            </a:endParaRPr>
          </a:p>
        </p:txBody>
      </p:sp>
      <p:sp>
        <p:nvSpPr>
          <p:cNvPr id="99" name="PlaceHolder 2"/>
          <p:cNvSpPr>
            <a:spLocks noGrp="1"/>
          </p:cNvSpPr>
          <p:nvPr>
            <p:ph/>
          </p:nvPr>
        </p:nvSpPr>
        <p:spPr>
          <a:xfrm>
            <a:off x="457200" y="1219320"/>
            <a:ext cx="8229600" cy="4495680"/>
          </a:xfrm>
          <a:prstGeom prst="rect">
            <a:avLst/>
          </a:prstGeom>
          <a:noFill/>
          <a:ln w="0">
            <a:noFill/>
          </a:ln>
        </p:spPr>
        <p:txBody>
          <a:bodyPr anchor="t">
            <a:normAutofit fontScale="81000"/>
          </a:bodyPr>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unds train</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unds of all varieties train their noses to follow specific scents.</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raps catch</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raps by the river catch raccoons quickly.</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ails make</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ails in a hollow log make a good raccoon trap.</a:t>
            </a:r>
            <a:endParaRPr b="0" lang="en-US" sz="4000" spc="-1" strike="noStrike">
              <a:solidFill>
                <a:srgbClr val="ffffff"/>
              </a:solidFill>
              <a:latin typeface="Tahoma"/>
            </a:endParaRPr>
          </a:p>
          <a:p>
            <a:pPr marL="2775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7. Each (freeze, freezes) in his track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8. Mama’s hot apple pie (grow, grows) cold waiting on the hunters to retur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9. Each of the men (catch, catches) three coon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0. Billy, as well as his Papa, (feel, feels) using a shotgun is unfair in a coon hun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1. Neither Little Ann or Old Dan (give, gives) the raccoon a lead in the chas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2. Standing there looking happy (was, were) Grandpa and Bill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3. Eight pounds of cheese (is, are) heavy to carr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4. Only one out of five boys in America (like, likes) to hun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5. The news of the coon hunt (spread, spreads) through the hill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6. Fifty dollars (was, were) a lot of money for Billy to ear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re Examples:</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figur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figure he will catch a raccoon in another 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y trap</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y trap raccoons down in the valle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7. At the end of a long trip (come, comes) a victorious Bill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8.  Which of the following is written correctly? </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e turn the boy pup loose.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dart in and grab him by the hind leg.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ith a pup under each arm Billy run for the house.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and Papa yells something to him.</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29. Which of the following sentences does not contain a mistake? </a:t>
            </a:r>
            <a:endParaRPr b="0" lang="en-US" sz="4000" spc="-1" strike="noStrike">
              <a:solidFill>
                <a:srgbClr val="ffffcc"/>
              </a:solidFill>
              <a:latin typeface="Tahoma"/>
            </a:endParaRPr>
          </a:p>
        </p:txBody>
      </p:sp>
      <p:sp>
        <p:nvSpPr>
          <p:cNvPr id="145" name="PlaceHolder 2"/>
          <p:cNvSpPr>
            <a:spLocks noGrp="1"/>
          </p:cNvSpPr>
          <p:nvPr>
            <p:ph/>
          </p:nvPr>
        </p:nvSpPr>
        <p:spPr>
          <a:xfrm>
            <a:off x="457200" y="1752120"/>
            <a:ext cx="8229600" cy="4953240"/>
          </a:xfrm>
          <a:prstGeom prst="rect">
            <a:avLst/>
          </a:prstGeom>
          <a:noFill/>
          <a:ln w="0">
            <a:noFill/>
          </a:ln>
        </p:spPr>
        <p:txBody>
          <a:bodyPr anchor="t">
            <a:normAutofit/>
          </a:bodyPr>
          <a:p>
            <a:pPr marL="762120" indent="-76212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he shout, "Where did it bite you?" </a:t>
            </a:r>
            <a:endParaRPr b="0" lang="en-US" sz="4000" spc="-1" strike="noStrike">
              <a:solidFill>
                <a:srgbClr val="ffffff"/>
              </a:solidFill>
              <a:latin typeface="Tahoma"/>
            </a:endParaRPr>
          </a:p>
          <a:p>
            <a:pPr marL="762120" indent="-76212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sisters jumps up and hug me. </a:t>
            </a:r>
            <a:endParaRPr b="0" lang="en-US" sz="4000" spc="-1" strike="noStrike">
              <a:solidFill>
                <a:srgbClr val="ffffff"/>
              </a:solidFill>
              <a:latin typeface="Tahoma"/>
            </a:endParaRPr>
          </a:p>
          <a:p>
            <a:pPr marL="762120" indent="-76212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looks at me, smile, and turns to the girls. </a:t>
            </a:r>
            <a:endParaRPr b="0" lang="en-US" sz="4000" spc="-1" strike="noStrike">
              <a:solidFill>
                <a:srgbClr val="ffffff"/>
              </a:solidFill>
              <a:latin typeface="Tahoma"/>
            </a:endParaRPr>
          </a:p>
          <a:p>
            <a:pPr marL="762120" indent="-762120">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ir answers surprise Mama.</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0. Choose the answer that is written correctly. </a:t>
            </a:r>
            <a:endParaRPr b="0" lang="en-US" sz="40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ou seems fine to me.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girls bury their faces in Mama's dress.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pa whack him again and it was all over.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verybody smile when they realize Billy is not hur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1. Which of the following sentences does not contain a mistake? </a:t>
            </a:r>
            <a:endParaRPr b="0" lang="en-US" sz="4000" spc="-1" strike="noStrike">
              <a:solidFill>
                <a:srgbClr val="ffffcc"/>
              </a:solidFill>
              <a:latin typeface="Tahoma"/>
            </a:endParaRPr>
          </a:p>
        </p:txBody>
      </p:sp>
      <p:sp>
        <p:nvSpPr>
          <p:cNvPr id="149" name="PlaceHolder 2"/>
          <p:cNvSpPr>
            <a:spLocks noGrp="1"/>
          </p:cNvSpPr>
          <p:nvPr>
            <p:ph/>
          </p:nvPr>
        </p:nvSpPr>
        <p:spPr>
          <a:xfrm>
            <a:off x="457200" y="2133720"/>
            <a:ext cx="8229600" cy="4495680"/>
          </a:xfrm>
          <a:prstGeom prst="rect">
            <a:avLst/>
          </a:prstGeom>
          <a:noFill/>
          <a:ln w="0">
            <a:noFill/>
          </a:ln>
        </p:spPr>
        <p:txBody>
          <a:bodyPr anchor="t">
            <a:normAutofit/>
          </a:bodyPr>
          <a:p>
            <a:pPr marL="762120" indent="-762120">
              <a:spcBef>
                <a:spcPts val="9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rch trees leans out over the river. </a:t>
            </a:r>
            <a:endParaRPr b="0" lang="en-US" sz="3600" spc="-1" strike="noStrike">
              <a:solidFill>
                <a:srgbClr val="ffffff"/>
              </a:solidFill>
              <a:latin typeface="Tahoma"/>
            </a:endParaRPr>
          </a:p>
          <a:p>
            <a:pPr marL="762120" indent="-762120">
              <a:spcBef>
                <a:spcPts val="9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is stout legs help with leverage. </a:t>
            </a:r>
            <a:endParaRPr b="0" lang="en-US" sz="3600" spc="-1" strike="noStrike">
              <a:solidFill>
                <a:srgbClr val="ffffff"/>
              </a:solidFill>
              <a:latin typeface="Tahoma"/>
            </a:endParaRPr>
          </a:p>
          <a:p>
            <a:pPr marL="762120" indent="-762120">
              <a:spcBef>
                <a:spcPts val="9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on hunting teach Billy to be patient. </a:t>
            </a:r>
            <a:endParaRPr b="0" lang="en-US" sz="3600" spc="-1" strike="noStrike">
              <a:solidFill>
                <a:srgbClr val="ffffff"/>
              </a:solidFill>
              <a:latin typeface="Tahoma"/>
            </a:endParaRPr>
          </a:p>
          <a:p>
            <a:pPr marL="762120" indent="-762120">
              <a:spcBef>
                <a:spcPts val="9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grandfather's store sit on top of the mountain.</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32. Choose the answer that is written correctly. </a:t>
            </a:r>
            <a:endParaRPr b="0" lang="en-US" sz="40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randpa kid Billy.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Either Little Ann or Old Dan fall in the river.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wo years seems like a long time for a 12 year old. </a:t>
            </a:r>
            <a:endParaRPr b="0" lang="en-US" sz="4000" spc="-1" strike="noStrike">
              <a:solidFill>
                <a:srgbClr val="ffffff"/>
              </a:solidFill>
              <a:latin typeface="Tahoma"/>
            </a:endParaRPr>
          </a:p>
          <a:p>
            <a:pPr marL="762120" indent="-762120">
              <a:lnSpc>
                <a:spcPct val="90000"/>
              </a:lnSpc>
              <a:spcBef>
                <a:spcPts val="1001"/>
              </a:spcBef>
              <a:buClr>
                <a:srgbClr val="ffcc66"/>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y hears the wind in the top of the trees. </a:t>
            </a:r>
            <a:endParaRPr b="0" lang="en-US" sz="4000" spc="-1" strike="noStrike">
              <a:solidFill>
                <a:srgbClr val="ffffff"/>
              </a:solidFill>
              <a:latin typeface="Tahoma"/>
            </a:endParaRPr>
          </a:p>
          <a:p>
            <a:pPr marL="76212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Even More Examples:</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ven though the pronouns I and you are singular you use the plural forms of the verb with them.</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think </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think Billy will catch a raccoon soon.</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bet</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bet your boots the trap will work.</a:t>
            </a:r>
            <a:endParaRPr b="0" lang="en-US" sz="3600" spc="-1" strike="noStrike">
              <a:solidFill>
                <a:srgbClr val="ffffff"/>
              </a:solidFill>
              <a:latin typeface="Tahoma"/>
            </a:endParaRPr>
          </a:p>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re are many rules about subject verb agreement, but we are going to cover just one mor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44440"/>
            <a:ext cx="7927920" cy="508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on’t be confused by subjects that come at the end of the sentence.</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60"/>
            <a:ext cx="8229600" cy="6095880"/>
          </a:xfrm>
          <a:prstGeom prst="rect">
            <a:avLst/>
          </a:prstGeom>
          <a:noFill/>
          <a:ln w="0">
            <a:noFill/>
          </a:ln>
        </p:spPr>
        <p:txBody>
          <a:bodyPr anchor="t">
            <a:normAutofit fontScale="95000"/>
          </a:bodyPr>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Wrong</a:t>
            </a:r>
            <a:endParaRPr b="0" lang="en-US" sz="4000" spc="-1" strike="noStrike">
              <a:solidFill>
                <a:srgbClr val="ffffff"/>
              </a:solidFill>
              <a:latin typeface="Tahoma"/>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anding in the back of the store was Billy’s parents. (Turn the sentence around and it will be clearer. Billy’s parents was standing in the back of the room.)</a:t>
            </a:r>
            <a:endParaRPr b="0" lang="en-US" sz="4000" spc="-1" strike="noStrike">
              <a:solidFill>
                <a:srgbClr val="ffffff"/>
              </a:solidFill>
              <a:latin typeface="Tahoma"/>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Right</a:t>
            </a:r>
            <a:endParaRPr b="0" lang="en-US" sz="4000" spc="-1" strike="noStrike">
              <a:solidFill>
                <a:srgbClr val="ffffff"/>
              </a:solidFill>
              <a:latin typeface="Tahoma"/>
            </a:endParaRPr>
          </a:p>
          <a:p>
            <a:pPr marL="3258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anding in the back of the store were Billy’s parent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360"/>
            <a:ext cx="8229600" cy="6095880"/>
          </a:xfrm>
          <a:prstGeom prst="rect">
            <a:avLst/>
          </a:prstGeom>
          <a:noFill/>
          <a:ln w="0">
            <a:noFill/>
          </a:ln>
        </p:spPr>
        <p:txBody>
          <a:bodyPr anchor="t">
            <a:normAutofit fontScale="92000"/>
          </a:bodyPr>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Wrong</a:t>
            </a:r>
            <a:endParaRPr b="0" lang="en-US" sz="4000" spc="-1" strike="noStrike">
              <a:solidFill>
                <a:srgbClr val="ffffff"/>
              </a:solidFill>
              <a:latin typeface="Tahoma"/>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coon hunt come the passing out of trophies. (Turn the sentence around and it will be clearer. The passing out of trophies come at the end of the coon hunt.)</a:t>
            </a:r>
            <a:endParaRPr b="0" lang="en-US" sz="4000" spc="-1" strike="noStrike">
              <a:solidFill>
                <a:srgbClr val="ffffff"/>
              </a:solidFill>
              <a:latin typeface="Tahoma"/>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ahoma"/>
              </a:rPr>
              <a:t>Right</a:t>
            </a:r>
            <a:endParaRPr b="0" lang="en-US" sz="4000" spc="-1" strike="noStrike">
              <a:solidFill>
                <a:srgbClr val="ffffff"/>
              </a:solidFill>
              <a:latin typeface="Tahoma"/>
            </a:endParaRPr>
          </a:p>
          <a:p>
            <a:pPr marL="3153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t the end of the coon hunt comes the passing out of trophie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2T01:41:54Z</dcterms:created>
  <dc:creator>Gay  Miller</dc:creator>
  <dc:description/>
  <dc:language>en-US</dc:language>
  <cp:lastModifiedBy>RomaK</cp:lastModifiedBy>
  <dcterms:modified xsi:type="dcterms:W3CDTF">2015-09-02T09:41:31Z</dcterms:modified>
  <cp:revision>28</cp:revision>
  <dc:subject/>
  <dc:title>Subject/Verb Agreement</dc:title>
</cp:coreProperties>
</file>