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1BF6-AEAD-452D-8454-953849627A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ubject/Verb Agre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lural words that come after the verb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’s biggest problem are the many sleepless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’s biggest problem [singular subject] is [singular verb] the many sleepless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 for mountain l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es for mountain l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es for mountain l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nd sear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 racco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s racco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s raccoon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ld Dan se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lural words that come between a singular subject and the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pic of these books are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pic [singular subject] of these books is [singular verb]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dogs hunt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[singular subject] of the do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s [singular verb]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ne of the members of both hunting teams are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ne [singular subject] of the members of both hunting teams is [singular verb]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ngular subject needs a singular verb, and a plural subject needs a plural verb. (Reminder:  The verb is the action word in the sentence. The subject is who or what does the actio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s to be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 to be s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s to be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s a lollipo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 a lollip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s a lollipop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 w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hrases such as along with, together with, accompanied by, as well as, including and in addition 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n, as well as Old Dan, like to h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n [singular subject] , as well as Old Dan, likes [singular verb] to h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, in addition to all the other boys in the mountains, grow up loving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[singular subject], in addition to all the other boys in the mountains, grows [singular verb] up loving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ies about Billy being out all night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y about Billy being out all night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ies about Billy being out all night lo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 wor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are good for pupp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is good for pupp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s and verbs must work together. They must agree. A verb that ends in a single -s, -es, or -ies  is used with a singular no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is good for pupp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either/or and neither/n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nor Little Ann knows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oth parts are singular, so use a singular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nor the girls know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oth parts are plural, so use a plural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dogs nor Billy knows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art is plural and one part is singular. The singular part comes right before the verb, so use a singular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nor the hounds know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art is plural and one part is singular. The plural part comes right before the verb, so use a plural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hunt during the heat of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hunts during the heat of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s in the church cho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 in the church cho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s in the church choi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her s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Grandpa or Billy grind corn at the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Grandpa or Billy grinds corn at the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 Either Grandpa or Billy grinds corn at the general stor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(one) gri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 phrases referring to a single un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 noun phrase sounds plural but describes something we think of as a single unit. These noun phrases take a singular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ghetti and meatballs is [singular] my favorite di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 cream and cake is [singular] my favorite desse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jelly are Billy’s favorite sandwi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jelly is Billy’s favorite sandwi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is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are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is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s that look plural but are actually sing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s [singular] of the coon hunt spreads through the t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mps [singular] makes one's cheeks hurt and causes swelling and fev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[singular] is my best subject in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is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are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les is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b that does not end in a single s, es, or ies is used with a plural no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s of amo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 singular verb with sums of money or periods of ti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hundred dollars are a lot of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hundred dollars is a lot of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ours are a long time to w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ours is a long time to w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s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s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s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s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Billy (fix, fixes) breakfast before heading ho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boy pup (play, plays) with the girl p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Each of the names (sound, sounds) perfect to Billy's 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ith his extra money, Billy (buy, buys) gifts for his fami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Ma (cry, cries) with relief when she sees that Billy is sa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Billy names the boy pup Old Dan. He (like, likes) the sound of the na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Billy tells his sisters about the soda pop. It (taste, tastes) sweet and bubb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fire escape was a pipe that ran up the side of the building. It (appear, appears) funny-look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Little Ann was the smartest of the two hounds. She (guide, guides) Old Dan out of trou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Papa easily forgives Billy for running off. He (know, knows) he would have done the same thing at Billy's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. Which of the following is written correct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want to go to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dpa loves to tease Bi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isy give milk each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 please Mama with a h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 Which of the following sentences does not contain a mist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eat the candy one piece at a ti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s spread quickly through the mounta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or his grandpa like eating raw eggs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son Rawls narrates a wonderful story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raccoon [singular subject] jumps [singular verb] into the sycamore tr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raccoons [plural subject] jump [plural verb] into the sycamore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ttle Ann [singular subject] is [singular verb] ki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ttle Ann and Old Dan [plural subject] are [plural verb] k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. Choose the answer that is written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dogs bellows through the nig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an with all the dogs talk to Billy at the sto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on the playground fight Bi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body play games in the schooly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. Which of the following sentences does not contain a mist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mily love to eat dinner at 6:00 P.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sees Billy in his overa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ld K. C. Baking Powder can fill to the top with co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count his money every day until he has enough to buy the pup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. Choose the answer that is written correct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ay brings a new joy to Bi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play games through the woods going h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love his grandp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ound like the mountain lion would cry all night lo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 Brain Pop movie, then try the qui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brainpop.com/english/grammar/subjectverbagreemen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ig deal? Usually not. Here are a few rules just in case you find yourself conf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D022-1504-4AC0-B0CC-FF3B1FBD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172-09D5-4EB1-8966-F7DE021D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EE1-C741-4B5E-8068-093CF09B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E92-3644-4691-B15A-4E71D096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35A4-458B-4809-8BE4-041FCE38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5311-E237-4E70-AAD5-025A1506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6AB5-EDE9-4B2B-B232-CE78DCDD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DC78-7505-4232-943D-4409CB74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364D-2A5A-4E2E-B870-FA58C4FB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9369-F51D-4BA8-95CC-02DB4E70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3DCE-5731-416D-9584-EDCB91B7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E97-8D12-47E8-830C-D191B705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10C0-FF13-4FB7-A5B6-66270B3C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BA1D-F534-4D6D-B7CD-BE5C5BFE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E6F0-2E45-4BA0-A95F-9A2BC351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74FF-46E7-4EBE-B3D9-4F8AEB40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8B2C-C58E-448E-A4EA-8499D57A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1B26-85E3-457E-8D70-BD55D884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DB37-85A2-4956-B961-960D83EC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87D-74D5-49C2-9789-9A9AA33D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CF2-E503-4A3C-BD88-6B229EE6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1B6E-E37F-4417-A505-6790B302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A79-47A2-4765-A237-C1E1A55B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677-A7BE-4C8B-805B-E3396910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BA5E-9863-4CD6-A499-3A34D302B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C900-1F93-4AA1-BA0E-D993517C0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subjectverbagreement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905120"/>
            <a:ext cx="883908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ubject/Verb Agreement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9279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lural words that come after the verb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’s biggest problem are the many sleepless nigh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’s biggest problem [singular subject] is [singular verb] the many sleepless nigh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es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es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und sear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 raccoo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racco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racco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44440"/>
            <a:ext cx="792792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lural words that come between a singular subject and the verb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ic of these books are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topic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subject] of these book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dogs hunt we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ch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 subject] of the do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unt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we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 one of the members of both hunting teams are 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very 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subject] of the members of both hunting team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8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ingular subject needs a singular verb, and a plural subject needs a plural verb. (Reminder:  The verb is the action word in the sentence. The subject is who or what does the action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s to be se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 to be se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s to be se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nee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s a lollipop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 a lollipo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s a lollipop.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y w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1676160"/>
            <a:ext cx="8080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hrases such as along with, together with, accompanied by, as well as, including and in addition t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, as well as Old Dan, like to hu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[singular subject] , as well as Old Dan, likes [singular verb] to hu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380520"/>
            <a:ext cx="800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, in addition to all the other boys in the mountains, grow up loving hound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[singular subject], in addition to all the other boys in the mountains, grows [singular verb] up loving hound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ies about Billy being out all night l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y about Billy being out all night l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ies about Billy being out all night long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 wor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are good for pupp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is good for pupp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jects and verbs must work together. They must agree. A verb that ends in a single -s, -es, or -ies  is used with a singular nou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is good for puppie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244440"/>
            <a:ext cx="7775640" cy="508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either/or and neither/no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nor Little Ann knows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th parts are singular, so use a singular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nor the girls know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th parts are plural, so use a plural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dogs nor Billy knows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ne part is plural and one part is singular. The singular part comes right before the verb, so use a singular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nor the hounds know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ne part is plural and one part is singular. The plural part comes right before the verb, so use a plural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12193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hunt during the heat of the sum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hunts during the heat of the sum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s in the church cho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 in the church cho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s in the church choir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her s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Grandpa or Billy grind corn at the general st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Grandpa or Billy grinds corn at the general st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1905120"/>
          <a:ext cx="8007480" cy="4343400"/>
        </p:xfrm>
        <a:graphic>
          <a:graphicData uri="http://schemas.openxmlformats.org/drawingml/2006/table">
            <a:tbl>
              <a:tblPr/>
              <a:tblGrid>
                <a:gridCol w="3276720"/>
                <a:gridCol w="47307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Singular Su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Singular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 D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ow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)  Either Grandpa or Billy grinds corn at the general store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(one) gri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44080"/>
            <a:ext cx="7927920" cy="531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 phrases referring to a single uni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8007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times a noun phrase sounds plural but describes something we think of as a single unit. These noun phrases take a singular verb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aghetti and meatballs is [singular] my favorite dinn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e cream and cake is [singular] my favorite desser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anut butter and jelly are Billy’s favorite sandwi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anut butter and jelly is Billy’s favorite sandwi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is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are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is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244440"/>
            <a:ext cx="7851600" cy="539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s that look plural but are actually singula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7720" y="762120"/>
            <a:ext cx="8007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w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] of the coon hun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pread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ough the tow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ump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]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k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ne's cheeks hurt and causes swelling and fev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thematic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]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best subject in scho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is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are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is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verb tha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es 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nd in a single s, es, or ies is used with a plural nou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242120" cy="432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s of amoun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a singular verb with sums of money or periods of ti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hundred dollars are a lot of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hundred dollars is a lot of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hours are a long time to wa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hours is a long time to wa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s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s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244440"/>
            <a:ext cx="8537400" cy="280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ractice – Number your paper from 1 to 15. Write the correct answer for each of the following item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3200040"/>
            <a:ext cx="800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 Billy (fix, fixes) breakfast before heading ho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The boy pup (play, plays) with the girl pup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1905120"/>
          <a:ext cx="8007480" cy="4343400"/>
        </p:xfrm>
        <a:graphic>
          <a:graphicData uri="http://schemas.openxmlformats.org/drawingml/2006/table">
            <a:tbl>
              <a:tblPr/>
              <a:tblGrid>
                <a:gridCol w="4876920"/>
                <a:gridCol w="31305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lural Su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lural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 Dan and Little 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coon h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two fi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ly’s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Each of the names (sound, sounds) perfect to Billy's ear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With his extra money, Billy (buy, buys) gifts for his fami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Ma (cry, cries) with relief when she sees that Billy is saf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. Billy names the boy pup Old Dan. He (like, likes) the sound of the na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. Billy tells his sisters about the soda pop. It (taste, tastes) sweet and bubb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. The fire escape was a pipe that ran up the side of the building. It (appear, appears) funny-looki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. Little Ann was the smartest of the two hounds. She (guide, guides) Old Dan out of troub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. Papa easily forgives Billy for running off. He (know, knows) he would have done the same thing at Billy's ag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1. Which of the following is written correct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want to go to scho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andpa loves to tease Bil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isy give milk each da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 please Mama with a hu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. Which of the following sentences does not contain a mi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e eat the candy one piece at a ti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s spread quickly through the mountai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or his grandpa like eating raw eggs 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son Rawls narrates a wonderful story!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15228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ccoon [singular subject] jumps [singular verb] into the sycamore tre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ccoons [plural subject] jump [plural verb] into the sycamore tre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[singular subject] is [singular verb] kind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and Old Dan [plural subject] are [plural verb] kin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. Choose the answer that is written correct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the dogs bellows through the nigh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man with all the dogs talk to Billy at the stor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on the playground fight Bil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body play games in the schoolyar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4. Which of the following sentences does not contain a mi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mily love to eat dinner at 6:00 P.M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one sees Billy in his overall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ld K. C. Baking Powder can fill to the top with coi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count his money every day until he has enough to buy the pups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. Choose the answer that is written correct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day brings a new joy to Bil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play games through the woods going ho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love his grandpa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sound like the mountain lion would cry all night lo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ain Po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Brain Pop movie, then try the qui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brainpop.com/english/grammar/subjectverbagreement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8007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 big deal? Usually not. Here are a few rules just in case you find yourself confused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6:34:00Z</dcterms:created>
  <dc:creator>Gay  Miller</dc:creator>
  <dc:description/>
  <dc:language>en-US</dc:language>
  <cp:lastModifiedBy>RomaK</cp:lastModifiedBy>
  <dcterms:modified xsi:type="dcterms:W3CDTF">2015-09-02T09:38:20Z</dcterms:modified>
  <cp:revision>77</cp:revision>
  <dc:subject/>
  <dc:title>Subject/Verb Agreement </dc:title>
</cp:coreProperties>
</file>