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C37A-2DE4-4C33-B488-0C7DEB5744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ubject/Verb Agre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after the verb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are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’s biggest problem [singular subject] is [singular verb] the many sleepless nigh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 for mountain l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und searches for mountain l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nd sear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Dan sees raccoons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ld Dan se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lural words that come between a singular subject and the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of these books are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pic [singular subject] of these books is [singular verb]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dogs hunt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[singular subject] of the do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s [singular verb] w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of the members of both hunting teams are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one [singular subject] of the members of both hunting teams is [singular verb]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 to be s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of the traps needs to be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 a lollip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in the brown shoes wants a lollipop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y 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phrases such as along with, together with, accompanied by, as well as, including and in addition 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, as well as Old Dan, like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tle Ann [singular subject] , as well as Old Dan, likes [singular verb] to h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, in addition to all the other boys in the mountains, grow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[singular subject], in addition to all the other boys in the mountains, grows [singular verb] up loving hound do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y about Billy being out all night l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, as well as Mama, worries about Billy being out all night lo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wor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are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s and verbs must work together. They must agree. A verb that ends in a single -s, -es, or -ies  is used with a singular no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, in addition to some warm milk, is good for puppi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bread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either/or and neither/n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Little Ann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singular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nor the girl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oth parts are plural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dogs nor Billy knows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singular part comes right before the verb, so use a singular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nor the hounds know which way the raccoon r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ne part is plural and one part is singular. The plural part comes right before the verb, so use a plural verb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hunts during the heat of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 in the church cho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the boys or their mother sings in the church choir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her s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Grandpa or Billy grinds corn at the general st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 Either Grandpa or Billy grinds corn at the general stor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(one) gri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 phrases referring to a singl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 noun phrase sounds plural but describes something we think of as a single unit. These noun phrases take a singular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ghetti and meatballs is [singular] my favorit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 cream and cake is [singular] my favorite desse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are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anut butter and jelly is Billy’s favorite sandwi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are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aroni and cheese is a healthy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that look plural but are actually sing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s [singular] of the coon hunt spreads through the t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mps [singular] makes one's cheeks hurt and causes swelling and fev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[singular] is my best subject in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les are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les is contagi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b that does not end in a single s, es, or ies is used with a plural no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be confused by nouns of amou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 singular verb with sums of money or periods of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are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hundred dollars is a lot of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are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ours is a long time to w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ty dollars buys two coon hou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years totals a long time for Billy to save hi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Billy (fix, fixes) breakfast before heading ho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boy pup (play, plays) with the girl pu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ach of the names (sound, sounds) perfect to Billy's e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ith his extra money, Billy (buy, buys) gifts for his fami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 (cry, cries) with relief when she sees that Billy is sa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Billy names the boy pup Old Dan. He (like, likes) the sound of the na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Billy tells his sisters about the soda pop. It (taste, tastes) sweet and bubb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The fire escape was a pipe that ran up the side of the building. It (appear, appears) funny-look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Little Ann was the smartest of the two hounds. She (guide, guides) Old Dan out of trou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Papa easily forgives Billy for running off. He (know, knows) he would have done the same thing at Billy's 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. Which of the following is written correct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want to go to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dpa loves to tease Bi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isy give milk each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a please Mama with a h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eat the candy one piece at a tim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s spread quickly through the mounta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Billy or his grandpa like eating raw eggs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son Rawls narrates a wonderful story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 [singular subject] jumps [singular verb] into the sycamore tr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raccoons [plural subject] jump [plural verb] into the sycamor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[singular subject] is [singular verb] ki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ttle Ann and Old Dan [plural subject] are [plural verb] k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. Choose the answer that is written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dogs bellows through the nigh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an with all the dogs talk to Billy at the sto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 on the playground fight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body play games in the schooly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. Which of the following sentences does not contain a mist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mily love to eat dinner at 6:00 P.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sees Billy in his overal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K. C. Baking Powder can fill to the top with coi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count his money every day until he has enough to buy the pup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. Choose the answer that is written correct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day brings a new joy to B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ither Little Ann or Old Dan play games through the woods going h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ly love his grandp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ound like the mountain lion would cry all night lo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P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Brain Pop movie, then try the qui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brainpop.com/english/grammar/subjectverbagreemen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big deal? Usually not. Here are a few rules just in case you find yourself conf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0E7-717F-458A-8E78-BF1D6556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2658-CD32-44AD-B915-68AEE9CD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4F9-F589-4850-8B3F-D593A03E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FEF-C2FF-47D8-8918-028AE38D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5221-DFB1-41FA-9BAE-C0077D055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1223-74C4-44B9-8619-5D78AAAF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CECB-D182-408A-AE7F-0C13344A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1FD8-B44D-4D22-80F6-5E7AEE10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5921-D852-41D6-8E79-860C26DD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A04A-47A3-4E8F-9A7A-9ED69588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D5CD-88EA-4AA4-9857-525E1E54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DB6-A064-4908-8EC6-7424623F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FA86-D7A3-464F-BC6B-71882B66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E44E-537E-4B2B-A7E5-23CA0294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FE56-A134-4F9C-81B4-F44FBAE7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61BD-C306-456A-BC84-3979FB26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75E7-0D30-49E0-9F99-AF33CF66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C57-25AE-4A91-BDD8-835F76D2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C6A-010A-4B04-8E84-7F4A43E9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0458-45EE-4010-909B-4B0C3CC4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824-7AF4-4CCF-89CC-67B97CAD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452-FD2E-4F8C-8012-D37393AD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AA04-CBF5-40C9-AE5E-ADC10428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268A-34D4-4EE6-B4B9-EAD7D6CA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337-B5C0-446A-A615-CF0046F30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D1C6-73D7-4F3C-BA8D-6922DF7D5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subjectverbagreement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905120"/>
            <a:ext cx="883908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ubject/Verb Agreement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066320"/>
            <a:ext cx="792792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after the verb.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are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’s biggest problem [singular subject] is [singular verb] the many sleepless nigh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und searches for mountain l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und search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 raccoo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raccoon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d Dan se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44440"/>
            <a:ext cx="7927920" cy="592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lural words that come between a singular subject and the verb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ic of these books are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top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se book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dogs hunt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ac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 subject] of the do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nt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we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one of the members of both hunting teams are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very 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subject] of the members of both hunting team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i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 verb] 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8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ngular subject needs a singular verb, and a plural subject needs a plural verb. (Reminder:  The verb is the action word in the sentence. The subject is who or what does the action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 to be s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of the traps needs to be se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nee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 a lollipop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in the brown shoes wants a lollipop.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y w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1676160"/>
            <a:ext cx="8080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phrases such as along with, together with, accompanied by, as well as, including and in addition to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, as well as Old Dan, like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, as well as Old Dan, likes [singular verb] to hu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, in addition to all the other boys in the mountains, grow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[singular subject], in addition to all the other boys in the mountains, grows [singular verb] up loving hound dog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y about Billy being out all night l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, as well as Mama, worries about Billy being out all night long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worr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are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bjects and verbs must work together. They must agree. A verb that ends in a single -s, -es, or -ies  is used with a singular nou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, in addition to some warm milk, is good for puppi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nbread 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244440"/>
            <a:ext cx="7775640" cy="508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either/or and neither/no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Little Ann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singular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nor the girl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th parts are plural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dogs nor Billy knows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singular part comes right before the verb, so use a singular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nor the hounds know which way the raccoon ra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ne part is plural and one part is singular. The plural part comes right before the verb, so use a plural verb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8007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hunts during the heat of the summ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 in the church choi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the boys or their mother sings in the church choir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 s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Grandpa or Billy grinds corn at the general sto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3276720"/>
                <a:gridCol w="47307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Singular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m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)  Either Grandpa or Billy grinds corn at the general store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(one) gri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44080"/>
            <a:ext cx="7927920" cy="531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 phrases referring to a single uni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8007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times a noun phrase sounds plural but describes something we think of as a single unit. These noun phrases take a singular ver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aghetti and meatballs is [singular] my favorite din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 cream and cake is [singular] my favorite desser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2120" y="12189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are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anut butter and jelly is Billy’s favorite sandw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are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aroni and cheese is a healthy foo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244440"/>
            <a:ext cx="7851600" cy="53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that look plural but are actually singular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8007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[singular] of the coon hun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pread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ough the tow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mp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e's cheeks hurt and causes swelling and fever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ematic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singular]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y best subject in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are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asles is contagio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1828440"/>
            <a:ext cx="8007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verb tha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es 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nd in a single s, es, or ies is used with a plural nou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242120" cy="432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on’t be confused by nouns of amount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a singular verb with sums of money or periods of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are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ve hundred dollars is a lot of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Wro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are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igh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hours is a long time to wa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ty dollar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ys two coon houn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ich is correc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rrec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years total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 long time for Billy to save his mone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244440"/>
            <a:ext cx="8537400" cy="280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ractice – Number your paper from 1 to 15. Write the correct answer for each of the following item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3200040"/>
            <a:ext cx="800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  Billy (fix, fixes) breakfast before heading ho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. The boy pup (play, plays) with the girl pup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1905120"/>
          <a:ext cx="8007480" cy="4343400"/>
        </p:xfrm>
        <a:graphic>
          <a:graphicData uri="http://schemas.openxmlformats.org/drawingml/2006/table">
            <a:tbl>
              <a:tblPr/>
              <a:tblGrid>
                <a:gridCol w="4876920"/>
                <a:gridCol w="313056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Subjec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lural Ver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 Dan and Little An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coon houn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two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low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ly’s pare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. Each of the names (sound, sounds) perfect to Billy's ear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. With his extra money, Billy (buy, buys) gifts for his fami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a (cry, cries) with relief when she sees that Billy is saf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 Billy names the boy pup Old Dan. He (like, likes) the sound of the na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7. Billy tells his sisters about the soda pop. It (taste, tastes) sweet and bubb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. The fire escape was a pipe that ran up the side of the building. It (appear, appears) funny-looki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. Little Ann was the smartest of the two hounds. She (guide, guides) Old Dan out of troubl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. Papa easily forgives Billy for running off. He (know, knows) he would have done the same thing at Billy's ag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. Which of the following is written cor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want to go to scho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ndpa loves to tease Bil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isy give milk each d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pa please Mama with a hu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eat the candy one piece at a tim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s spread quickly through the mounta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ther Billy or his grandpa like eating raw eggs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60520" indent="-560520">
              <a:spcBef>
                <a:spcPts val="799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son Rawls narrates a wonderful story!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52280"/>
            <a:ext cx="8007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 [singular subject] jumps [singular verb] into the sycamore tre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ccoons [plural subject] jump [plural verb] into the sycamore tre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[singular subject] is [singular verb] kin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ttle Ann and Old Dan [plural subject] are [plural verb] kin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 Choose the answer that is written correctl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dogs bellows through the night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man with all the dogs talk to Billy at the store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y on the playground fight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body play games in the schoolyar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4. Which of the following sentences does not contain a mi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ily love to eat dinner at 6:00 P.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one sees Billy in his overall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K. C. Baking Powder can fill to the top with coin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spcBef>
                <a:spcPts val="1001"/>
              </a:spcBef>
              <a:buClr>
                <a:srgbClr val="99ff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count his money every day until he has enough to buy the pups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. Choose the answer that is written correct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ch day brings a new joy to Bill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ther Little Ann or Old Dan play games through the woods going hom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love his grandp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spcBef>
                <a:spcPts val="1001"/>
              </a:spcBef>
              <a:buClr>
                <a:srgbClr val="00c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sound like the mountain lion would cry all night long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0"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2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rain Pop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the Brain Pop movie, then try the qui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www.brainpop.com/english/grammar/subjectverbagreemen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8007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No big deal? Usually not. Here are a few rules just in case you find yourself confused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6:34:00Z</dcterms:created>
  <dc:creator>Gay  Miller</dc:creator>
  <dc:description/>
  <dc:language>en-US</dc:language>
  <cp:lastModifiedBy>RomaK</cp:lastModifiedBy>
  <dcterms:modified xsi:type="dcterms:W3CDTF">2015-09-02T09:38:20Z</dcterms:modified>
  <cp:revision>77</cp:revision>
  <dc:subject/>
  <dc:title>Subject/Verb Agreement </dc:title>
</cp:coreProperties>
</file>