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812B-5257-446F-8D68-B2FB020150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ubject/Verb Agre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plural words that come after the verb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’s biggest problem are the many sleepless nigh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’s biggest problem [singular subject] is [singular verb] the many sleepless nigh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nd search for mountain l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nd searches for mountain l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nd searches for mountain l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nd sear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Dan see racco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Dan sees racco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Dan sees raccoon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ld Dan se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plural words that come between a singular subject and the ver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pic of these books are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pic [singular subject] of these books is [singular verb]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dogs hunt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[singular subject] of the do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s [singular verb]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one of the members of both hunting teams are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one [singular subject] of the members of both hunting teams is [singular verb]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ingular subject needs a singular verb, and a plural subject needs a plural verb. (Reminder:  The verb is the action word in the sentence. The subject is who or what does the action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traps needs to be 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traps need to be s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traps needs to be 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nee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in the brown shoes wants a lollipo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in the brown shoes want a lollipo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in the brown shoes wants a lollipop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 w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phrases such as along with, together with, accompanied by, as well as, including and in addition 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Ann, as well as Old Dan, like to hu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Ann [singular subject] , as well as Old Dan, likes [singular verb] to hu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, in addition to all the other boys in the mountains, grow up loving hound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[singular subject], in addition to all the other boys in the mountains, grows [singular verb] up loving hound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, as well as Mama, worries about Billy being out all night l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, as well as Mama, worry about Billy being out all night l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, as well as Mama, worries about Billy being out all night lo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 wor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, in addition to some warm milk, are good for pupp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, in addition to some warm milk, is good for pupp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s and verbs must work together. They must agree. A verb that ends in a single -s, -es, or -ies  is used with a singular no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, in addition to some warm milk, is good for puppi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either/or and neither/n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Billy nor Little Ann knows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oth parts are singular, so use a singular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nor the girls know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oth parts are plural, so use a plural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dogs nor Billy knows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art is plural and one part is singular. The singular part comes right before the verb, so use a singular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Billy nor the hounds know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art is plural and one part is singular. The plural part comes right before the verb, so use a plural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Little Ann or Old Dan hunt during the heat of the su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Little Ann or Old Dan hunts during the heat of the su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or their mother sings in the church cho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or their mother sing in the church cho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or their mother sings in the church choir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her s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Grandpa or Billy grind corn at the general 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Grandpa or Billy grinds corn at the general 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 Either Grandpa or Billy grinds corn at the general stor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(one) gri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noun phrases referring to a single un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 noun phrase sounds plural but describes something we think of as a single unit. These noun phrases take a singular ver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ghetti and meatballs is [singular] my favorite din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 cream and cake is [singular] my favorite desse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jelly are Billy’s favorite sandwi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jelly is Billy’s favorite sandwi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aroni and cheese is a healthy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aroni and cheese are a healthy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aroni and cheese is a healthy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nouns that look plural but are actually sing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s [singular] of the coon hunt spreads through the t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mps [singular] makes one's cheeks hurt and causes swelling and fev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 [singular] is my best subject in sch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 is contagi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 are contagi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asles is contagi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b that does not end in a single s, es, or ies is used with a plural no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nouns of amou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 singular verb with sums of money or periods of ti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ve hundred dollars are a lot of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ve hundred dollars is a lot of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hours are a long time to w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hours is a long time to w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y dollars buy two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y dollars buys two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y dollars buys two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years totals a long time for Billy to save hi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years total a long time for Billy to save hi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years totals a long time for Billy to save hi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– Number your paper from 1 to 15. Write the correct answer for each of the following i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Billy (fix, fixes) breakfast before heading ho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boy pup (play, plays) with the girl pu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Each of the names (sound, sounds) perfect to Billy's e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With his extra money, Billy (buy, buys) gifts for his fami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Ma (cry, cries) with relief when she sees that Billy is saf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Billy names the boy pup Old Dan. He (like, likes) the sound of the na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Billy tells his sisters about the soda pop. It (taste, tastes) sweet and bubb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The fire escape was a pipe that ran up the side of the building. It (appear, appears) funny-look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Little Ann was the smartest of the two hounds. She (guide, guides) Old Dan out of trou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Papa easily forgives Billy for running off. He (know, knows) he would have done the same thing at Billy's 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. Which of the following is written correctl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want to go to sch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dpa loves to tease Bi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isy give milk each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 please Mama with a h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. Which of the following sentences does not contain a mist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eat the candy one piece at a ti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s spread quickly through the mounta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Billy or his grandpa like eating raw eggs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son Rawls narrates a wonderful story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raccoon [singular subject] jumps [singular verb] into the sycamore tr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raccoons [plural subject] jump [plural verb] into the sycamore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ttle Ann [singular subject] is [singular verb] ki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ttle Ann and Old Dan [plural subject] are [plural verb] k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. Choose the answer that is written correc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dogs bellows through the nigh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an with all the dogs talk to Billy at the sto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on the playground fight Bil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body play games in the schooly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. Which of the following sentences does not contain a mist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mily love to eat dinner at 6:00 P.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sees Billy in his overal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ld K. C. Baking Powder can fill to the top with co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count his money every day until he has enough to buy the pup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. Choose the answer that is written correct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day brings a new joy to Bil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Little Ann or Old Dan play games through the woods going h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love his grandp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ound like the mountain lion would cry all night lo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 P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the Brain Pop movie, then try the qui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brainpop.com/english/grammar/subjectverbagreemen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ig deal? Usually not. Here are a few rules just in case you find yourself conf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F4FB-B0C3-41D7-81BD-4EA42ECC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9F5C-4910-477A-9E77-7213CD94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547C-9B5E-43BA-8F21-804A9E71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3F35-1FF3-4D6C-9D28-0D1874AA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FDBA-1E6C-4E5A-802C-08EE112A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3125-0368-469A-A004-65592AA6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75EF-53DE-497B-AAE5-075CEE71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FB57-0E8C-4770-9B5E-AE020BAA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CFEF-E4B1-4C39-97F2-C758988C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AE3F-0C28-4F06-B723-0B4B4ADD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FFD9-67E6-4AE9-A053-BED38FF5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9E4C-FC59-42EE-89C0-DBAE83E1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1AB6-CA2B-443D-9537-4AB5F3F7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56E5-55DE-427E-ABB5-6AD9284F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AE14-F66C-4410-ADFC-1E3AD410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E3DB-8EF3-4192-BD92-4FDCF5CD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0A35-FD4D-4F34-AC80-E38C2A89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ECD4-F8BD-4DBA-ABE7-B954E84F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48C5-E0C7-40E8-8467-7CED60DD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C8E9-538F-4D2A-BB97-49E1A3A8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C746-8D3C-4622-9FBC-A9C3F0D0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4E22-E56B-42BD-9395-2ACE5589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7744-5E16-4BBF-AC55-935FA2FC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3699-13AE-4ABC-B341-B708C7FF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7776-9BD8-4F17-A2C9-EA97B12E9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4316-BAE7-4A02-985C-B95FAB9193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ainpop.com/english/grammar/subjectverbagreement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905120"/>
            <a:ext cx="883908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Subject/Verb Agreement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9279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plural words that come after the verb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’s biggest problem are the many sleepless nigh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’s biggest problem [singular subject] is [singular verb] the many sleepless nigh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und search for mountain l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und searches for mountain l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und searches for mountain l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und sear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 raccoo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s raccoon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s raccoon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44440"/>
            <a:ext cx="7927920" cy="592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plural words that come between a singular subject and the verb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opic of these books are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topic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subject] of these book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verb]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dogs hunt we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ach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singular subject] of the dog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unt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verb] we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 one of the members of both hunting teams are he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very 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subject] of the members of both hunting team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i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verb] he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778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ingular subject needs a singular verb, and a plural subject needs a plural verb. (Reminder:  The verb is the action word in the sentence. The subject is who or what does the action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traps needs to be se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traps need to be se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traps needs to be se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nee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in the brown shoes wants a lollipop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in the brown shoes want a lollipop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in the brown shoes wants a lollipop.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y w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1676160"/>
            <a:ext cx="8080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phrases such as along with, together with, accompanied by, as well as, including and in addition to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, as well as Old Dan, like to hu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 [singular subject] , as well as Old Dan, likes [singular verb] to hu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7720" y="380520"/>
            <a:ext cx="8007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, in addition to all the other boys in the mountains, grow up loving hound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[singular subject], in addition to all the other boys in the mountains, grows [singular verb] up loving hound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, as well as Mama, worries about Billy being out all night l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, as well as Mama, worry about Billy being out all night l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, as well as Mama, worries about Billy being out all night long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 wor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, in addition to some warm milk, are good for pupp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, in addition to some warm milk, is good for pupp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bjects and verbs must work together. They must agree. A verb that ends in a single -s, -es, or -ies  is used with a singular nou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, in addition to some warm milk, is good for puppies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 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244440"/>
            <a:ext cx="7775640" cy="508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either/or and neither/nor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Billy nor Little Ann knows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th parts are singular, so use a singular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nor the girls know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th parts are plural, so use a plural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dogs nor Billy knows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One part is plural and one part is singular. The singular part comes right before the verb, so use a singular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Billy nor the hounds know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One part is plural and one part is singular. The plural part comes right before the verb, so use a plural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7720" y="1219320"/>
            <a:ext cx="800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Little Ann or Old Dan hunt during the heat of the summ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Little Ann or Old Dan hunts during the heat of the summ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or their mother sings in the church cho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or their mother sing in the church cho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or their mother sings in the church choir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ther s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Grandpa or Billy grind corn at the general sto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Grandpa or Billy grinds corn at the general sto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amp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1905120"/>
          <a:ext cx="8007480" cy="4343400"/>
        </p:xfrm>
        <a:graphic>
          <a:graphicData uri="http://schemas.openxmlformats.org/drawingml/2006/table">
            <a:tbl>
              <a:tblPr/>
              <a:tblGrid>
                <a:gridCol w="3276720"/>
                <a:gridCol w="473076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Singular Subj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Singular Ver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 D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low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 An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)  Either Grandpa or Billy grinds corn at the general store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(one) gri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44080"/>
            <a:ext cx="7927920" cy="531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noun phrases referring to a single unit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7720" y="228600"/>
            <a:ext cx="8007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times a noun phrase sounds plural but describes something we think of as a single unit. These noun phrases take a singular verb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aghetti and meatballs is [singular] my favorite dinn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e cream and cake is [singular] my favorite desser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anut butter and jelly are Billy’s favorite sandwic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anut butter and jelly is Billy’s favorite sandwic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aroni and cheese is a healthy foo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aroni and cheese are a healthy foo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aroni and cheese is a healthy foo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244440"/>
            <a:ext cx="7851600" cy="539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nouns that look plural but are actually singular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7720" y="762120"/>
            <a:ext cx="8007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w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] of the coon hunt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pread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ough the tow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ump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singular]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k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ne's cheeks hurt and causes swelling and feve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thematic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singular]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best subject in schoo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les is contagio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les are contagio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les is contagio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verb that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es 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nd in a single s, es, or ies is used with a plural nou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242120" cy="432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nouns of amount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 a singular verb with sums of money or periods of ti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ve hundred dollars are a lot of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ve hundred dollars is a lot of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hours are a long time to wai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hours is a long time to wai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ty dollar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 two coon houn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ty dollar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s two coon houn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ty dollar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s two coon houn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years total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 long time for Billy to save his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years tota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 long time for Billy to save his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years total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 long time for Billy to save his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244440"/>
            <a:ext cx="8537400" cy="280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ractice – Number your paper from 1 to 15. Write the correct answer for each of the following item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3200040"/>
            <a:ext cx="800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 Billy (fix, fixes) breakfast before heading ho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The boy pup (play, plays) with the girl pup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amp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38080" y="1905120"/>
          <a:ext cx="8007480" cy="4343400"/>
        </p:xfrm>
        <a:graphic>
          <a:graphicData uri="http://schemas.openxmlformats.org/drawingml/2006/table">
            <a:tbl>
              <a:tblPr/>
              <a:tblGrid>
                <a:gridCol w="4876920"/>
                <a:gridCol w="313056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Plural Subj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Plural Ver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 Dan and Little An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coon ho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two fir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lly’s par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Each of the names (sound, sounds) perfect to Billy's ear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 With his extra money, Billy (buy, buys) gifts for his fami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 Ma (cry, cries) with relief when she sees that Billy is saf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. Billy names the boy pup Old Dan. He (like, likes) the sound of the na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. Billy tells his sisters about the soda pop. It (taste, tastes) sweet and bubb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. The fire escape was a pipe that ran up the side of the building. It (appear, appears) funny-looking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. Little Ann was the smartest of the two hounds. She (guide, guides) Old Dan out of troub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. Papa easily forgives Billy for running off. He (know, knows) he would have done the same thing at Billy's ag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1. Which of the following is written correct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want to go to schoo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andpa loves to tease Bil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isy give milk each da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 please Mama with a hu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. Which of the following sentences does not contain a mist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e eat the candy one piece at a ti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ws spread quickly through the mountai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Billy or his grandpa like eating raw eggs 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son Rawls narrates a wonderful story!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15228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ccoon [singular subject] jumps [singular verb] into the sycamore tre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ccoons [plural subject] jump [plural verb] into the sycamore tre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 [singular subject] is [singular verb] kind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 and Old Dan [plural subject] are [plural verb] kin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3. Choose the answer that is written correct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of the dogs bellows through the nigh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man with all the dogs talk to Billy at the stor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on the playground fight Bil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body play games in the schoolyar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4. Which of the following sentences does not contain a mist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amily love to eat dinner at 6:00 P.M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one sees Billy in his overall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old K. C. Baking Powder can fill to the top with coi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count his money every day until he has enough to buy the pups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. Choose the answer that is written correct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day brings a new joy to Bil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Little Ann or Old Dan play games through the woods going hom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love his grandpa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sound like the mountain lion would cry all night long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rain Po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the Brain Pop movie, then try the qui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brainpop.com/english/grammar/subjectverbagreement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62120" y="457200"/>
            <a:ext cx="8007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No big deal? Usually not. Here are a few rules just in case you find yourself confused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6:34:00Z</dcterms:created>
  <dc:creator>Gay  Miller</dc:creator>
  <dc:description/>
  <dc:language>en-US</dc:language>
  <cp:lastModifiedBy>RomaK</cp:lastModifiedBy>
  <dcterms:modified xsi:type="dcterms:W3CDTF">2015-09-02T09:38:20Z</dcterms:modified>
  <cp:revision>77</cp:revision>
  <dc:subject/>
  <dc:title>Subject/Verb Agreement </dc:title>
</cp:coreProperties>
</file>