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E6CD7-E8D8-428D-A45E-0305BEA59A7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ubject/Verb Agreem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’t be confused by plural words that come after the verb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y’s biggest problem are the many sleepless nigh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y’s biggest problem [singular subject] is [singular verb] the many sleepless nigh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ound search for mountain lio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ound searches for mountain l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ound searches for mountain l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und sear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d Dan see raccoo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d Dan sees raccoo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d Dan sees raccoons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ld Dan se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’t be confused by plural words that come between a singular subject and the ver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pic of these books are do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pic [singular subject] of these books is [singular verb] do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of the dogs hunt we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[singular subject] of the dog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nts [singular verb] we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one of the members of both hunting teams are 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one [singular subject] of the members of both hunting teams is [singular verb] 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ingular subject needs a singular verb, and a plural subject needs a plural verb. (Reminder:  The verb is the action word in the sentence. The subject is who or what does the action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of the traps needs to be se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of the traps need to be s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of the traps needs to be se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nee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y in the brown shoes wants a lollipop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y in the brown shoes want a lollipo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y in the brown shoes wants a lollipop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y w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’t be confused by phrases such as along with, together with, accompanied by, as well as, including and in addition t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ttle Ann, as well as Old Dan, like to hu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ttle Ann [singular subject] , as well as Old Dan, likes [singular verb] to hu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y, in addition to all the other boys in the mountains, grow up loving hound do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y [singular subject], in addition to all the other boys in the mountains, grows [singular verb] up loving hound do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pa, as well as Mama, worries about Billy being out all night lo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pa, as well as Mama, worry about Billy being out all night lo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pa, as well as Mama, worries about Billy being out all night long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pa wor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nbread, in addition to some warm milk, are good for pupp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nbread, in addition to some warm milk, is good for pupp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jects and verbs must work together. They must agree. A verb that ends in a single -s, -es, or -ies  is used with a singular nou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nbread, in addition to some warm milk, is good for puppie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nbread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’t be confused by either/or and neither/n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ther Billy nor Little Ann knows which way the raccoon ra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Both parts are singular, so use a singular verb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ther the boys nor the girls know which way the raccoon ra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Both parts are plural, so use a plural verb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ther the dogs nor Billy knows which way the raccoon ra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One part is plural and one part is singular. The singular part comes right before the verb, so use a singular verb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ther Billy nor the hounds know which way the raccoon ra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One part is plural and one part is singular. The plural part comes right before the verb, so use a plural verb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o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ither Little Ann or Old Dan hunt during the heat of the summ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ither Little Ann or Old Dan hunts during the heat of the summ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ther the boys or their mother sings in the church choi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ther the boys or their mother sing in the church choi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ther the boys or their mother sings in the church choir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her s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ither Grandpa or Billy grind corn at the general sto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ither Grandpa or Billy grinds corn at the general sto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 Either Grandpa or Billy grinds corn at the general store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ither (one) gri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’t be confused by noun phrases referring to a single un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imes a noun phrase sounds plural but describes something we think of as a single unit. These noun phrases take a singular ver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aghetti and meatballs is [singular] my favorite dinn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ce cream and cake is [singular] my favorite desser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anut butter and jelly are Billy’s favorite sandwic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anut butter and jelly is Billy’s favorite sandwic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caroni and cheese is a healthy foo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caroni and cheese are a healthy foo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caroni and cheese is a healthy foo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’t be confused by nouns that look plural but are actually singul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ws [singular] of the coon hunt spreads through the t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mps [singular] makes one's cheeks hurt and causes swelling and fev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hematics [singular] is my best subject in scho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les is contagio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les are contagio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easles is contagio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erb that does not end in a single s, es, or ies is used with a plural no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’t be confused by nouns of amou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a singular verb with sums of money or periods of tim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ve hundred dollars are a lot of mone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ve hundred dollars is a lot of mone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hours are a long time to wa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hours is a long time to wa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ty dollars buy two coon houn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ty dollars buys two coon houn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ty dollars buys two coon houn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years totals a long time for Billy to save his mone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years total a long time for Billy to save his mone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years totals a long time for Billy to save his mone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actice – Number your paper from 1 to 15. Write the correct answer for each of the following i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 Billy (fix, fixes) breakfast before heading hom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The boy pup (play, plays) with the girl pup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Each of the names (sound, sounds) perfect to Billy's ea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With his extra money, Billy (buy, buys) gifts for his famil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Ma (cry, cries) with relief when she sees that Billy is saf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Billy names the boy pup Old Dan. He (like, likes) the sound of the nam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 Billy tells his sisters about the soda pop. It (taste, tastes) sweet and bubbl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. The fire escape was a pipe that ran up the side of the building. It (appear, appears) funny-looking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. Little Ann was the smartest of the two hounds. She (guide, guides) Old Dan out of troub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. Papa easily forgives Billy for running off. He (know, knows) he would have done the same thing at Billy's ag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. Which of the following is written correctl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y want to go to scho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ndpa loves to tease Bil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isy give milk each 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pa please Mama with a hu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. Which of the following sentences does not contain a mistak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e eat the candy one piece at a tim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s spread quickly through the mountai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ther Billy or his grandpa like eating raw eggs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son Rawls narrates a wonderful story!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raccoon [singular subject] jumps [singular verb] into the sycamore tre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raccoons [plural subject] jump [plural verb] into the sycamore tre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ittle Ann [singular subject] is [singular verb] kin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ittle Ann and Old Dan [plural subject] are [plural verb] ki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3. Choose the answer that is written correct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of the dogs bellows through the nigh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oman with all the dogs talk to Billy at the stor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y on the playground fight Bill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body play games in the schooly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. Which of the following sentences does not contain a mistak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mily love to eat dinner at 6:00 P.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one sees Billy in his overal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old K. C. Baking Powder can fill to the top with coi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y count his money every day until he has enough to buy the pups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. Choose the answer that is written correctl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day brings a new joy to Bill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ither Little Ann or Old Dan play games through the woods going ho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y love his grandp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sound like the mountain lion would cry all night long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in P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ch the Brain Pop movie, then try the quiz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brainpop.com/english/grammar/subjectverbagreement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big deal? Usually not. Here are a few rules just in case you find yourself confus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7696-4DB1-480F-A84B-45634B259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C56D-93A2-42D6-B905-EFDC4FBBD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C44C-5832-45A4-9A8E-1E3F3A0D3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F670-C7A6-4302-B609-7DCF60CA9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4ECF1-8B90-4EA9-A6B4-5693F645B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AE063-1477-4398-A093-492D0F21B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4430D-882D-48DD-A5D3-47C6B33AD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985DB-6A0E-40B6-93BB-B464CB9AE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CE6A3-02AF-4FD4-A964-02F4C01FE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63ADC-C015-4BBF-95E9-07807D5A6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01B8B-14B6-4C56-8306-643E943C5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1521-8743-4FED-A3DE-A57F5FCC1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C4D2F-86C4-4A14-A854-870F6A98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7A687-C9DC-4D4D-B04D-5B855EC4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BA9F2-E7ED-440D-8352-66890B724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6C361-3E03-4DE3-869B-0249EC515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84F14-B85A-49E6-B35F-966CE191F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3646-9CCD-4796-B11B-C428CFE82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782B-4F10-4B2C-BCD8-89A8F04E5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BDFB-D5E8-4626-A46A-F00F55586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8D93-A203-440E-BC5E-1F89DFD24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9F01-5BCC-4899-8B00-814AA6D9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488A-D842-49D6-82C4-861223CC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36F1-56D9-4A6E-A692-528D3650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1AC86-B800-43F4-BB75-23F9092C92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8A9FD-C52F-4A8D-AEBB-6C168D86AC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brainpop.com/english/grammar/subjectverbagreement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1905120"/>
            <a:ext cx="883908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Subject/Verb Agreement 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1066320"/>
            <a:ext cx="7927920" cy="487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on’t be confused by plural words that come after the verb.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7720" y="114300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Wro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lly’s biggest problem are the many sleepless night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Righ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lly’s biggest problem [singular subject] is [singular verb] the many sleepless night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ich is correc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ound search for mountain lion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ound searches for mountain lion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rec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ound searches for mountain lion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und search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ich is correc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ld Dan see raccoons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ld Dan sees raccoons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rec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ld Dan sees raccoons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ld Dan see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44440"/>
            <a:ext cx="7927920" cy="592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on’t be confused by plural words that come between a singular subject and the verb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Wro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topic of these books are dog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Righ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topic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[singular subject] of these books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[singular verb] dog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Wro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ach of the dogs hunt well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Righ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ach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[singular subject] of the dog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unt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[singular verb] well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Wro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very one of the members of both hunting teams are her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Righ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very on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[singular subject] of the members of both hunting team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i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[singular verb] her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914400" y="1828440"/>
            <a:ext cx="77788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singular subject needs a singular verb, and a plural subject needs a plural verb. (Reminder:  The verb is the action word in the sentence. The subject is who or what does the action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ich is correc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ach of the traps needs to be set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ach of the traps need to be se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rec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ach of the traps needs to be set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ach need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ich is correc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oy in the brown shoes wants a lollipop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oy in the brown shoes want a lollipop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rec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oy in the brown shoes wants a lollipop.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oy wa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1760" y="1676160"/>
            <a:ext cx="808020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on’t be confused by phrases such as along with, together with, accompanied by, as well as, including and in addition to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Wro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ttle Ann, as well as Old Dan, like to hun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Righ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ttle Ann [singular subject] , as well as Old Dan, likes [singular verb] to hun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37720" y="380520"/>
            <a:ext cx="8007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Wro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lly, in addition to all the other boys in the mountains, grow up loving hound dog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Righ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lly [singular subject], in addition to all the other boys in the mountains, grows [singular verb] up loving hound dog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ich is correc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pa, as well as Mama, worries about Billy being out all night long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pa, as well as Mama, worry about Billy being out all night long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rec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pa, as well as Mama, worries about Billy being out all night long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pa worr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ich is correc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rnbread, in addition to some warm milk, are good for puppi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rnbread, in addition to some warm milk, is good for puppi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7720" y="1828440"/>
            <a:ext cx="8007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ubjects and verbs must work together. They must agree. A verb that ends in a single -s, -es, or -ies  is used with a singular noun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rec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rnbread, in addition to some warm milk, is good for puppies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rnbread 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244440"/>
            <a:ext cx="7775640" cy="508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on’t be confused by either/or and neither/nor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ither Billy nor Little Ann knows which way the raccoon ran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Both parts are singular, so use a singular verb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ither the boys nor the girls know which way the raccoon ran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Both parts are plural, so use a plural verb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ither the dogs nor Billy knows which way the raccoon ran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One part is plural and one part is singular. The singular part comes right before the verb, so use a singular verb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ither Billy nor the hounds know which way the raccoon ran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One part is plural and one part is singular. The plural part comes right before the verb, so use a plural verb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7720" y="1219320"/>
            <a:ext cx="8007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Wrong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ither Little Ann or Old Dan hunt during the heat of the summe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Righ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ither Little Ann or Old Dan hunts during the heat of the summe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ich is correc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ither the boys or their mother sings in the church choi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ither the boys or their mother sing in the church choi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rec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ither the boys or their mother sings in the church choir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ther sing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ich is correc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ither Grandpa or Billy grind corn at the general stor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ither Grandpa or Billy grinds corn at the general stor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xamp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838080" y="1905120"/>
          <a:ext cx="8007480" cy="4343400"/>
        </p:xfrm>
        <a:graphic>
          <a:graphicData uri="http://schemas.openxmlformats.org/drawingml/2006/table">
            <a:tbl>
              <a:tblPr/>
              <a:tblGrid>
                <a:gridCol w="3276720"/>
                <a:gridCol w="4730760"/>
              </a:tblGrid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</a:rPr>
                        <a:t>Singular Subjec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</a:rPr>
                        <a:t>Singular Ver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ld D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llow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ttle An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ar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low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x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rec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)  Either Grandpa or Billy grinds corn at the general store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ither (one) grind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44080"/>
            <a:ext cx="7927920" cy="531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on’t be confused by noun phrases referring to a single unit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837720" y="228600"/>
            <a:ext cx="80074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metimes a noun phrase sounds plural but describes something we think of as a single unit. These noun phrases take a singular verb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paghetti and meatballs is [singular] my favorite dinne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ce cream and cake is [singular] my favorite desser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762120" y="1218960"/>
            <a:ext cx="8007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Wro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eanut butter and jelly are Billy’s favorite sandwich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Righ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eanut butter and jelly is Billy’s favorite sandwich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ich is correc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caroni and cheese is a healthy foo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caroni and cheese are a healthy foo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rec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caroni and cheese is a healthy foo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720" y="244440"/>
            <a:ext cx="7851600" cy="539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on’t be confused by nouns that look plural but are actually singular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837720" y="762120"/>
            <a:ext cx="80074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ew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[singular] of the coon hunt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preads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rough the town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umps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[singular]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ake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ne's cheeks hurt and causes swelling and fever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athematics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[singular]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s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y best subject in school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ich is correc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asles is contagiou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asles are contagiou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rec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asles is contagiou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7720" y="1828440"/>
            <a:ext cx="8007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verb that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oes no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end in a single s, es, or ies is used with a plural noun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42640" y="1066320"/>
            <a:ext cx="7242120" cy="432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on’t be confused by nouns of amount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e a singular verb with sums of money or periods of tim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837720" y="12189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Wro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ve hundred dollars are a lot of mone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Right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ve hundred dollars is a lot of mone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837720" y="1143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Wro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ree hours are a long time to wai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Right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ree hours is a long time to wai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ich is correc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orty dollars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uy two coon hound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orty dollars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uys two coon hound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rec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orty dollars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uys two coon hound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ich is correc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wo years total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 long time for Billy to save his mone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wo years total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 long time for Billy to save his mone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rec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wo years total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 long time for Billy to save his mone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560" y="244440"/>
            <a:ext cx="8537400" cy="280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Practice – Number your paper from 1 to 15. Write the correct answer for each of the following items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7720" y="3200040"/>
            <a:ext cx="80074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.  Billy (fix, fixes) breakfast before heading hom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. The boy pup (play, plays) with the girl pup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xamp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838080" y="1905120"/>
          <a:ext cx="8007480" cy="4343400"/>
        </p:xfrm>
        <a:graphic>
          <a:graphicData uri="http://schemas.openxmlformats.org/drawingml/2006/table">
            <a:tbl>
              <a:tblPr/>
              <a:tblGrid>
                <a:gridCol w="4876920"/>
                <a:gridCol w="3130560"/>
              </a:tblGrid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</a:rPr>
                        <a:t>Plural Subjec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</a:rPr>
                        <a:t>Plural Ver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ld Dan and Little An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ll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coon houn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a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two fir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l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lly’s pare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. Each of the names (sound, sounds) perfect to Billy's ears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. With his extra money, Billy (buy, buys) gifts for his family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5. Ma (cry, cries) with relief when she sees that Billy is saf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6. Billy names the boy pup Old Dan. He (like, likes) the sound of the nam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7. Billy tells his sisters about the soda pop. It (taste, tastes) sweet and bubbly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8. The fire escape was a pipe that ran up the side of the building. It (appear, appears) funny-looking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9. Little Ann was the smartest of the two hounds. She (guide, guides) Old Dan out of troubl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0. Papa easily forgives Billy for running off. He (know, knows) he would have done the same thing at Billy's ag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1. Which of the following is written correctl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lly want to go to school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randpa loves to tease Bill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aisy give milk each da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pa please Mama with a hug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151920" y="-360"/>
            <a:ext cx="89917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2. Which of the following sentences does not contain a mistak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he eat the candy one piece at a tim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ws spread quickly through the mountains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ither Billy or his grandpa like eating raw eggs 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>
              <a:spcBef>
                <a:spcPts val="799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ilson Rawls narrates a wonderful story!</a:t>
            </a:r>
            <a:br>
              <a:rPr sz="40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7720" y="152280"/>
            <a:ext cx="8007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raccoon [singular subject] jumps [singular verb] into the sycamore tre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raccoons [plural subject] jump [plural verb] into the sycamore tre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ttle Ann [singular subject] is [singular verb] kind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ttle Ann and Old Dan [plural subject] are [plural verb] kin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51920" y="-360"/>
            <a:ext cx="89917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3. Choose the answer that is written correctl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54400" indent="-55440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e of the dogs bellows through the night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54400" indent="-55440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woman with all the dogs talk to Billy at the stor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54400" indent="-55440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oy on the playground fight Billy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54400" indent="-55440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verybody play games in the schoolyar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5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44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4. Which of the following sentences does not contain a mistak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amily love to eat dinner at 6:00 P.M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veryone sees Billy in his overalls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 old K. C. Baking Powder can fill to the top with coins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lly count his money every day until he has enough to buy the pups.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304560" y="228240"/>
            <a:ext cx="883908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421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5. Choose the answer that is written correctly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881640" indent="-474480">
              <a:spcBef>
                <a:spcPts val="1001"/>
              </a:spcBef>
              <a:buClr>
                <a:srgbClr val="00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ach day brings a new joy to Billy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881640" indent="-474480">
              <a:spcBef>
                <a:spcPts val="1001"/>
              </a:spcBef>
              <a:buClr>
                <a:srgbClr val="00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ither Little Ann or Old Dan play games through the woods going hom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881640" indent="-474480">
              <a:spcBef>
                <a:spcPts val="1001"/>
              </a:spcBef>
              <a:buClr>
                <a:srgbClr val="00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lly love his grandpa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881640" indent="-474480">
              <a:spcBef>
                <a:spcPts val="1001"/>
              </a:spcBef>
              <a:buClr>
                <a:srgbClr val="00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t sound like the mountain lion would cry all night long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881640"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42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2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rain Po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ch the Brain Pop movie, then try the quiz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http://www.brainpop.com/english/grammar/subjectverbagreement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762120" y="457200"/>
            <a:ext cx="8007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No big deal? Usually not. Here are a few rules just in case you find yourself confused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1T16:34:00Z</dcterms:created>
  <dc:creator>Gay  Miller</dc:creator>
  <dc:description/>
  <dc:language>en-US</dc:language>
  <cp:lastModifiedBy>RomaK</cp:lastModifiedBy>
  <dcterms:modified xsi:type="dcterms:W3CDTF">2015-09-02T09:38:20Z</dcterms:modified>
  <cp:revision>77</cp:revision>
  <dc:subject/>
  <dc:title>Subject/Verb Agreement </dc:title>
</cp:coreProperties>
</file>