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EBF4-4DD1-44E8-8E00-C1D5704293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Red Fern Grow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1 - Understanding Senten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s may come in different fo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noun as the subject – Billy wants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ouns as a subject – Little Ann and Old Dan are two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noun as the subject – He prays each night for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pronouns as the subject – He and she are both still awake because of the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hrase – Staying awake all night is no f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ause – What makes me mad is all the noi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he gets the mo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has a subject [he] and a verb [gets], but you’re left dangling, aren’t you? It’s not a complete sentence. This is called a dependent clause. It depends on something else to make a complete sen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will buy coon hounds when he gets the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w we know what’s going on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if the following are complete sentences or dependent cla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 left my office that beautiful spring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as walking along whistling when I heard the dogf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wenty-five feet from me they caught him and down he w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on my kn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final whim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lley emptied into the street, he stopped and looked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watch him disappear in the twilight shad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ever it was that had interrupted his life, he was trying to straighten it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turned to enter my y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caressed the smooth surfaces, my mind drifted back through the years, back to my boyhood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nd of the h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 just saw that a clause has a subject and a verb. There’s no verb here; this is called a phrase. It could be the start of a great sentence, but it needs some help. It needs some actio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nd of the hounds echoed in Billy’s mind even after the night quie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w there’s some action! It makes a very clear, complete sentenc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which part of the sentence (subject or predicate) is missing in the sentence fragments be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ole bucketful of t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dog-wan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wling and yelling for Ma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a talk with hi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build a few sente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Bi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time hunting season was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time hunting season was over, young Billy was a nervous wre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cat Sam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loud squ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loud squall, our cat Samie scooted under the ba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you tell a complete sentence from an incomplete sentence? Usually you tell just by liste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lete Sentence (Fragmen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hat? Who does what everyday? I don’t get it. This is not complet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of the f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at there in sil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at there in silence, the glow of the fire grew lar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kled like a white star in the heav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truck a m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truck a match, the smaller cup sparkled like a white star in the heav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ideo on Sentence Fra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ain 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brainpop.com/english/grammar/sentencefragments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– Complete Sentence or Sentence Frag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found some slick little trails out in the garden down under some tall hollyhock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I decided to make friends with hi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ing they were game tra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a had another talk with Pap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your Student Packet and complete Lesson 1 Practice for Engli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lete Sentence (Fragmen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day, rain or sh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 don’t care about the weather! Tell me who is doing wha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is a very simple sentence, but it has a subject [Billy] and a verb [hunts]. We know what happened and who did i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 every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ere is the same sentence with a little more information. There’s no confusion her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 everyday, rain or sh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ere is the same sentence with even more information, and it’s still very clea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lete sentence must have a subject and a predicate. The subject tells who or what does the action, and the predicate contains the verb and tells what the action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b is a word that expresses one of two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:  jump, scream, fly, r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of being:  appear, seem, f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bject can be any of the following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son who does the action in the sentence. Grandpa sells goods in his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that does the action in the sentence. The general store swarms with people before the Fourth of July celeb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ng that does the action in the sentence. Flour and sugar are mixed together to make cook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son described in the sentence. Grandpa is happy when he makes a good s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being described in the sentence. The general store is crowded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ng being described in the sentence. Cookies are best when the flour and sugar are fre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3D9F3-41F5-4F76-91AE-20A12C04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24332-867A-4EB5-9B13-B096B2BD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19F8A-270E-4E79-A6AD-8DB5D05B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5180C-7962-47CD-8ABF-CE8FAB51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DAC0-C810-47F8-95E9-777DCF97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E4B2-8A91-4DB6-A6C7-AB2DA7F7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5311-7361-4C01-A43A-65A330FD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8FA8-0CC1-4B40-B83E-13434D15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449D-84F1-44C0-A9B8-67BE5EBA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123C-CE39-4B7C-970D-BA9C1212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9E08-DAF1-4202-BFBD-70637F18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60CFF-55FF-4753-9D67-11EBB52C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A301-6F7C-4B9A-884D-0FC7D6CB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153C-06CC-4092-8BC3-086A57EB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0A2F-EE9B-437B-B3A7-5154616A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00D7-DA96-4640-B550-226D5AAE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EB29-5E9A-4EE5-B6A7-42BAB0AB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F7B99-EC5A-4E77-80BA-E7B2E8B0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BB776-064F-46AD-800B-731F976B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CB5ED-BE21-48FD-8710-573BAC88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B96A1-BF32-4423-96BB-327CCEFC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917DF-D00D-4C92-9DBF-1627A285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83BFC-2A41-432E-902F-1C7E4A3B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C6618-3DF5-47A2-87A5-D2A1154E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3222-FA3C-40F4-93CE-C4FEE45972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FA60-7ABC-4688-A25D-03C38F9F17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sentencefragment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Where the Red Fern Grows 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sson 1 - Understanding Sentences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jects may come in different for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noun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ll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ants hound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nouns as a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ittle Ann and Old Da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two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pronoun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ays each night for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pronouns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 and s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both still awake because of the coon hou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hrase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taying awake all nigh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no fu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lause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hat makes me ma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ll the nois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us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he gets the mon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This has a subject [he] and a verb [gets], but you’re left dangling, aren’t you? It’s not a complete sentence. This is called a dependent clause. It depends on something else to make a complete sent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will buy coon hounds when he gets the mone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w we know what’s going on!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termine if the following are complete sentences or dependent clauses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I left my office that beautiful spring 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was walking along whistling when I heard the dogfigh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out twenty-five feet from me they caught him and down he w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wn on my kne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final whimp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the alley emptied into the street, he stopped and looked ba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watch him disappear in the twilight shadow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ever it was that had interrupted his life, he was trying to straighten it o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turned to enter my yar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caressed the smooth surfaces, my mind drifted back through the years, back to my boyhood day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und of the hou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We just saw that a clause has a subject and a verb. There’s no verb here; this is called a phrase. It could be the start of a great sentence, but it needs some help. It needs some action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und of the hounds echoed in Billy’s mind even after the night quie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w there’s some action! It makes a very clear, complete sentenc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ll which part of the sentence (subject or predicate) is missing in the sentence fragments below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whole bucketful of tea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dog-wanting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wling and yelling for Mam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d a talk with h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Let’s build a few sentenc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ng Bi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hunting season was o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hunting season was over, young Billy was a nervous wre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r cat Sam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loud squ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loud squall, our cat Samie scooted under the ba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can you tell a complete sentence from an incomplete sentence? Usually you tell just by listen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Sentence (Fragment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day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What? Who does what everyday? I don’t get it. This is not complet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low of the f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at there in sil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at there in silence, the glow of the fire grew larg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arkled like a white star in the heav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truck a ma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truck a match, the smaller cup sparkled like a white star in the heave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 on Sentence Frag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sentence_fragments.asf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ain Po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brainpop.com/english/grammar/sentencefragments/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actice – Complete Sentence or Sentence Fragmen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found some slick little trails out in the garden down under some tall hollyh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ce I decided to make friends with h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nking they were game trail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ma had another talk with Pap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Go to your Student Packet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nd complete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 Lesson 1 Practice for English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Sentence (Fragment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 day, rain or s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I don’t care about the weather! Tell me who is doing wha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This is a very simple sentence, but it has a subject [Billy] and a verb [hunts]. We know what happened and who did i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 every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Here is the same sentence with a little more information. There’s no confusion her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 everyday, rain or s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Here is the same sentence with even more information, and it’s still very clear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plete sentence must have a subject and a predicate. The subject tell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es the action, and the predicate contains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tell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action 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verb is a word that expresses one of two th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on:  jump, scream, fly, ru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te of being:  appear, seem, fe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ubject can be any of the following th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rson who does the action in the sentence. Grandpa sells goods in his general sto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ce that does the action in the sentence. The general store swarms with people before the Fourth of July celebr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ng that does the action in the sentence. Flour and sugar are mixed together to make cook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rson described in the sentence. Grandpa is happy when he makes a good se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ce being described in the sentence. The general store is crowded on Satur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ng being described in the sentence. Cookies are best when the flour and sugar are fres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21:36:30Z</dcterms:created>
  <dc:creator>Gay  Miller</dc:creator>
  <dc:description/>
  <dc:language>en-US</dc:language>
  <cp:lastModifiedBy>RomaK</cp:lastModifiedBy>
  <dcterms:modified xsi:type="dcterms:W3CDTF">2015-09-02T09:38:10Z</dcterms:modified>
  <cp:revision>29</cp:revision>
  <dc:subject/>
  <dc:title>Where the Red Fern Grows</dc:title>
</cp:coreProperties>
</file>