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9530-27DD-49F4-9E95-4D98694E46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Red Fern Grow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1 - Understanding Senten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may come in different fo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noun as the subject – Billy wants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uns as a subject – Little Ann and Old Dan are two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noun as the subject – He prays each night for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ronouns as the subject – He and she are both still awake because of the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hrase – Staying awake all night is no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ause – What makes me mad is all the noi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e gets the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ill buy coon hounds when he gets the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we know what’s going on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if the following are complete sentences or dependent cla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left my office that beautiful spring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as walking along whistling when I heard the dogf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wenty-five feet from me they caught him and down he w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on my kn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final whi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lley emptied into the street, he stopped and look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watch him disappear in the twilight sha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ever it was that had interrupted his life, he was trying to straighten it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turned to enter my 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caressed the smooth surfaces, my mind drifted back through the years, back to my boyhood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 echoed in Billy’s mind even after the night quie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there’s some action! It makes a very clear, complete sentenc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which part of the sentence (subject or predicate) is missing in the sentence fragments be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bucketful of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dog-wan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wling and yelling for M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talk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build a few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Bi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, young Billy was a nervous wr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at Sam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, our cat Samie scooted under the ba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you tell a complete sentence from an incomplete sentence? Usually you tell just by liste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hat? Who does what everyday? I don’t get it. This is not complet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of the f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, the glow of the fire grew lar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kled like a white star in the heav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, the smaller cup sparkled like a white star in the heav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ideo on Sentence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brainpop.com/english/grammar/sentencefragment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Complete Sentence or Sentence Frag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found some slick little trails out in the garden down under some tall hollyhoc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I decided to make friends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ing they were game tra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a had another talk with Pa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your Student Packet and complete Lesson 1 Practice for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don’t care about the weather! Tell me who is doing wha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is a very simple sentence, but it has a subject [Billy] and a verb [hunts]. We know what happened and who did i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a little more information. There’s no confusion he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even more information, and it’s still very clea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lete sentence must have a subject and a predicate. The subject tells who or what does the action, and the predicate contains the verb and tells what the ac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is a word that expresses one of two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:  jump, scream, fly,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of being:  appear, seem, f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ject can be any of the following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who does the action in the sentence. Grandpa sells goods in his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that does the action in the sentence. The general store swarms with people before the Fourth of July celeb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that does the action in the sentence. Flour and sugar are mixed together to make cook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described in the sentence. Grandpa is happy when he makes a good s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being described in the sentence. The general store is crowded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being described in the sentence. Cookies are best when the flour and sugar are fre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03C3-31EC-42AE-8141-F480AE46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5CF2-3397-4D24-891E-AEAF2459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512E-1813-4507-B7FC-BADA937C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7119-535E-4165-B7F8-C5C7F1A4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CA56-EA93-4560-887F-4A378A4F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1749-1F07-40EF-83D8-077070B8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E9F8-BE56-45BF-B8CE-70318A2B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074C-5921-41C2-A83B-F46E7ED9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15AD-9956-47AB-A580-091A615D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73F6-69F9-4E7E-A53E-EEAEF089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97E1-3B88-4059-BF52-D98C6CEE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EF06-A366-46D7-8A99-26D45CC8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ADDD-2D6F-4335-B146-BB4FBE98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0A6A-986E-4F6A-B980-D9D145F0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3B1F-8FD2-443B-BFDC-B2D51088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EEA8-E097-4DF9-8744-37A5801E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3333-913F-4C42-9F96-C1F33250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8CBC-086E-4671-8AC0-E7DD88A4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4E023-BDFE-40D6-B643-E1EE0884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BD84-2E21-4C12-B03E-69EA0009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DBB0-1E2A-4EFB-9D0F-3A344AAD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11C77-8B39-4C1B-B643-A31E9CB1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62E2-2408-4E6F-96B4-5E64A158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ACCB-6B8B-43E0-B404-D11F70B3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7F5A-575C-4036-9069-684D5805E7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E5D5-D85C-4462-9A7B-ABCF173BF9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entencefragment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ere the Red Fern Grows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sson 1 - Understanding Sentence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s may come in different for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l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nts hound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nouns as a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ttle Ann and Old D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two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ro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ys each night for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ronouns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 and 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both still awake because of the coon hou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hra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aying awake all nig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no f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lau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at makes me ma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ll the noi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u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he gets the mon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will buy coon hounds when he gets the mon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we know what’s going on!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termine if the following are complete sentences or dependent clause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I left my office that beautiful spring 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as walking along whistling when I heard the dogfi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twenty-five feet from me they caught him and down he w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wn on my kne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final whimp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the alley emptied into the street, he stopped and looked ba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watch him disappear in the twilight shado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ever it was that had interrupted his life, he was trying to straighten it 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turned to enter my ya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caressed the smooth surfaces, my mind drifted back through the years, back to my boyhood day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 echoed in Billy’s mind even after the night quie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there’s some action! It makes a very clear, complete sentenc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ll which part of the sentence (subject or predicate) is missing in the sentence fragments belo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whole bucketful of tea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dog-want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wling and yelling for Mam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a talk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et’s build a few sentenc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ng Bi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, young Billy was a nervous wre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cat Sam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, our cat Samie scooted under the ba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you tell a complete sentence from an incomplete sentence? Usually you tell just by listen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da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hat? Who does what everyday? I don’t get it. This is not complet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low of the 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, the glow of the fire grew larg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arkled like a white star in the heav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, the smaller cup sparkled like a white star in the heav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on Sentence Frag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sentence_fragments.asf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ain P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brainpop.com/english/grammar/sentencefragments/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– Complete Sentence or Sentence Fragmen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found some slick little trails out in the garden down under some tall hollyh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ce I decided to make friends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ing they were game tr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 had another talk with Pap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o to your Student Packet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nd complete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Lesson 1 Practice for English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I don’t care about the weather! Tell me who is doing wha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is a very simple sentence, but it has a subject [Billy] and a verb [hunts]. We know what happened and who did i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a little more information. There’s no confusion her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even more information, and it’s still very clea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plete sentence must have a subject and a predicate. The subject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es the action, and the predicate contain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action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is a word that expresses one of two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:  jump, scream, fly, r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 of being:  appear, seem, fe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ubject can be any of the following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who does the action in the sentence. Grandpa sells goods in his general st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that does the action in the sentence. The general store swarms with people before the Fourth of July celeb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that does the action in the sentence. Flour and sugar are mixed together to make cook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described in the sentence. Grandpa is happy when he makes a good s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being described in the sentence. The general store is crowded on Satur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being described in the sentence. Cookies are best when the flour and sugar are fres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21:36:30Z</dcterms:created>
  <dc:creator>Gay  Miller</dc:creator>
  <dc:description/>
  <dc:language>en-US</dc:language>
  <cp:lastModifiedBy>RomaK</cp:lastModifiedBy>
  <dcterms:modified xsi:type="dcterms:W3CDTF">2015-09-02T09:38:10Z</dcterms:modified>
  <cp:revision>29</cp:revision>
  <dc:subject/>
  <dc:title>Where the Red Fern Grows</dc:title>
</cp:coreProperties>
</file>