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1962-6623-4160-A8F8-0A877838C5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Red Fern Grow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1 - Understanding Senten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s may come in different fo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noun as the subject – Billy wants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ouns as a subject – Little Ann and Old Dan are two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noun as the subject – He prays each night for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pronouns as the subject – He and she are both still awake because of the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hrase – Staying awake all night is no f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ause – What makes me mad is all the noi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he gets the mo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has a subject [he] and a verb [gets], but you’re left dangling, aren’t you? It’s not a complete sentence. This is called a dependent clause. It depends on something else to make a complete sent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will buy coon hounds when he gets the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w we know what’s going on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if the following are complete sentences or dependent cla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 left my office that beautiful spring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as walking along whistling when I heard the dogf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wenty-five feet from me they caught him and down he w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 on my kn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final whim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lley emptied into the street, he stopped and looked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watch him disappear in the twilight shad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ever it was that had interrupted his life, he was trying to straighten it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turned to enter my y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caressed the smooth surfaces, my mind drifted back through the years, back to my boyhood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nd of the h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 just saw that a clause has a subject and a verb. There’s no verb here; this is called a phrase. It could be the start of a great sentence, but it needs some help. It needs some actio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nd of the hounds echoed in Billy’s mind even after the night quie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w there’s some action! It makes a very clear, complete sentenc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which part of the sentence (subject or predicate) is missing in the sentence fragments be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ole bucketful of t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dog-wan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wling and yelling for Ma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a talk with hi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build a few sente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Bi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time hunting season was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time hunting season was over, young Billy was a nervous wre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cat Sam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loud squ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loud squall, our cat Samie scooted under the ba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you tell a complete sentence from an incomplete sentence? Usually you tell just by liste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lete Sentence (Fragmen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hat? Who does what everyday? I don’t get it. This is not complet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of the f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at there in sil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at there in silence, the glow of the fire grew lar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kled like a white star in the heav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truck a m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truck a match, the smaller cup sparkled like a white star in the heav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ideo on Sentence Fra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ain P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brainpop.com/english/grammar/sentencefragments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– Complete Sentence or Sentence Frag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found some slick little trails out in the garden down under some tall hollyhock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I decided to make friends with hi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ing they were game tra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a had another talk with Pap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your Student Packet and complete Lesson 1 Practice for Englis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lete Sentence (Fragmen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day, rain or sh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 don’t care about the weather! Tell me who is doing wha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is a very simple sentence, but it has a subject [Billy] and a verb [hunts]. We know what happened and who did i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 every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ere is the same sentence with a little more information. There’s no confusion her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 everyday, rain or sh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ere is the same sentence with even more information, and it’s still very clea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lete sentence must have a subject and a predicate. The subject tells who or what does the action, and the predicate contains the verb and tells what the action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b is a word that expresses one of two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:  jump, scream, fly, r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of being:  appear, seem, f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bject can be any of the following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son who does the action in the sentence. Grandpa sells goods in his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that does the action in the sentence. The general store swarms with people before the Fourth of July celeb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ng that does the action in the sentence. Flour and sugar are mixed together to make cook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son described in the sentence. Grandpa is happy when he makes a good s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being described in the sentence. The general store is crowded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ng being described in the sentence. Cookies are best when the flour and sugar are fre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9F904-42A9-4735-8D4E-1254E8B3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7148D-154F-4027-B50B-D23054C5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22F43-DFAC-4BB5-AB94-210C3BA4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6FE36-3CC4-4E0C-8485-2AD58543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4EE0-4E8C-488A-9B15-334891B3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8873-3983-48DD-BD25-5B47900B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AFEE-2905-4480-AC81-111BEF2A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8D4C-A20C-4117-B3CA-8A1F1473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2264-223F-4185-A8BC-F75F7B08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745E-2919-4F71-B631-5F8D7A1F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EE69-862D-471F-B15D-D83B19F9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6D867-3028-4E47-888E-C7D4ED14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988E-421E-40D0-99B8-4C03C1BD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36D6-2DC3-4E37-A1DC-53B053DB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24D7-15EA-4299-9853-15DF593D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69AB-C5AF-4BD4-8926-B836DEA2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B65D-3E8D-4BEA-8DC9-D2219EC8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3D8F6-DE33-4559-8B12-F4262653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FC3C8-2802-49E4-990C-8166D916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A00F1-9992-444A-B64A-AFDFE79D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E537B-C25B-44C9-B0FA-C6DCC4F4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EE748-6D20-4B02-8EBC-7C28D105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1B3A6-DE6B-4047-922C-E2D96183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B7D1C-543A-4C4A-AA4B-10B66AC2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B841-50D1-42BA-9BFF-3FDC477113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A03B-6DF0-414D-8058-FC034F6EF4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rainpop.com/english/grammar/sentencefragment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Where the Red Fern Grows 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sson 1 - Understanding Sentences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jects may come in different for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noun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ll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ants hound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nouns as a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ittle Ann and Old Da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two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pronoun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ays each night for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pronouns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 and s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both still awake because of the coon hou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hrase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taying awake all nigh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no fu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lause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hat makes me ma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ll the nois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us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he gets the mon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This has a subject [he] and a verb [gets], but you’re left dangling, aren’t you? It’s not a complete sentence. This is called a dependent clause. It depends on something else to make a complete sent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will buy coon hounds when he gets the mone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w we know what’s going on!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termine if the following are complete sentences or dependent clauses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I left my office that beautiful spring 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was walking along whistling when I heard the dogfigh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out twenty-five feet from me they caught him and down he w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wn on my kne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final whimp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the alley emptied into the street, he stopped and looked ba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watch him disappear in the twilight shadow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ever it was that had interrupted his life, he was trying to straighten it o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turned to enter my yar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caressed the smooth surfaces, my mind drifted back through the years, back to my boyhood day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und of the hou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We just saw that a clause has a subject and a verb. There’s no verb here; this is called a phrase. It could be the start of a great sentence, but it needs some help. It needs some action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und of the hounds echoed in Billy’s mind even after the night quie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w there’s some action! It makes a very clear, complete sentenc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ll which part of the sentence (subject or predicate) is missing in the sentence fragments below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whole bucketful of tea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dog-wanting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wling and yelling for Mam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d a talk with hi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Let’s build a few sentenc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ng Bi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hunting season was o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hunting season was over, young Billy was a nervous wre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r cat Sam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loud squ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loud squall, our cat Samie scooted under the ba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can you tell a complete sentence from an incomplete sentence? Usually you tell just by listen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Sentence (Fragment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day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What? Who does what everyday? I don’t get it. This is not complet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low of the f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at there in sil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at there in silence, the glow of the fire grew larg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arkled like a white star in the heav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truck a ma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truck a match, the smaller cup sparkled like a white star in the heave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 on Sentence Frag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sentence_fragments.asf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ain Po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brainpop.com/english/grammar/sentencefragments/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actice – Complete Sentence or Sentence Fragmen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found some slick little trails out in the garden down under some tall hollyhoc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ce I decided to make friends with hi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nking they were game trail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ma had another talk with Pap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Go to your Student Packet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nd complete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 Lesson 1 Practice for English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Sentence (Fragment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 day, rain or s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I don’t care about the weather! Tell me who is doing wha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This is a very simple sentence, but it has a subject [Billy] and a verb [hunts]. We know what happened and who did i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 every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Here is the same sentence with a little more information. There’s no confusion her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 everyday, rain or s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Here is the same sentence with even more information, and it’s still very clear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plete sentence must have a subject and a predicate. The subject tell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es the action, and the predicate contains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tell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action 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verb is a word that expresses one of two th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on:  jump, scream, fly, ru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te of being:  appear, seem, fe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ubject can be any of the following th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rson who does the action in the sentence. Grandpa sells goods in his general sto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ce that does the action in the sentence. The general store swarms with people before the Fourth of July celebr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ng that does the action in the sentence. Flour and sugar are mixed together to make cook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rson described in the sentence. Grandpa is happy when he makes a good se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ce being described in the sentence. The general store is crowded on Satur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ng being described in the sentence. Cookies are best when the flour and sugar are fres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21:36:30Z</dcterms:created>
  <dc:creator>Gay  Miller</dc:creator>
  <dc:description/>
  <dc:language>en-US</dc:language>
  <cp:lastModifiedBy>RomaK</cp:lastModifiedBy>
  <dcterms:modified xsi:type="dcterms:W3CDTF">2015-09-02T09:38:10Z</dcterms:modified>
  <cp:revision>29</cp:revision>
  <dc:subject/>
  <dc:title>Where the Red Fern Grows</dc:title>
</cp:coreProperties>
</file>