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clap.wav" ContentType="audio/x-wav"/>
  <Override PartName="/ppt/media/chimes.wav" ContentType="audio/x-wav"/>
  <Override PartName="/ppt/media/image13.gif" ContentType="image/gif"/>
  <Override PartName="/ppt/media/image8.wmf" ContentType="image/x-wmf"/>
  <Override PartName="/ppt/media/image10.gif" ContentType="image/gif"/>
  <Override PartName="/ppt/media/image5.gif" ContentType="image/gif"/>
  <Override PartName="/ppt/media/carbrake.wav" ContentType="audio/x-wav"/>
  <Override PartName="/ppt/media/image14.gif" ContentType="image/gif"/>
  <Override PartName="/ppt/media/image11.wmf" ContentType="image/x-wmf"/>
  <Override PartName="/ppt/media/image12.gif" ContentType="image/gif"/>
  <Override PartName="/ppt/media/drumroll.wav" ContentType="audio/x-wav"/>
  <Override PartName="/ppt/media/applause.wav" ContentType="audio/x-wav"/>
  <Override PartName="/ppt/media/image7.gif" ContentType="image/gif"/>
  <Override PartName="/ppt/media/laser.wav" ContentType="audio/x-wav"/>
  <Override PartName="/ppt/media/image1.gif" ContentType="image/gif"/>
  <Override PartName="/ppt/media/image4.wmf" ContentType="image/x-wmf"/>
  <Override PartName="/ppt/media/camera.wav" ContentType="audio/x-wav"/>
  <Override PartName="/ppt/media/image3.gif" ContentType="image/gif"/>
  <Override PartName="/ppt/media/image6.png" ContentType="image/png"/>
  <Override PartName="/ppt/media/image2.gif" ContentType="image/gif"/>
  <Override PartName="/ppt/media/whoosh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27DAA-D795-4811-9458-60135D19801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borated para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nthia Hatch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th gr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nguage 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borated para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nthia Hatch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th gr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nguage 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)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e i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)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e i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)  The paragraph contain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orrect spelling, grammar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apitalization, 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unct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)  The paragraph contain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orrect spelling, grammar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apitalization, 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unct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borated Para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sheet pages 25,26, and 27.  Follow the directions as you practice writing elaborated paragrap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borated Para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sheet pages 25,26, and 27.  Follow the directions as you practice writing elaborated paragrap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borated Para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ess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k a topic of your choice.  Write an elaborated paragraph on your topic to be turned in for a gra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borated Para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ess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k a topic of your choice.  Write an elaborated paragraph on your topic to be turned in for a gra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of Elaborated Paragraph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The writer clearly states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main idea in the top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of Elaborated Paragraph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The writer clearly states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main idea in the top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The writer supports the main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a with at least thre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The writer supports the main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a with at least thre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Sentences are related and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Sentences are related and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 The write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vi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s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 verbs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exac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 The write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vi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s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 verbs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exac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 The write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an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ecdote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ning,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ddle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e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 The write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an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ecdote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ning,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ddle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e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) 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graph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otes,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logue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s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es, facts, and statistics that support the main id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) 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graph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otes,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logue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s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es, facts, and statistics that support the main id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)  The concluding sentence restates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idea and brings the paragraph t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finite clo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)  The concluding sentence restates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idea and brings the paragraph t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finite clo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)  The writer uses     age-appropriate vocabul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)  The writer uses     age-appropriate vocabul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E5F6-8BB1-4689-A665-F4AC13298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4040-A6BB-45B4-9402-5728A2928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02FE-A0D0-46FB-8CAF-2896635F9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84C9-5181-411F-8268-69F3A1EC6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BD91-E663-4077-9F9B-10CF68C25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038C-745B-4689-8FCC-C293B1A8A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7884-1710-48EC-A29C-C44372B0C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BAC6-B14D-4A69-87BA-7A4CD8662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787C-4192-4D92-9E06-31DA292CF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0516-8FDE-4E58-A58A-3475BDDC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2156-63F5-48FB-B711-0B95D4B07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1F23-1CCA-4A88-9218-BC31D86A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3068B-E6AE-4775-94F9-3CB6927367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applause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gi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gi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Showcard Gothic"/>
              </a:rPr>
              <a:t>Elaborated paragraph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Tahoma"/>
              </a:rPr>
              <a:t>Cynthia Hatch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Tahoma"/>
              </a:rPr>
              <a:t>7</a:t>
            </a:r>
            <a:r>
              <a:rPr b="0" lang="en-US" sz="3200" spc="-1" strike="noStrike" baseline="30000">
                <a:solidFill>
                  <a:srgbClr val="ff66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66ff"/>
                </a:solidFill>
                <a:latin typeface="Tahoma"/>
              </a:rPr>
              <a:t> gr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Tahoma"/>
              </a:rPr>
              <a:t>Language 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ag00024_"/>
          <p:cNvPicPr/>
          <p:nvPr/>
        </p:nvPicPr>
        <p:blipFill>
          <a:blip r:embed="rId1"/>
          <a:stretch/>
        </p:blipFill>
        <p:spPr>
          <a:xfrm>
            <a:off x="5334120" y="152280"/>
            <a:ext cx="335268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Signet Roundhand"/>
              </a:rPr>
              <a:t>Characteristics cont’d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Pristina"/>
              </a:rPr>
              <a:t>9) The </a:t>
            </a:r>
            <a:r>
              <a:rPr b="0" lang="en-US" sz="5400" spc="-1" strike="noStrike">
                <a:solidFill>
                  <a:srgbClr val="000000"/>
                </a:solidFill>
                <a:latin typeface="Pristina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Pristina"/>
              </a:rPr>
              <a:t>sentence </a:t>
            </a:r>
            <a:r>
              <a:rPr b="0" lang="en-US" sz="5400" spc="-1" strike="noStrike">
                <a:solidFill>
                  <a:srgbClr val="000000"/>
                </a:solidFill>
                <a:latin typeface="Pristina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Pristina"/>
              </a:rPr>
              <a:t>structure is </a:t>
            </a:r>
            <a:r>
              <a:rPr b="0" lang="en-US" sz="5400" spc="-1" strike="noStrike">
                <a:solidFill>
                  <a:srgbClr val="000000"/>
                </a:solidFill>
                <a:latin typeface="Pristina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Pristina"/>
              </a:rPr>
              <a:t>varied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5" descr="bl00254_"/>
          <p:cNvPicPr/>
          <p:nvPr/>
        </p:nvPicPr>
        <p:blipFill>
          <a:blip r:embed="rId1"/>
          <a:stretch/>
        </p:blipFill>
        <p:spPr>
          <a:xfrm>
            <a:off x="4672080" y="1981080"/>
            <a:ext cx="376056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3399"/>
                </a:solidFill>
                <a:latin typeface="Parchment"/>
              </a:rPr>
              <a:t>Characteristics cont’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바탕"/>
              </a:rPr>
              <a:t>10)  The paragraph contains </a:t>
            </a:r>
            <a:r>
              <a:rPr b="0" lang="en-US" sz="4000" spc="-1" strike="noStrike">
                <a:solidFill>
                  <a:srgbClr val="0000ff"/>
                </a:solidFill>
                <a:latin typeface="바탕"/>
              </a:rPr>
              <a:t>	</a:t>
            </a:r>
            <a:r>
              <a:rPr b="0" lang="en-US" sz="4000" spc="-1" strike="noStrike">
                <a:solidFill>
                  <a:srgbClr val="0000ff"/>
                </a:solidFill>
                <a:latin typeface="바탕"/>
              </a:rPr>
              <a:t>	</a:t>
            </a:r>
            <a:r>
              <a:rPr b="0" lang="en-US" sz="4000" spc="-1" strike="noStrike">
                <a:solidFill>
                  <a:srgbClr val="0000ff"/>
                </a:solidFill>
                <a:latin typeface="바탕"/>
              </a:rPr>
              <a:t> correct spelling, grammar, </a:t>
            </a:r>
            <a:r>
              <a:rPr b="0" lang="en-US" sz="4000" spc="-1" strike="noStrike">
                <a:solidFill>
                  <a:srgbClr val="0000ff"/>
                </a:solidFill>
                <a:latin typeface="바탕"/>
              </a:rPr>
              <a:t>	</a:t>
            </a:r>
            <a:r>
              <a:rPr b="0" lang="en-US" sz="4000" spc="-1" strike="noStrike">
                <a:solidFill>
                  <a:srgbClr val="0000ff"/>
                </a:solidFill>
                <a:latin typeface="바탕"/>
              </a:rPr>
              <a:t> capitalization, and </a:t>
            </a:r>
            <a:r>
              <a:rPr b="0" lang="en-US" sz="4000" spc="-1" strike="noStrike">
                <a:solidFill>
                  <a:srgbClr val="0000ff"/>
                </a:solidFill>
                <a:latin typeface="바탕"/>
              </a:rPr>
              <a:t>	</a:t>
            </a:r>
            <a:r>
              <a:rPr b="0" lang="en-US" sz="4000" spc="-1" strike="noStrike">
                <a:solidFill>
                  <a:srgbClr val="0000ff"/>
                </a:solidFill>
                <a:latin typeface="바탕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바탕"/>
              </a:rPr>
              <a:t>	</a:t>
            </a:r>
            <a:r>
              <a:rPr b="0" lang="en-US" sz="4000" spc="-1" strike="noStrike">
                <a:solidFill>
                  <a:srgbClr val="0000ff"/>
                </a:solidFill>
                <a:latin typeface="바탕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바탕"/>
              </a:rPr>
              <a:t>	</a:t>
            </a:r>
            <a:r>
              <a:rPr b="0" lang="en-US" sz="4000" spc="-1" strike="noStrike">
                <a:solidFill>
                  <a:srgbClr val="0000ff"/>
                </a:solidFill>
                <a:latin typeface="바탕"/>
              </a:rPr>
              <a:t> punctua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4" descr="ag00007_"/>
          <p:cNvPicPr/>
          <p:nvPr/>
        </p:nvPicPr>
        <p:blipFill>
          <a:blip r:embed="rId1"/>
          <a:stretch/>
        </p:blipFill>
        <p:spPr>
          <a:xfrm>
            <a:off x="5715000" y="3962520"/>
            <a:ext cx="2438280" cy="25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66"/>
                </a:solidFill>
                <a:latin typeface="Stencil"/>
              </a:rPr>
              <a:t>Elaborated Paragraph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it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rksheet pages 25,26, and 27.  Follow the directions as you practice writing elaborated paragraph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5" descr="j0076167"/>
          <p:cNvPicPr/>
          <p:nvPr/>
        </p:nvPicPr>
        <p:blipFill>
          <a:blip r:embed="rId2"/>
          <a:stretch/>
        </p:blipFill>
        <p:spPr>
          <a:xfrm>
            <a:off x="609480" y="1954080"/>
            <a:ext cx="3810240" cy="414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oster Bodoni"/>
              </a:rPr>
              <a:t>Elaborated Para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ompeii Capitals"/>
              </a:rPr>
              <a:t>Assess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ompeii Capitals"/>
              </a:rPr>
              <a:t>Pick a topic of your choice.  Write an elaborated paragraph on your topic to be turned in for a gra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6" descr="j0076178"/>
          <p:cNvPicPr/>
          <p:nvPr/>
        </p:nvPicPr>
        <p:blipFill>
          <a:blip r:embed="rId1"/>
          <a:stretch/>
        </p:blipFill>
        <p:spPr>
          <a:xfrm>
            <a:off x="4648320" y="2685960"/>
            <a:ext cx="3809880" cy="270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3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3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aracteristics of Elaborated Paragraphs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)  The writer clearly states             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the main idea in the topic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entence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ag00594_"/>
          <p:cNvPicPr/>
          <p:nvPr/>
        </p:nvPicPr>
        <p:blipFill>
          <a:blip r:embed="rId1"/>
          <a:stretch/>
        </p:blipFill>
        <p:spPr>
          <a:xfrm flipH="1" rot="10800000">
            <a:off x="0" y="761760"/>
            <a:ext cx="1523880" cy="1295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ag00006_"/>
          <p:cNvPicPr/>
          <p:nvPr/>
        </p:nvPicPr>
        <p:blipFill>
          <a:blip r:embed="rId2"/>
          <a:stretch/>
        </p:blipFill>
        <p:spPr>
          <a:xfrm>
            <a:off x="4800600" y="3809880"/>
            <a:ext cx="3200400" cy="2210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66"/>
                </a:solidFill>
                <a:latin typeface="Times New Roman"/>
              </a:rPr>
              <a:t>Characteristics cont’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)  The writer supports the main    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a with at least thre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4" descr="bd05092_"/>
          <p:cNvPicPr/>
          <p:nvPr/>
        </p:nvPicPr>
        <p:blipFill>
          <a:blip r:embed="rId1"/>
          <a:stretch/>
        </p:blipFill>
        <p:spPr>
          <a:xfrm>
            <a:off x="5029200" y="3352680"/>
            <a:ext cx="342900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Stencil"/>
              </a:rPr>
              <a:t>Characteristic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3)</a:t>
            </a: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Sentences are related and   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connect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4" descr="j0076136"/>
          <p:cNvPicPr/>
          <p:nvPr/>
        </p:nvPicPr>
        <p:blipFill>
          <a:blip r:embed="rId1"/>
          <a:stretch/>
        </p:blipFill>
        <p:spPr>
          <a:xfrm>
            <a:off x="2362320" y="3581280"/>
            <a:ext cx="4038480" cy="257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Characteristics cont’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)  The writer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es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vid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djectives,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rong verbs,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d exact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u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5" descr="ag00584_"/>
          <p:cNvPicPr/>
          <p:nvPr/>
        </p:nvPicPr>
        <p:blipFill>
          <a:blip r:embed="rId2"/>
          <a:stretch/>
        </p:blipFill>
        <p:spPr>
          <a:xfrm>
            <a:off x="685800" y="2209680"/>
            <a:ext cx="3886200" cy="403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66"/>
                </a:solidFill>
                <a:latin typeface="Times New Roman"/>
              </a:rPr>
              <a:t>Characteristics cont’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5)  The writer 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uses an      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anecdote   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with a 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beginning,  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middle, 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and en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5" descr="pe02742_"/>
          <p:cNvPicPr/>
          <p:nvPr/>
        </p:nvPicPr>
        <p:blipFill>
          <a:blip r:embed="rId1"/>
          <a:stretch/>
        </p:blipFill>
        <p:spPr>
          <a:xfrm>
            <a:off x="4648320" y="2260440"/>
            <a:ext cx="3809880" cy="355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3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Showcard Gothic"/>
              </a:rPr>
              <a:t>Characteristics cont’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6)  The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aragraph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includes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quotes, 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dialogue,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ensory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images,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imiles, facts, and statistics that support the main ide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8000"/>
                </a:solidFill>
                <a:latin typeface="Rockwell"/>
              </a:rPr>
              <a:t>Characteristics cont’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 Condensed"/>
              </a:rPr>
              <a:t>7)  The concluding sentence restates the </a:t>
            </a:r>
            <a:r>
              <a:rPr b="0" lang="en-US" sz="4000" spc="-1" strike="noStrike">
                <a:solidFill>
                  <a:srgbClr val="000066"/>
                </a:solidFill>
                <a:latin typeface="Rockwell Condensed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Rockwell Condensed"/>
              </a:rPr>
              <a:t>main idea and brings the paragraph to </a:t>
            </a:r>
            <a:r>
              <a:rPr b="0" lang="en-US" sz="4000" spc="-1" strike="noStrike">
                <a:solidFill>
                  <a:srgbClr val="000066"/>
                </a:solidFill>
                <a:latin typeface="Rockwell Condensed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Rockwell Condensed"/>
              </a:rPr>
              <a:t>a definite clos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" descr="bd13628_"/>
          <p:cNvPicPr/>
          <p:nvPr/>
        </p:nvPicPr>
        <p:blipFill>
          <a:blip r:embed="rId1"/>
          <a:stretch/>
        </p:blipFill>
        <p:spPr>
          <a:xfrm>
            <a:off x="4648320" y="3352680"/>
            <a:ext cx="325908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00"/>
                </a:solidFill>
                <a:latin typeface="Times New Roman"/>
              </a:rPr>
              <a:t>Characteristics cont’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6840" y="1981080"/>
            <a:ext cx="3352680" cy="41148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9900"/>
                </a:solidFill>
                <a:latin typeface="Niagara Solid"/>
              </a:rPr>
              <a:t>8)  The writer uses     age-appropriate vocabulary</a:t>
            </a:r>
            <a:r>
              <a:rPr b="0" lang="en-US" sz="4000" spc="-1" strike="noStrike">
                <a:solidFill>
                  <a:srgbClr val="669900"/>
                </a:solidFill>
                <a:latin typeface="Niagara Solid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5" descr="ag00428_"/>
          <p:cNvPicPr/>
          <p:nvPr/>
        </p:nvPicPr>
        <p:blipFill>
          <a:blip r:embed="rId2"/>
          <a:stretch/>
        </p:blipFill>
        <p:spPr>
          <a:xfrm>
            <a:off x="609480" y="1828800"/>
            <a:ext cx="350532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3T20:20:42Z</dcterms:created>
  <dc:creator>GCMS</dc:creator>
  <dc:description/>
  <dc:language>en-US</dc:language>
  <cp:lastModifiedBy>RomaK</cp:lastModifiedBy>
  <dcterms:modified xsi:type="dcterms:W3CDTF">2015-09-02T09:37:50Z</dcterms:modified>
  <cp:revision>6</cp:revision>
  <dc:subject/>
  <dc:title>Elaborated paragraphs</dc:title>
</cp:coreProperties>
</file>