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clap.wav" ContentType="audio/x-wav"/>
  <Override PartName="/ppt/media/chimes.wav" ContentType="audio/x-wav"/>
  <Override PartName="/ppt/media/image13.gif" ContentType="image/gif"/>
  <Override PartName="/ppt/media/image8.wmf" ContentType="image/x-wmf"/>
  <Override PartName="/ppt/media/image10.gif" ContentType="image/gif"/>
  <Override PartName="/ppt/media/image5.gif" ContentType="image/gif"/>
  <Override PartName="/ppt/media/carbrake.wav" ContentType="audio/x-wav"/>
  <Override PartName="/ppt/media/image14.gif" ContentType="image/gif"/>
  <Override PartName="/ppt/media/image11.wmf" ContentType="image/x-wmf"/>
  <Override PartName="/ppt/media/image12.gif" ContentType="image/gif"/>
  <Override PartName="/ppt/media/drumroll.wav" ContentType="audio/x-wav"/>
  <Override PartName="/ppt/media/applause.wav" ContentType="audio/x-wav"/>
  <Override PartName="/ppt/media/image7.gif" ContentType="image/gif"/>
  <Override PartName="/ppt/media/laser.wav" ContentType="audio/x-wav"/>
  <Override PartName="/ppt/media/image1.gif" ContentType="image/gif"/>
  <Override PartName="/ppt/media/image4.wmf" ContentType="image/x-wmf"/>
  <Override PartName="/ppt/media/camera.wav" ContentType="audio/x-wav"/>
  <Override PartName="/ppt/media/image3.gif" ContentType="image/gif"/>
  <Override PartName="/ppt/media/image6.png" ContentType="image/png"/>
  <Override PartName="/ppt/media/image2.gif" ContentType="image/gi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8730-0241-4D35-A548-E68B01B801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183-11AE-499D-BFE8-1CFA10CD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157-ED8D-49BE-8D0E-66F91561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19B-88CD-4862-A8F2-10868A52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54F-4C51-4C92-882D-0AE543FD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5FD-C341-458F-9966-CA030C68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E1D-A22A-48B3-8BEF-53870603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B81-69D4-4E5A-9CB8-16F6EF8E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71F-7294-4703-B9EA-D1AEAE74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D14-A565-47F0-881E-508D8B17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78C-785A-47C9-AA89-49FCBEDD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E8C-4B82-4EEC-8019-4B2F72B5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B8C-7AAB-49F1-AAE2-A91ABC4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89E8-A03C-4DF4-96A3-9F3E6919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Elaborated paragrap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Cynthia Hatc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66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g00024_"/>
          <p:cNvPicPr/>
          <p:nvPr/>
        </p:nvPicPr>
        <p:blipFill>
          <a:blip r:embed="rId1"/>
          <a:stretch/>
        </p:blipFill>
        <p:spPr>
          <a:xfrm>
            <a:off x="5334120" y="152280"/>
            <a:ext cx="33526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Signet Roundhand"/>
              </a:rPr>
              <a:t>Characteristics cont’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9) Th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entenc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tructure is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vari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bl00254_"/>
          <p:cNvPicPr/>
          <p:nvPr/>
        </p:nvPicPr>
        <p:blipFill>
          <a:blip r:embed="rId1"/>
          <a:stretch/>
        </p:blipFill>
        <p:spPr>
          <a:xfrm>
            <a:off x="4672080" y="1981080"/>
            <a:ext cx="3760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Parchment"/>
              </a:rPr>
              <a:t>Characteristics cont’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10)  The paragraph contains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orrect spelling, grammar,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apitalization, and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punct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ag00007_"/>
          <p:cNvPicPr/>
          <p:nvPr/>
        </p:nvPicPr>
        <p:blipFill>
          <a:blip r:embed="rId1"/>
          <a:stretch/>
        </p:blipFill>
        <p:spPr>
          <a:xfrm>
            <a:off x="5715000" y="396252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Stencil"/>
              </a:rPr>
              <a:t>Elaborated Paragrap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 pages 25,26, and 27.  Follow the directions as you practice writing elaborated para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j0076167"/>
          <p:cNvPicPr/>
          <p:nvPr/>
        </p:nvPicPr>
        <p:blipFill>
          <a:blip r:embed="rId2"/>
          <a:stretch/>
        </p:blipFill>
        <p:spPr>
          <a:xfrm>
            <a:off x="609480" y="1954080"/>
            <a:ext cx="38102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ster Bodoni"/>
              </a:rPr>
              <a:t>Elaborated Para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Pick a topic of your choice.  Write an elaborated paragraph on your topic to be turned in for a 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j0076178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g00594_"/>
          <p:cNvPicPr/>
          <p:nvPr/>
        </p:nvPicPr>
        <p:blipFill>
          <a:blip r:embed="rId1"/>
          <a:stretch/>
        </p:blipFill>
        <p:spPr>
          <a:xfrm flipH="1" rot="10800000">
            <a:off x="0" y="7617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g00006_"/>
          <p:cNvPicPr/>
          <p:nvPr/>
        </p:nvPicPr>
        <p:blipFill>
          <a:blip r:embed="rId2"/>
          <a:stretch/>
        </p:blipFill>
        <p:spPr>
          <a:xfrm>
            <a:off x="4800600" y="3809880"/>
            <a:ext cx="3200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5092_"/>
          <p:cNvPicPr/>
          <p:nvPr/>
        </p:nvPicPr>
        <p:blipFill>
          <a:blip r:embed="rId1"/>
          <a:stretch/>
        </p:blipFill>
        <p:spPr>
          <a:xfrm>
            <a:off x="502920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tencil"/>
              </a:rPr>
              <a:t>Characteristic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ntences are related and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j0076136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g00584_"/>
          <p:cNvPicPr/>
          <p:nvPr/>
        </p:nvPicPr>
        <p:blipFill>
          <a:blip r:embed="rId2"/>
          <a:stretch/>
        </p:blipFill>
        <p:spPr>
          <a:xfrm>
            <a:off x="685800" y="22096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5)  The writer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s an   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ecdote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ith a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eginning,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iddle,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d 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pe02742_"/>
          <p:cNvPicPr/>
          <p:nvPr/>
        </p:nvPicPr>
        <p:blipFill>
          <a:blip r:embed="rId1"/>
          <a:stretch/>
        </p:blipFill>
        <p:spPr>
          <a:xfrm>
            <a:off x="4648320" y="2260440"/>
            <a:ext cx="380988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)  Th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graph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,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alogue,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nsory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ages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iles, facts, and statistics that support the main id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Rockwell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7)  The concluding sentence restates the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main idea and brings the paragraph to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a definite cl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bd13628_"/>
          <p:cNvPicPr/>
          <p:nvPr/>
        </p:nvPicPr>
        <p:blipFill>
          <a:blip r:embed="rId1"/>
          <a:stretch/>
        </p:blipFill>
        <p:spPr>
          <a:xfrm>
            <a:off x="4648320" y="33526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684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Niagara Solid"/>
              </a:rPr>
              <a:t>8)  The writer uses     age-appropriate vocabulary</a:t>
            </a:r>
            <a:r>
              <a:rPr b="0" lang="en-US" sz="4000" spc="-1" strike="noStrike">
                <a:solidFill>
                  <a:srgbClr val="669900"/>
                </a:solidFill>
                <a:latin typeface="Niagara Soli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g00428_"/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0:20:42Z</dcterms:created>
  <dc:creator>GCMS</dc:creator>
  <dc:description/>
  <dc:language>en-US</dc:language>
  <cp:lastModifiedBy>RomaK</cp:lastModifiedBy>
  <dcterms:modified xsi:type="dcterms:W3CDTF">2015-09-02T09:37:50Z</dcterms:modified>
  <cp:revision>6</cp:revision>
  <dc:subject/>
  <dc:title>Elaborated paragraphs</dc:title>
</cp:coreProperties>
</file>