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FB95-4505-49D8-816D-C1CFADC88C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5C6-164A-4DC3-92D4-6A367EA3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C1F-8827-44B6-99E8-07DC6269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9B5-BFEA-406A-BEC6-5326DF6A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CAE-DAE6-4ED2-9C50-FE19587D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1FF-9D70-4023-8853-36011A4E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D81-15F1-403B-9C02-A698D46C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F53-96C1-4EB2-A4E0-D1C989B4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5AB-654E-4B0D-8BAB-488E21EB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A15-80E8-4539-B9D5-786951CE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49C-A3A1-437C-B024-AF3273CC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E00-96E5-4422-B801-2B9E12ED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0BD-8367-4EF5-9FFE-2254D3A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6B0E-F5CB-4C16-BF9D-C855F5FBF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36360" y="37944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907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Explore ways to make writing descrip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e able to write descrip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580000" y="2060640"/>
            <a:ext cx="201636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2560" y="1916280"/>
            <a:ext cx="39607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noun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A type of Indian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4221000"/>
            <a:ext cx="3960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verb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omething that makes           your pizza tast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4497480"/>
            <a:ext cx="396108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Vocabulary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wor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entenc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he way you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Explore ways to make writing 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437000"/>
            <a:ext cx="38894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nouns are PRE-MODIFIED – they have extra inform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 fro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765000"/>
            <a:ext cx="396072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oun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py these noun phrases and underline the no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, bad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e long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little p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0" y="765000"/>
            <a:ext cx="39607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py these sentences and underline th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covered in m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lked alone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i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5589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y do you think nouns are pre-modified? What is th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43280" y="486900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ink of a more interesting synonym for each verb. Use a thesaurus if you 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7299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24000" y="1628640"/>
            <a:ext cx="1008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1331640" y="620640"/>
            <a:ext cx="143964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995640" y="765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771640" y="189000"/>
            <a:ext cx="1800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635280" y="1268280"/>
            <a:ext cx="7938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2276640"/>
            <a:ext cx="1800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Exciting verb choices; some perso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80000" y="1484280"/>
            <a:ext cx="433080" cy="1429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2050920" y="1628640"/>
            <a:ext cx="1729080" cy="6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11280" y="4113360"/>
            <a:ext cx="360360" cy="1792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19280" y="3141720"/>
            <a:ext cx="720720" cy="93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61080" y="1557360"/>
            <a:ext cx="18716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299280" y="260280"/>
            <a:ext cx="50472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V="1">
            <a:off x="6588000" y="549360"/>
            <a:ext cx="716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796000" y="620640"/>
            <a:ext cx="43164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5940360" y="980640"/>
            <a:ext cx="0" cy="576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994200"/>
            <a:ext cx="1368360" cy="255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765000"/>
            <a:ext cx="8497800" cy="28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receive your own chocolate. Eat the chocolate, and then write your own description of it. Be as expressive as possible, and try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it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Suitabl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050920" y="4164120"/>
            <a:ext cx="1368720" cy="209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at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45080" y="422100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se words to help you, or even better, find your own – use a thesaur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08000" y="5084640"/>
            <a:ext cx="79236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960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they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76500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f the characters in ‘Of Mice and Men’ are lonely and depressed. Write one paragraph about a lonely and depressed character in today’s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213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55640" y="346392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5640" y="3968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they are lonely and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4797360"/>
            <a:ext cx="813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as descriptive as possible, using the skills from today’s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figurative language: similes, metaphors, personif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 rot="452400">
            <a:off x="5291640" y="2408400"/>
            <a:ext cx="363528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ossible reasons for loneliness / de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Racism – homelessness – bullying – poverty – or your own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inish your descriptive paragrap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ue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71640" y="798480"/>
            <a:ext cx="7642080" cy="615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115920"/>
            <a:ext cx="180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101520"/>
            <a:ext cx="2448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92720" y="115920"/>
            <a:ext cx="3311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 rot="16200000">
            <a:off x="-2078640" y="3348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: Draw a line from each box pointing to an example of the language featu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0328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58920" y="2133720"/>
            <a:ext cx="86508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49Z</dcterms:created>
  <dc:creator>HWS</dc:creator>
  <dc:description/>
  <cp:keywords>Descriptive writing</cp:keywords>
  <dc:language>en-US</dc:language>
  <cp:lastModifiedBy>RomaK</cp:lastModifiedBy>
  <dcterms:modified xsi:type="dcterms:W3CDTF">2015-09-02T09:37:40Z</dcterms:modified>
  <cp:revision>13</cp:revision>
  <dc:subject/>
  <dc:title>Descriptive writing</dc:title>
</cp:coreProperties>
</file>