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5400" y="729720"/>
            <a:ext cx="4867200" cy="365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D69D-9444-441B-98C2-E12C3101E1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987C-7CA0-4B86-ABF8-A6717E85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E19-6230-4836-9F1C-10C9C86E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490-9717-4ACB-A80F-1B54FF58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F838-CD30-46F0-98F1-CAF47A6C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832-88DC-42DC-B5FF-519DE7BB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3FB-861F-451C-B859-49AD0662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6E2C-5094-41AF-A029-5B1DE409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DD2-83F9-42C0-95E8-8FAB4708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4E3-5BAE-413A-A17B-7D21D46D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7BC-4F9C-4447-B733-69688624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39D-2532-4C47-B269-4AE75E7B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F6F-6C0C-4EC1-8A91-B3B5A0F8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0B87-E020-42AD-9CF9-E3891000D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-36360" y="37944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p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9079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 Objectiv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Explore ways to make writing descrip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Be able to write descrip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580000" y="2060640"/>
            <a:ext cx="2016360" cy="178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 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82560" y="1916280"/>
            <a:ext cx="396072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 noun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A type of Indian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24000" y="4221000"/>
            <a:ext cx="3960720" cy="249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 verb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omething that makes           your pizza tast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643280" y="4497480"/>
            <a:ext cx="396108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Vocabulary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wor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entenc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The way you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Explore ways to make writing descri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0920" y="4437000"/>
            <a:ext cx="388944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nouns are PRE-MODIFIED – they have extra informatio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 fron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50920" y="765000"/>
            <a:ext cx="396072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oun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opy these noun phrases and underline the nou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we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, bad 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e long e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little p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572000" y="765000"/>
            <a:ext cx="3960720" cy="37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opy these sentences and underline the 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as covered in mu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lked alone through th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tie looked at her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50920" y="55897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: Why do you think nouns are pre-modified? What is the eff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643280" y="486900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think of a more interesting synonym for each verb. Use a thesaurus if you 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7299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324000" y="1628640"/>
            <a:ext cx="1008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 flipH="1">
            <a:off x="1331640" y="620640"/>
            <a:ext cx="143964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995640" y="76500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771640" y="189000"/>
            <a:ext cx="18003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635280" y="1268280"/>
            <a:ext cx="7938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55640" y="2276640"/>
            <a:ext cx="18003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Exciting verb choices; some person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780000" y="1484280"/>
            <a:ext cx="433080" cy="14292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V="1">
            <a:off x="2050920" y="1628640"/>
            <a:ext cx="1729080" cy="648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411280" y="4113360"/>
            <a:ext cx="360360" cy="17928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1619280" y="3141720"/>
            <a:ext cx="720720" cy="93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861080" y="1557360"/>
            <a:ext cx="187164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6299280" y="260280"/>
            <a:ext cx="50472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V="1">
            <a:off x="6588000" y="549360"/>
            <a:ext cx="71640" cy="1008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5796000" y="620640"/>
            <a:ext cx="43164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 flipV="1">
            <a:off x="5940360" y="980640"/>
            <a:ext cx="0" cy="576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68360" y="3994200"/>
            <a:ext cx="1368360" cy="255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mo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50920" y="765000"/>
            <a:ext cx="8497800" cy="285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going to receive your own chocolate. Eat the chocolate, and then write your own description of it. Be as expressive as possible, and try to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xcit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Suitable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050920" y="4164120"/>
            <a:ext cx="1368720" cy="209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r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wat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645080" y="422100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se words to help you, or even better, find your own – use a thesaur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H="1">
            <a:off x="3708000" y="5084640"/>
            <a:ext cx="792360" cy="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5640" y="2960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they look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0920" y="765000"/>
            <a:ext cx="8497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of the characters in ‘Of Mice and Men’ are lonely and depressed. Write one paragraph about a lonely and depressed character in today’s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9640" y="2133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l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755640" y="346392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they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55640" y="3968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they are lonely and de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95280" y="4797360"/>
            <a:ext cx="813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 as descriptive as possible, using the skills from today’s les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u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e figurative language: similes, metaphors, personific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 rot="452400">
            <a:off x="5291640" y="2408400"/>
            <a:ext cx="3635280" cy="21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ossible reasons for loneliness / de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Racism – homelessness – bullying – poverty – or your own id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inish your descriptive paragrap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Due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2" descr=""/>
          <p:cNvPicPr/>
          <p:nvPr/>
        </p:nvPicPr>
        <p:blipFill>
          <a:blip r:embed="rId1"/>
          <a:stretch/>
        </p:blipFill>
        <p:spPr>
          <a:xfrm>
            <a:off x="971640" y="798480"/>
            <a:ext cx="7642080" cy="6159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39640" y="115920"/>
            <a:ext cx="180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627280" y="101520"/>
            <a:ext cx="24480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292720" y="115920"/>
            <a:ext cx="33116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 rot="16200000">
            <a:off x="-2078640" y="3348720"/>
            <a:ext cx="48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SK: Draw a line from each box pointing to an example of the language featur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03280" y="404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58920" y="2133720"/>
            <a:ext cx="86508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5:38:49Z</dcterms:created>
  <dc:creator>HWS</dc:creator>
  <dc:description/>
  <cp:keywords>Descriptive writing</cp:keywords>
  <dc:language>en-US</dc:language>
  <cp:lastModifiedBy>RomaK</cp:lastModifiedBy>
  <dcterms:modified xsi:type="dcterms:W3CDTF">2015-09-02T09:37:40Z</dcterms:modified>
  <cp:revision>13</cp:revision>
  <dc:subject/>
  <dc:title>Descriptive writing</dc:title>
</cp:coreProperties>
</file>