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E8C5-2F23-40D5-AD98-6A94D58F35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634-7E28-4DA3-B0A5-666D9949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A9B-FDC6-4AF1-8146-1165592D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DBF-2446-484E-8C4C-F5BEE481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950-0C1A-4461-921C-F5746C15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F96-35F5-42F0-B1CD-4ADDED7F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541-A364-4638-893C-C66065A5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C8A-D63F-4541-B097-7D8A158F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26E-591F-4C8E-AECE-DB6822D8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D16-AC24-438E-841D-B6DAFF37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8560-8467-4540-889D-D981195B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415-1619-46EC-9D39-22D549C0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947-D7C7-409F-ADF5-C4E0CBB1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3666-8706-4B61-8FAD-45BF4FE482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324000" y="137880"/>
            <a:ext cx="82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Aluminium and Titani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These are two metals with a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ow density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which means they are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ightweight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for their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aluminium rods"/>
          <p:cNvPicPr/>
          <p:nvPr/>
        </p:nvPicPr>
        <p:blipFill>
          <a:blip r:embed="rId1"/>
          <a:stretch/>
        </p:blipFill>
        <p:spPr>
          <a:xfrm>
            <a:off x="468360" y="3860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5"/>
          <p:cNvSpPr/>
          <p:nvPr/>
        </p:nvSpPr>
        <p:spPr>
          <a:xfrm>
            <a:off x="3995640" y="3597120"/>
            <a:ext cx="457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the reaction between titanium metal and potassium perchlorate "/>
          <p:cNvPicPr/>
          <p:nvPr/>
        </p:nvPicPr>
        <p:blipFill>
          <a:blip r:embed="rId1"/>
          <a:stretch/>
        </p:blipFill>
        <p:spPr>
          <a:xfrm>
            <a:off x="395280" y="4005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The picture above shows the result from adding titanium powder to a burning mixture of potassium chlorate and sucrose."/>
          <p:cNvPicPr/>
          <p:nvPr/>
        </p:nvPicPr>
        <p:blipFill>
          <a:blip r:embed="rId2"/>
          <a:stretch/>
        </p:blipFill>
        <p:spPr>
          <a:xfrm>
            <a:off x="5148360" y="3860640"/>
            <a:ext cx="2736720" cy="2471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0" y="213840"/>
            <a:ext cx="9578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Titanium,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when p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titanium wire"/>
          <p:cNvPicPr/>
          <p:nvPr/>
        </p:nvPicPr>
        <p:blipFill>
          <a:blip r:embed="rId3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: Cross section of aluminium, showing thin oxide layer."/>
          <p:cNvPicPr/>
          <p:nvPr/>
        </p:nvPicPr>
        <p:blipFill>
          <a:blip r:embed="rId1"/>
          <a:stretch/>
        </p:blipFill>
        <p:spPr>
          <a:xfrm>
            <a:off x="539640" y="3429000"/>
            <a:ext cx="7780320" cy="315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5"/>
          <p:cNvSpPr/>
          <p:nvPr/>
        </p:nvSpPr>
        <p:spPr>
          <a:xfrm>
            <a:off x="468360" y="549360"/>
            <a:ext cx="79912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Aluminium and Titanium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resist corro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they have a very thin layer of their oxides on the surface, which stops air and water getting to the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87280" y="-122760"/>
            <a:ext cx="885672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Extrac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uminium is more reactive than carbon, so the reaction does not wo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itanium forms titanium carbide with carbon, which makes the metal britt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j02908860000[1]"/>
          <p:cNvPicPr/>
          <p:nvPr/>
        </p:nvPicPr>
        <p:blipFill>
          <a:blip r:embed="rId1"/>
          <a:stretch/>
        </p:blipFill>
        <p:spPr>
          <a:xfrm>
            <a:off x="6616800" y="0"/>
            <a:ext cx="22795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done by th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ayer proces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which involves treatmen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dium hydroxid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lu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followed by purification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lectro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luminium rods"/>
          <p:cNvPicPr/>
          <p:nvPr/>
        </p:nvPicPr>
        <p:blipFill>
          <a:blip r:embed="rId1"/>
          <a:stretch/>
        </p:blipFill>
        <p:spPr>
          <a:xfrm>
            <a:off x="611280" y="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564000" y="40464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473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nvolves the action of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lori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arb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on the titanium ore followed by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ractional distill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uction with magnesium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itanium wire"/>
          <p:cNvPicPr/>
          <p:nvPr/>
        </p:nvPicPr>
        <p:blipFill>
          <a:blip r:embed="rId1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4643280" y="907920"/>
            <a:ext cx="4249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tanium is isolated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Kroll metho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24000" y="33336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9900"/>
                </a:solidFill>
                <a:uFillTx/>
                <a:latin typeface="Arial"/>
              </a:rPr>
              <a:t>C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Aluminium extraction is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expensive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 because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the process needs a lot of electrical energy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Titanium extraction is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expensive 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because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he process involves several stag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and a lot of energy. This especially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limits the us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of titanium.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Cj04244640000[1]"/>
          <p:cNvPicPr/>
          <p:nvPr/>
        </p:nvPicPr>
        <p:blipFill>
          <a:blip r:embed="rId1"/>
          <a:stretch/>
        </p:blipFill>
        <p:spPr>
          <a:xfrm>
            <a:off x="755640" y="0"/>
            <a:ext cx="18446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9999"/>
                </a:solidFill>
                <a:uFillTx/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uminium and Titanium both hav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ow dens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hich means 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ightweight for their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resist corr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125440" y="544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24000" y="34290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660033"/>
                </a:solidFill>
                <a:latin typeface="Arial"/>
              </a:rPr>
              <a:t>cannot be extracted by  reduc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24000" y="4508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Extraction is expensi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ecause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55640" y="501336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several stage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volved and the processes require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a lot of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20:32:51Z</dcterms:created>
  <dc:creator>HP Authorized Customer</dc:creator>
  <dc:description/>
  <dc:language>en-US</dc:language>
  <cp:lastModifiedBy>RomaK</cp:lastModifiedBy>
  <dcterms:modified xsi:type="dcterms:W3CDTF">2015-09-01T16:14:45Z</dcterms:modified>
  <cp:revision>13</cp:revision>
  <dc:subject/>
  <dc:title>Slide 1</dc:title>
</cp:coreProperties>
</file>