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9FC8-F06D-4551-8E2D-8A7EB0132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wo metals with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, when pur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resist corrosion as they have a very thin layer of their oxides on the surface, which stops air and water getting to the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ore reactive than carbon, so the reaction does not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forms titanium carbide with carbon, which makes the metal britt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by the Bayer process, which involves treatment with sodium hydroxide solution, followed by purification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he action of chlorine and carbon on the titanium ore followed by fractional distillation and then reduction with magnes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is isolated using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oll meth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extraction is expensive because the process needs a lot of electrical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anium extraction is expensive because the process involves several stages and a lot of energy. This especially limits the uses of titanium.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 and Titanium both have a low density which means they are lightweight for their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sist corro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not be extracted by  re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ion is expensive because there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stages involved and the processes require a lot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486-BC63-46DD-AD78-24DCA826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A34-6AA7-4F73-A4FD-BA927C7B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0F7-F7DB-43DE-B914-FFF31A70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87D-C4C5-4760-972B-FC1D9438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CB7-48F9-4A8E-ABE5-E497A49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3A55-ACD1-4E6A-B39F-D77FBF28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D6D-F44F-46DF-ADFC-D8909D82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0B7-C766-4EF1-9915-E279DC29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193-57C6-4945-88B4-7B947C6F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807-3E0A-45C7-AF3A-564A411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802-9A60-4FC6-8CA8-B0E4FCB5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D26-F43D-41F6-9166-F7AE9FE3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81B-36DB-4DE6-86D0-5156A24621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324000" y="137880"/>
            <a:ext cx="82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Aluminium and Titani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These are two metals with a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ow density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which means they are </a:t>
            </a:r>
            <a:r>
              <a:rPr b="1" lang="en-GB" sz="3200" spc="-1" strike="noStrike">
                <a:solidFill>
                  <a:srgbClr val="cc9900"/>
                </a:solidFill>
                <a:latin typeface="Arial"/>
              </a:rPr>
              <a:t>lightweight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for their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4" descr="aluminium rods"/>
          <p:cNvPicPr/>
          <p:nvPr/>
        </p:nvPicPr>
        <p:blipFill>
          <a:blip r:embed="rId1"/>
          <a:stretch/>
        </p:blipFill>
        <p:spPr>
          <a:xfrm>
            <a:off x="468360" y="386064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5"/>
          <p:cNvSpPr/>
          <p:nvPr/>
        </p:nvSpPr>
        <p:spPr>
          <a:xfrm>
            <a:off x="3995640" y="3597120"/>
            <a:ext cx="4572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luminium is used for aircraft, trains, overhead power cables, saucepans and cooking f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the reaction between titanium metal and potassium perchlorate "/>
          <p:cNvPicPr/>
          <p:nvPr/>
        </p:nvPicPr>
        <p:blipFill>
          <a:blip r:embed="rId1"/>
          <a:stretch/>
        </p:blipFill>
        <p:spPr>
          <a:xfrm>
            <a:off x="395280" y="400536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The picture above shows the result from adding titanium powder to a burning mixture of potassium chlorate and sucrose."/>
          <p:cNvPicPr/>
          <p:nvPr/>
        </p:nvPicPr>
        <p:blipFill>
          <a:blip r:embed="rId2"/>
          <a:stretch/>
        </p:blipFill>
        <p:spPr>
          <a:xfrm>
            <a:off x="5148360" y="3860640"/>
            <a:ext cx="2736720" cy="247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0"/>
          <p:cNvSpPr/>
          <p:nvPr/>
        </p:nvSpPr>
        <p:spPr>
          <a:xfrm>
            <a:off x="0" y="213840"/>
            <a:ext cx="9578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Titanium,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when pur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s a lustrous, white met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metal burns in air and is the only element that burns in nitrogen. It is marvellous in fire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titanium wire"/>
          <p:cNvPicPr/>
          <p:nvPr/>
        </p:nvPicPr>
        <p:blipFill>
          <a:blip r:embed="rId3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: Cross section of aluminium, showing thin oxide layer."/>
          <p:cNvPicPr/>
          <p:nvPr/>
        </p:nvPicPr>
        <p:blipFill>
          <a:blip r:embed="rId1"/>
          <a:stretch/>
        </p:blipFill>
        <p:spPr>
          <a:xfrm>
            <a:off x="539640" y="3429000"/>
            <a:ext cx="7780320" cy="3156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5"/>
          <p:cNvSpPr/>
          <p:nvPr/>
        </p:nvSpPr>
        <p:spPr>
          <a:xfrm>
            <a:off x="468360" y="549360"/>
            <a:ext cx="799128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Aluminium and Titanium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9900"/>
                </a:solidFill>
                <a:latin typeface="Arial"/>
              </a:rPr>
              <a:t>resist corro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they have a very thin layer of their oxides on the surface, which stops air and water getting to the me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287280" y="-122760"/>
            <a:ext cx="885672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99"/>
                </a:solidFill>
                <a:latin typeface="Arial"/>
              </a:rPr>
              <a:t>Extractio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like iron, aluminium and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not be extracted from their oxides by reduction with carbon beca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uminium is more reactive than carbon, so the reaction does not work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itanium forms titanium carbide with carbon, which makes the metal britt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MCj02908860000[1]"/>
          <p:cNvPicPr/>
          <p:nvPr/>
        </p:nvPicPr>
        <p:blipFill>
          <a:blip r:embed="rId1"/>
          <a:stretch/>
        </p:blipFill>
        <p:spPr>
          <a:xfrm>
            <a:off x="6616800" y="0"/>
            <a:ext cx="2279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order to isolate pure aluminium, impurities must be removed from the bauxi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done by the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Bayer proces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which involves treatmen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dium hydroxid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lu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followed by purification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electro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luminium rods"/>
          <p:cNvPicPr/>
          <p:nvPr/>
        </p:nvPicPr>
        <p:blipFill>
          <a:blip r:embed="rId1"/>
          <a:stretch/>
        </p:blipFill>
        <p:spPr>
          <a:xfrm>
            <a:off x="611280" y="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564000" y="4046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uminium is mined in huge scales as baux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473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nvolves the action of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lori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arb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on the titanium ore followed by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ractional distill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uction with magnesium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titanium wire"/>
          <p:cNvPicPr/>
          <p:nvPr/>
        </p:nvPicPr>
        <p:blipFill>
          <a:blip r:embed="rId1"/>
          <a:stretch/>
        </p:blipFill>
        <p:spPr>
          <a:xfrm>
            <a:off x="755640" y="260280"/>
            <a:ext cx="2736720" cy="2054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4643280" y="907920"/>
            <a:ext cx="4249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tanium is isolated using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Kroll metho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2400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 u="sng">
                <a:solidFill>
                  <a:srgbClr val="009900"/>
                </a:solidFill>
                <a:uFillTx/>
                <a:latin typeface="Arial"/>
              </a:rPr>
              <a:t>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Aluminium extraction is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expensive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 because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the process needs a lot of electrical energy</a:t>
            </a:r>
            <a:r>
              <a:rPr b="0" lang="en-GB" sz="3600" spc="-1" strike="noStrike">
                <a:solidFill>
                  <a:srgbClr val="660066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Titanium extraction is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expensive 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because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the process involves several stag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and a lot of energy. This especially </a:t>
            </a:r>
            <a:r>
              <a:rPr b="1" lang="en-GB" sz="3600" spc="-1" strike="noStrike">
                <a:solidFill>
                  <a:srgbClr val="660033"/>
                </a:solidFill>
                <a:latin typeface="Arial"/>
              </a:rPr>
              <a:t>limits the uses</a:t>
            </a:r>
            <a:r>
              <a:rPr b="0" lang="en-GB" sz="3600" spc="-1" strike="noStrike">
                <a:solidFill>
                  <a:srgbClr val="660033"/>
                </a:solidFill>
                <a:latin typeface="Arial"/>
              </a:rPr>
              <a:t> of titanium.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Cj04244640000[1]"/>
          <p:cNvPicPr/>
          <p:nvPr/>
        </p:nvPicPr>
        <p:blipFill>
          <a:blip r:embed="rId1"/>
          <a:stretch/>
        </p:blipFill>
        <p:spPr>
          <a:xfrm>
            <a:off x="755640" y="0"/>
            <a:ext cx="1844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9999"/>
                </a:solidFill>
                <a:uFillTx/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uminium and Titanium both have a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 dens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hich means they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ightweight for their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resist corro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125440" y="544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324000" y="342900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GB" sz="2800" spc="-1" strike="noStrike">
                <a:solidFill>
                  <a:srgbClr val="660033"/>
                </a:solidFill>
                <a:latin typeface="Arial"/>
              </a:rPr>
              <a:t>cannot be extracted by  reduc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24000" y="4508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Extraction is expensiv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ecause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755640" y="501336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several stage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volved and the processes require </a:t>
            </a: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a lot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20:32:51Z</dcterms:created>
  <dc:creator>HP Authorized Customer</dc:creator>
  <dc:description/>
  <dc:language>en-US</dc:language>
  <cp:lastModifiedBy>RomaK</cp:lastModifiedBy>
  <dcterms:modified xsi:type="dcterms:W3CDTF">2015-09-01T16:14:45Z</dcterms:modified>
  <cp:revision>13</cp:revision>
  <dc:subject/>
  <dc:title>Slide 1</dc:title>
</cp:coreProperties>
</file>