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3FF1-BB0C-4212-8D3B-818B2BAAAB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20D-F100-4842-9A03-CF64038F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844-8697-47A9-882A-808BA72E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2D6-D4A4-4A14-B3B0-C9CAE1C5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B38-318A-4B60-B4EA-6D293990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CD2-668C-4148-BACD-E447737C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A70-1F63-4626-9F63-88241141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502-25F8-4894-B779-0C11C366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F45-2DD4-4119-930A-7684E406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6AA-C56A-456F-8C94-3ED88718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A41-F460-4BA0-8B60-9D173E95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2332-24A3-4147-98D5-75F8F224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C9C-8513-4E19-A2C6-B1B6BFC5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18CA-77FE-4F43-AC03-917FA65921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324000" y="137880"/>
            <a:ext cx="82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Aluminium and Titani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These are two metals with a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ow density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which means they are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ightweight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for their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aluminium rods"/>
          <p:cNvPicPr/>
          <p:nvPr/>
        </p:nvPicPr>
        <p:blipFill>
          <a:blip r:embed="rId1"/>
          <a:stretch/>
        </p:blipFill>
        <p:spPr>
          <a:xfrm>
            <a:off x="468360" y="3860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5"/>
          <p:cNvSpPr/>
          <p:nvPr/>
        </p:nvSpPr>
        <p:spPr>
          <a:xfrm>
            <a:off x="3995640" y="3597120"/>
            <a:ext cx="457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the reaction between titanium metal and potassium perchlorate "/>
          <p:cNvPicPr/>
          <p:nvPr/>
        </p:nvPicPr>
        <p:blipFill>
          <a:blip r:embed="rId1"/>
          <a:stretch/>
        </p:blipFill>
        <p:spPr>
          <a:xfrm>
            <a:off x="395280" y="4005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The picture above shows the result from adding titanium powder to a burning mixture of potassium chlorate and sucrose."/>
          <p:cNvPicPr/>
          <p:nvPr/>
        </p:nvPicPr>
        <p:blipFill>
          <a:blip r:embed="rId2"/>
          <a:stretch/>
        </p:blipFill>
        <p:spPr>
          <a:xfrm>
            <a:off x="5148360" y="3860640"/>
            <a:ext cx="2736720" cy="2471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0" y="213840"/>
            <a:ext cx="9578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Titanium,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when p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titanium wire"/>
          <p:cNvPicPr/>
          <p:nvPr/>
        </p:nvPicPr>
        <p:blipFill>
          <a:blip r:embed="rId3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: Cross section of aluminium, showing thin oxide layer."/>
          <p:cNvPicPr/>
          <p:nvPr/>
        </p:nvPicPr>
        <p:blipFill>
          <a:blip r:embed="rId1"/>
          <a:stretch/>
        </p:blipFill>
        <p:spPr>
          <a:xfrm>
            <a:off x="539640" y="3429000"/>
            <a:ext cx="7780320" cy="315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5"/>
          <p:cNvSpPr/>
          <p:nvPr/>
        </p:nvSpPr>
        <p:spPr>
          <a:xfrm>
            <a:off x="468360" y="549360"/>
            <a:ext cx="79912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Aluminium and Titanium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resist corro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they have a very thin layer of their oxides on the surface, which stops air and water getting to the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87280" y="-122760"/>
            <a:ext cx="885672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Extrac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uminium is more reactive than carbon, so the reaction does not wo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itanium forms titanium carbide with carbon, which makes the metal britt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j02908860000[1]"/>
          <p:cNvPicPr/>
          <p:nvPr/>
        </p:nvPicPr>
        <p:blipFill>
          <a:blip r:embed="rId1"/>
          <a:stretch/>
        </p:blipFill>
        <p:spPr>
          <a:xfrm>
            <a:off x="6616800" y="0"/>
            <a:ext cx="22795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done by th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ayer proces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which involves treatmen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dium hydroxid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lu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followed by purification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lectro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luminium rods"/>
          <p:cNvPicPr/>
          <p:nvPr/>
        </p:nvPicPr>
        <p:blipFill>
          <a:blip r:embed="rId1"/>
          <a:stretch/>
        </p:blipFill>
        <p:spPr>
          <a:xfrm>
            <a:off x="611280" y="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564000" y="40464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473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nvolves the action of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lori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arb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on the titanium ore followed by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ractional distill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uction with magnesium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itanium wire"/>
          <p:cNvPicPr/>
          <p:nvPr/>
        </p:nvPicPr>
        <p:blipFill>
          <a:blip r:embed="rId1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4643280" y="907920"/>
            <a:ext cx="4249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tanium is isolated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Kroll metho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24000" y="33336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9900"/>
                </a:solidFill>
                <a:uFillTx/>
                <a:latin typeface="Arial"/>
              </a:rPr>
              <a:t>C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Aluminium extraction is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expensive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 because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the process needs a lot of electrical energy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Titanium extraction is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expensive 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because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he process involves several stag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and a lot of energy. This especially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limits the us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of titanium.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Cj04244640000[1]"/>
          <p:cNvPicPr/>
          <p:nvPr/>
        </p:nvPicPr>
        <p:blipFill>
          <a:blip r:embed="rId1"/>
          <a:stretch/>
        </p:blipFill>
        <p:spPr>
          <a:xfrm>
            <a:off x="755640" y="0"/>
            <a:ext cx="18446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9999"/>
                </a:solidFill>
                <a:uFillTx/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uminium and Titanium both hav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ow dens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hich means 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ightweight for their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resist corr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125440" y="544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24000" y="34290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660033"/>
                </a:solidFill>
                <a:latin typeface="Arial"/>
              </a:rPr>
              <a:t>cannot be extracted by  reduc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24000" y="4508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Extraction is expensi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ecause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55640" y="501336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several stage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volved and the processes require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a lot of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20:32:51Z</dcterms:created>
  <dc:creator>HP Authorized Customer</dc:creator>
  <dc:description/>
  <dc:language>en-US</dc:language>
  <cp:lastModifiedBy>RomaK</cp:lastModifiedBy>
  <dcterms:modified xsi:type="dcterms:W3CDTF">2015-09-01T16:14:45Z</dcterms:modified>
  <cp:revision>13</cp:revision>
  <dc:subject/>
  <dc:title>Slide 1</dc:title>
</cp:coreProperties>
</file>