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DA70-F16A-4E05-B3A0-00F5EE0650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19F-7B72-4D26-8150-189DE2DC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CE6-37A2-474F-ABBF-445B0FE4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215-18F4-4023-A17C-6D8E2B2B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5FD-7DCA-4FCF-ABA3-394D675F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E2B4-EF11-4840-86AA-1873C50F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D889-D284-4D94-9C97-2F90BD50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F906-A3E0-4767-888A-21D18DC6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15A1-0CB3-44AA-9A76-F181C850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3A92-4285-4261-9859-184E1D3B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658A-D8B7-4E07-BEF5-044F9A9A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8802-AFF6-4FB8-B312-D40A6A4F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CB9-4B5E-42CD-9C31-4E4F7366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94BE-B2D2-4F3D-A1A9-4E09C3B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B4C2-E845-4CAF-89F1-34C1BD7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44E8-C027-4E2A-BA3A-07A924D5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66B4-C373-4748-B0D0-BFC41220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A0BB-9CE4-40ED-A2E4-530D2BFC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CF2-CD70-4BAA-A7D9-F27C9828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27A-7715-47ED-9175-239F12B0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1E1-B070-4785-9FAC-A45EA415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C80-44EA-4342-92AA-7B468ADC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C32-28FC-4ED0-B264-33884C0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7C7-F7FD-48D2-8326-7C3D29BE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67B-4999-43DD-9B69-08698401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957B-8E7F-4054-ABB0-D508EE64E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16B2-2868-4511-A52B-A7EF4F41D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1:24:04Z</dcterms:created>
  <dc:creator>Ben Swanson</dc:creator>
  <dc:description/>
  <dc:language>en-US</dc:language>
  <cp:lastModifiedBy>RomaK</cp:lastModifiedBy>
  <dcterms:modified xsi:type="dcterms:W3CDTF">2015-09-02T09:37:12Z</dcterms:modified>
  <cp:revision>4</cp:revision>
  <dc:subject/>
  <dc:title>Conjunctions </dc:title>
</cp:coreProperties>
</file>