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9A1C-B097-4664-A340-C8520D3BB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ng the same ethical way in any situation or place; being your best 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ng the same ethical way in any situation or place; being your best 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shows commitment, courage, and self-discip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shows commitment, courage, and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honorable yourself if you wish to associate with honorable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elsh Prover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honorable yourself if you wish to associate with honorable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elsh Pro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looks outside, dreams; who looks inside, awak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arl J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ooks outside, dreams; who looks inside, aw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l J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Eleanor Roosevel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leanor Roosev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better to be hated for what you are than to be loved for what you are no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ndre G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tter to be hated for what you are than to be loved for what you are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ndre G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people who are uncomfortable in themselves are disagreeable to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illiam Hazlit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people who are uncomfortable in themselves are disagreeable to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lliam Hazli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ind Woman and the Physician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nd Woman and the Physician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honest and reliable in carrying out commitments, duties, and oblig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honest and reliable in carrying out commitments, duties, and oblig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Do you think that the woman owes the physician any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Do you think that the woman owes the physician any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Have you ever felt taken advantage of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ve you ever felt taken advantage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Why is it wrong to take advantage of oth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wrong to take advantage of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Would you consider someone who takes advantage of others trustwort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ould you consider someone who takes advantage of others trustwort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 How can you avoid taking advantage of other peop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avoid taking advantage of other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ways return items I have borrow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return items I have borr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others count on me to do what I say I will d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others count on me to do what I say I will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mi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u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li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d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oyal person supports and protects family, friends, community, and coun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yal person supports and protects family, friends, community, and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m is loyal doesn’t gossip or talk behind the backs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m is loyal doesn’t gossip or talk behind the backs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F09-0711-40AE-AF85-92FA6D5F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2986-6DB2-4A7A-8091-263C4C66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239-D1D7-40E3-B753-7EEA17F4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B65-C502-4154-83D1-CEB889FD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1BF95-6976-461B-ADD8-46810A2B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9C40E-32D7-43FB-A3B5-F38CA7ED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0C221-343A-4153-A5D9-3EEF3E7C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2B9FD-CE9D-4635-B5D0-F58FF78D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EB04C-1D21-49F4-AF92-CF806B53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FB0D5-F479-4CA8-A135-DC4FBB41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CB219-8B07-4C37-A7BE-9C3EA460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94F4-F1B4-40EF-AB2A-A436E82C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4BE2B-3B81-45A4-AA02-F5F4CC2A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EFDBE-DA37-4F60-AB45-14CD6D38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E932B-9AD6-45AD-B6E5-C9D2FFAD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53AAA-2A08-4B22-866D-9F108489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81511-8A35-4EB6-985C-54ABC5F8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EE2C-9FE6-4932-ABBD-DBBA54A3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277-ADDC-4727-A9FC-BDCF7EA6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12BD-6F35-4D1B-B772-9709BBC3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A0A0-59C4-47B1-8507-8D19B2F9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94F9-53A9-4675-8BB3-D7D57A44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FE78-54B6-436A-8B04-8E5B9482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EBA-A166-4A44-BFE9-84A5F5F2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FBA6-16EE-4CCA-99DA-D1934ECEA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3519-873B-4E98-A80E-BC76ABFC8D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aracter Education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Mr. Anderson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aracter Trait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rustworthines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tegrity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ehaving the same ethical way in any situation or place; being your best self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5" descr="j0183168"/>
          <p:cNvPicPr/>
          <p:nvPr/>
        </p:nvPicPr>
        <p:blipFill>
          <a:blip r:embed="rId1"/>
          <a:stretch/>
        </p:blipFill>
        <p:spPr>
          <a:xfrm>
            <a:off x="3733920" y="3962520"/>
            <a:ext cx="190188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j0183168"/>
          <p:cNvPicPr/>
          <p:nvPr/>
        </p:nvPicPr>
        <p:blipFill>
          <a:blip r:embed="rId1"/>
          <a:stretch/>
        </p:blipFill>
        <p:spPr>
          <a:xfrm>
            <a:off x="5716440" y="301464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shows commitment, courage, and self-disciplin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" descr="j0183168"/>
          <p:cNvPicPr/>
          <p:nvPr/>
        </p:nvPicPr>
        <p:blipFill>
          <a:blip r:embed="rId1"/>
          <a:stretch/>
        </p:blipFill>
        <p:spPr>
          <a:xfrm>
            <a:off x="5792760" y="286236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j0183168"/>
          <p:cNvPicPr/>
          <p:nvPr/>
        </p:nvPicPr>
        <p:blipFill>
          <a:blip r:embed="rId1"/>
          <a:stretch/>
        </p:blipFill>
        <p:spPr>
          <a:xfrm>
            <a:off x="5792760" y="286236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honorable yourself if you wish to associate with honorable peop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Welsh Prove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looks outside, dreams; who looks inside, awak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Carl J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Eleanor Rooseve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better to be hated for what you are than to be loved for what you are no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Andre G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se people who are uncomfortable in themselves are disagreeable to oth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William Hazlit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Blind Woman and the Physician.”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Aesop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eing honest and reliable in carrying out commitments, duties, and obligation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1" name="Picture 7" descr="j0300840"/>
          <p:cNvPicPr/>
          <p:nvPr/>
        </p:nvPicPr>
        <p:blipFill>
          <a:blip r:embed="rId1"/>
          <a:stretch/>
        </p:blipFill>
        <p:spPr>
          <a:xfrm>
            <a:off x="3733920" y="3581280"/>
            <a:ext cx="181440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 Do you think that the woman owes the physician anyth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 Have you ever felt taken advantage of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  Why is it wrong to take advantage of othe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 Would you consider someone who takes advantage of others trustworth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 How can you avoid taking advantage of other peop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ways return items I have borrow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9" descr="j0300840"/>
          <p:cNvPicPr/>
          <p:nvPr/>
        </p:nvPicPr>
        <p:blipFill>
          <a:blip r:embed="rId1"/>
          <a:stretch/>
        </p:blipFill>
        <p:spPr>
          <a:xfrm>
            <a:off x="5759280" y="3083040"/>
            <a:ext cx="181476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others count on me to do what I say I will 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0" descr="j0300840"/>
          <p:cNvPicPr/>
          <p:nvPr/>
        </p:nvPicPr>
        <p:blipFill>
          <a:blip r:embed="rId1"/>
          <a:stretch/>
        </p:blipFill>
        <p:spPr>
          <a:xfrm>
            <a:off x="5105520" y="3083040"/>
            <a:ext cx="24685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yal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mi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u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i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lig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Loyalty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loyal person supports and protects family, friends, community, and count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0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3637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m is loyal doesn’t gossip or talk behind the backs of othe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6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2111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2111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6:26Z</dcterms:modified>
  <cp:revision>8</cp:revision>
  <dc:subject/>
  <dc:title>Character Education Trustworthiness</dc:title>
</cp:coreProperties>
</file>