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CC03-6432-484A-A0F3-6D494BBEF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267-9A39-4FD7-B5AF-551F1E2C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287-74A6-4553-AFF2-1E1438ED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86E-F586-4E2E-A814-EB49B7D1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8DA-166D-4054-95A0-AE1AB425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1B874-3D2D-4659-867D-5A5B5D82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2DD12-B031-41AA-8DE4-F6D2CF34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267D2-7527-480D-8FF7-EEF32E81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E38A3-4232-4953-BD24-C93966B6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A4CC3-7611-482E-A55C-F4B33489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5285F-DA37-4E17-81D2-8A649C5D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64699-151B-4360-90BD-ED9F41E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DD9-20F0-46BF-9110-492A9266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44EA4-36DF-4651-83A6-D727B882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7AC5B-DA40-4E3A-B446-B7D5B8DB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868D7-CDD3-4A90-9F71-95C603F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AF4A2-669F-40DE-AAFE-055D2329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E4E0-2583-4079-A8CF-2CFCE815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B69-C6D8-4F22-872A-D028D026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A69-B2AE-40DE-BD7C-22C725FF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1BF-1761-4CB7-BFE0-90FAD73F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B6D-8171-4480-94C2-CE8E1C59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C87-2091-4B6D-BBBD-7C2C8E5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440-1866-48B9-92F8-F29C4106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63D-5C4B-401B-841E-6712FD61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3643-2BE3-4F2B-9F81-E6A915C19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2D0F-FE9A-411C-8B9B-312F59A354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Education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Anderson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Trait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ustworthines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gri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having the same ethical way in any situation or place; being your best sel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5" descr="j0183168"/>
          <p:cNvPicPr/>
          <p:nvPr/>
        </p:nvPicPr>
        <p:blipFill>
          <a:blip r:embed="rId1"/>
          <a:stretch/>
        </p:blipFill>
        <p:spPr>
          <a:xfrm>
            <a:off x="3733920" y="3962520"/>
            <a:ext cx="19018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j0183168"/>
          <p:cNvPicPr/>
          <p:nvPr/>
        </p:nvPicPr>
        <p:blipFill>
          <a:blip r:embed="rId1"/>
          <a:stretch/>
        </p:blipFill>
        <p:spPr>
          <a:xfrm>
            <a:off x="5716440" y="301464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lind Woman and the Physician.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Aeso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ing honest and reliable in carrying out commitments, duties, and oblig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7" descr="j0300840"/>
          <p:cNvPicPr/>
          <p:nvPr/>
        </p:nvPicPr>
        <p:blipFill>
          <a:blip r:embed="rId1"/>
          <a:stretch/>
        </p:blipFill>
        <p:spPr>
          <a:xfrm>
            <a:off x="3733920" y="35812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j0300840"/>
          <p:cNvPicPr/>
          <p:nvPr/>
        </p:nvPicPr>
        <p:blipFill>
          <a:blip r:embed="rId1"/>
          <a:stretch/>
        </p:blipFill>
        <p:spPr>
          <a:xfrm>
            <a:off x="5759280" y="30830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j0300840"/>
          <p:cNvPicPr/>
          <p:nvPr/>
        </p:nvPicPr>
        <p:blipFill>
          <a:blip r:embed="rId1"/>
          <a:stretch/>
        </p:blipFill>
        <p:spPr>
          <a:xfrm>
            <a:off x="5105520" y="3083040"/>
            <a:ext cx="2468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yal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363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26Z</dcterms:modified>
  <cp:revision>8</cp:revision>
  <dc:subject/>
  <dc:title>Character Education Trustworthiness</dc:title>
</cp:coreProperties>
</file>