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AC220-7141-4EF2-9AA1-2DD620E80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cter Educatio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r. Anderson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cter Trait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worthines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Educ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Anderson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Trai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worth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grity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having the same ethical way in any situation or place; being your best self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ity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ng the same ethical way in any situation or place; being your best 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grity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of integrity stands up for his/her beliefs about what is right and what is wro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ity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of integrity stands up for his/her beliefs about what is right and what is wr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grity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of integrity shows commitment, courage, and self-discipl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ity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of integrity shows commitment, courage, and self-discip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grity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of integrity doesn’t get involved in things that he/she thinks are wrong, even under social pressu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ity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of integrity doesn’t get involved in things that he/she thinks are wrong, even under social pres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worthiness Quo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 honorable yourself if you wish to associate with honorable peop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Welsh Prover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worthiness Qu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honorable yourself if you wish to associate with honorable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elsh Prover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worthiness Quo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o looks outside, dreams; who looks inside, awak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Carl Ju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worthiness Qu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looks outside, dreams; who looks inside, awak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rl J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worthiness Quo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iendship with oneself is all-important, because without it one cannot be friends with anyone el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Eleanor Roosevel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worthiness Qu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endship with oneself is all-important, because without it one cannot be friends with anyone el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leanor Rooseve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worthiness Quo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better to be hated for what you are than to be loved for what you are no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Andre Gi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worthiness Qu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better to be hated for what you are than to be loved for what you are n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ndre G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worthiness Quo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ose people who are uncomfortable in themselves are disagreeable to oth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William Hazlit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worthiness Qu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people who are uncomfortable in themselves are disagreeable to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illiam Hazli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Blind Woman and the Physician.”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Aeso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ind Woman and the Physician.”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es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worthiness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ing honest and reliable in carrying out commitments, duties, and obliga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worthiness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honest and reliable in carrying out commitments, duties, and oblig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ion Questions for “The Blind Woman and the Physician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 Do you think that the woman owes the physician anything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The Blind Woman and the Physicia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Do you think that the woman owes the physician anyth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ion Questions for “The Blind Woman and the Physician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 Have you ever felt taken advantage of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The Blind Woman and the Physicia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Have you ever felt taken advantage of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ion Questions for “The Blind Woman and the Physician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  Why is it wrong to take advantage of other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The Blind Woman and the Physicia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Why is it wrong to take advantage of oth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ion Questions for “The Blind Woman and the Physician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  Would you consider someone who takes advantage of others trustwort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The Blind Woman and the Physicia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Would you consider someone who takes advantage of others trustwort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ion Questions for “The Blind Woman and the Physician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.  How can you avoid taking advantage of other peopl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The Blind Woman and the Physicia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How can you avoid taking advantage of other peop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worthiness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ways return items I have borrow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worthiness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return items I have borrow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worthiness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 others count on me to do what I say I will do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worthiness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others count on me to do what I say I will 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worthiness Wor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nes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gr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yal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liabil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mi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pu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it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lig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d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fid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worthiness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es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yal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i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li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yalty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king it a responsibility to promote and protect the interests of people and associa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yalty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it a responsibility to promote and protect the interests of people and associ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yalty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loyal person supports and protects family, friends, community, and countr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yalty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oyal person supports and protects family, friends, community, and coun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yalty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whom is loyal doesn’t gossip or talk behind the backs of oth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yalty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whom is loyal doesn’t gossip or talk behind the backs of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yalty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who is loyal doesn’t violate ethical principles and doesn’t ask a friend to engage in wrongful activit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yalty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who is loyal doesn’t violate ethical principles and doesn’t ask a friend to engage in wrongful activ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2594-2E81-47EE-9AF0-2CD213B64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0512-69C6-4302-867A-493976536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3E89-8A6D-422A-AAE0-A6ABE060B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1FF3-5534-4CA9-8CAF-10F3805CF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499956-17AF-42E6-AD43-B9BC54459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AFFCED-E33A-4709-B301-C64202544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863365-39B5-4D9F-8BEB-837B8AF01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8E1B98-5FFA-448E-BF8B-26690C7D7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791598-8E7C-4FA8-9AE3-E05346F9E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C98265-5F41-4E44-AF2D-21175BAC8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26C21F-EAAB-447F-B078-48D8936F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4794-7B2A-4C48-88E6-BE824652B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F34FB3-7757-46CC-9A69-5B7BACC1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3770D9-0BD3-42D1-9746-09488A34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85DFA5-BB0F-402D-BF81-ED83A7EE9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76B32B-59BB-47E2-A540-C6046C809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DCD583-0CF9-49E5-9F27-20C55BAE1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72E0-67C9-4031-A4B2-BEC823DDB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612A-57D9-4BD2-A0D8-0CB977980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066D-0E4C-4BC0-8FDB-2C85FB76C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AF5C-54EE-4242-885E-04C3B4C3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F702-3794-4357-BBB7-4C1DD1E7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90EF-6878-4CBC-9473-E617471A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A134-E16A-4F4D-9138-CEB74A19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Anderson's Character Development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BC0AF-6C5C-4F42-8805-8B4EEF394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87154-6CAF-4720-8DE1-FAADD89C0D3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r. Anderson's Character Development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530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haracter Education</a:t>
            </a:r>
            <a:br>
              <a:rPr sz="5400"/>
            </a:b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Mr. Anderson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haracter Trait</a:t>
            </a:r>
            <a:br>
              <a:rPr sz="5400"/>
            </a:b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Trustworthines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0062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Integrity Definition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Behaving the same ethical way in any situation or place; being your best self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3" name="Picture 5" descr="j0183168"/>
          <p:cNvPicPr/>
          <p:nvPr/>
        </p:nvPicPr>
        <p:blipFill>
          <a:blip r:embed="rId1"/>
          <a:stretch/>
        </p:blipFill>
        <p:spPr>
          <a:xfrm>
            <a:off x="3733920" y="3962520"/>
            <a:ext cx="1901880" cy="16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ntegrity Exampl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erson of integrity stands up for his/her beliefs about what is right and what is wrong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6" descr="j0183168"/>
          <p:cNvPicPr/>
          <p:nvPr/>
        </p:nvPicPr>
        <p:blipFill>
          <a:blip r:embed="rId1"/>
          <a:stretch/>
        </p:blipFill>
        <p:spPr>
          <a:xfrm>
            <a:off x="5716440" y="3014640"/>
            <a:ext cx="190188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ntegrity Exampl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erson of integrity shows commitment, courage, and self-disciplin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6" descr="j0183168"/>
          <p:cNvPicPr/>
          <p:nvPr/>
        </p:nvPicPr>
        <p:blipFill>
          <a:blip r:embed="rId1"/>
          <a:stretch/>
        </p:blipFill>
        <p:spPr>
          <a:xfrm>
            <a:off x="5792760" y="2862360"/>
            <a:ext cx="190188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ntegrity Exampl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erson of integrity doesn’t get involved in things that he/she thinks are wrong, even under social pressur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4" descr="j0183168"/>
          <p:cNvPicPr/>
          <p:nvPr/>
        </p:nvPicPr>
        <p:blipFill>
          <a:blip r:embed="rId1"/>
          <a:stretch/>
        </p:blipFill>
        <p:spPr>
          <a:xfrm>
            <a:off x="5792760" y="2862360"/>
            <a:ext cx="190188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Trustworthiness Quot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 honorable yourself if you wish to associate with honorable peopl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Welsh Prover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Trustworthiness Quot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looks outside, dreams; who looks inside, awak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Carl Ju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Trustworthiness Quot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iendship with oneself is all-important, because without it one cannot be friends with anyone els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Eleanor Roosevel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Trustworthiness Quot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is better to be hated for what you are than to be loved for what you are no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Andre G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Trustworthiness Quot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se people who are uncomfortable in themselves are disagreeable to other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William Hazlit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Blind Woman and the Physician.”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-Aesop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0062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Trustworthiness Definition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Being honest and reliable in carrying out commitments, duties, and obligations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1" name="Picture 7" descr="j0300840"/>
          <p:cNvPicPr/>
          <p:nvPr/>
        </p:nvPicPr>
        <p:blipFill>
          <a:blip r:embed="rId1"/>
          <a:stretch/>
        </p:blipFill>
        <p:spPr>
          <a:xfrm>
            <a:off x="3733920" y="3581280"/>
            <a:ext cx="1814400" cy="15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Discussion Questions for “The Blind Woman and the Physician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320" y="32004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.  Do you think that the woman owes the physician anything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Discussion Questions for “The Blind Woman and the Physician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320" y="32004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.  Have you ever felt taken advantage of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Discussion Questions for “The Blind Woman and the Physician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320" y="32004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.  Why is it wrong to take advantage of other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Discussion Questions for “The Blind Woman and the Physician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320" y="32004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.  Would you consider someone who takes advantage of others trustworthy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Discussion Questions for “The Blind Woman and the Physician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32004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5.  How can you avoid taking advantage of other peopl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rustworthiness Exampl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ways return items I have borrowe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9" descr="j0300840"/>
          <p:cNvPicPr/>
          <p:nvPr/>
        </p:nvPicPr>
        <p:blipFill>
          <a:blip r:embed="rId1"/>
          <a:stretch/>
        </p:blipFill>
        <p:spPr>
          <a:xfrm>
            <a:off x="5759280" y="3083040"/>
            <a:ext cx="1814760" cy="15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rustworthiness Exampl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2120" y="1904760"/>
            <a:ext cx="4765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others count on me to do what I say I will d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10" descr="j0300840"/>
          <p:cNvPicPr/>
          <p:nvPr/>
        </p:nvPicPr>
        <p:blipFill>
          <a:blip r:embed="rId1"/>
          <a:stretch/>
        </p:blipFill>
        <p:spPr>
          <a:xfrm>
            <a:off x="5105520" y="3083040"/>
            <a:ext cx="2468520" cy="21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rustworthiness Word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7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nes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egr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oyal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liabil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mi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9760" y="1600200"/>
            <a:ext cx="4037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put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mit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lig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t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nd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fiden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0062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Loyalty Definition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Making it a responsibility to promote and protect the interests of people and associations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2" name="Picture 3" descr="j0216724"/>
          <p:cNvPicPr/>
          <p:nvPr/>
        </p:nvPicPr>
        <p:blipFill>
          <a:blip r:embed="rId1"/>
          <a:stretch/>
        </p:blipFill>
        <p:spPr>
          <a:xfrm>
            <a:off x="3200400" y="3429000"/>
            <a:ext cx="2743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oyalty Exampl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loyal person supports and protects family, friends, community, and countr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10" descr="j0216724"/>
          <p:cNvPicPr/>
          <p:nvPr/>
        </p:nvPicPr>
        <p:blipFill>
          <a:blip r:embed="rId1"/>
          <a:stretch/>
        </p:blipFill>
        <p:spPr>
          <a:xfrm>
            <a:off x="5942160" y="2935440"/>
            <a:ext cx="2363760" cy="27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oyalty Exampl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erson whom is loyal doesn’t gossip or talk behind the backs of other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6" descr="j0216724"/>
          <p:cNvPicPr/>
          <p:nvPr/>
        </p:nvPicPr>
        <p:blipFill>
          <a:blip r:embed="rId1"/>
          <a:stretch/>
        </p:blipFill>
        <p:spPr>
          <a:xfrm>
            <a:off x="5942160" y="2935440"/>
            <a:ext cx="221112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oyalty Exampl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erson who is loyal doesn’t violate ethical principles and doesn’t ask a friend to engage in wrongful activiti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4" descr="j0216724"/>
          <p:cNvPicPr/>
          <p:nvPr/>
        </p:nvPicPr>
        <p:blipFill>
          <a:blip r:embed="rId1"/>
          <a:stretch/>
        </p:blipFill>
        <p:spPr>
          <a:xfrm>
            <a:off x="5942160" y="2935440"/>
            <a:ext cx="221112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4T02:55:25Z</dcterms:created>
  <dc:creator>OKCPS</dc:creator>
  <dc:description/>
  <dc:language>en-US</dc:language>
  <cp:lastModifiedBy>RomaK</cp:lastModifiedBy>
  <dcterms:modified xsi:type="dcterms:W3CDTF">2015-09-02T09:36:26Z</dcterms:modified>
  <cp:revision>8</cp:revision>
  <dc:subject/>
  <dc:title>Character Education Trustworthiness</dc:title>
</cp:coreProperties>
</file>