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8FC-55EB-4CA8-9A62-DEB1948BA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Chain-of-Com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ation of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ing about your words and actions, and then making choices that are right for you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Black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 YOU  CA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 You 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tient Definition: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monstrating uncomplaining endurance under distr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3257-452E-42DC-9EF0-1F01DD86F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6B1-9A5F-4876-B5BF-DDBC6CFC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0B2F-1851-48CF-A46F-BC65CBCF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FA9-56E8-4D22-AB4A-18F11045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2AB8-3DD1-4133-912B-5647491CD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FB61-5B1A-495E-B60F-E2DDA982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2C44-7B31-4D9E-BB6C-8CD7DD58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305F-0BDF-46B7-9758-AAF28382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CDBB-C92D-4060-A5A1-4BD2203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0F1D-8DF3-4304-91CD-2EA39E4E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B01F-27DC-4EF2-9AB1-ACD8801E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59F-5AB6-4EF3-BDAE-2ADA3EBF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44A3A-7C12-4ED1-AD6E-A56152FB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ACE4-33B4-415C-AFBD-F5426CC7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73AD-EB4C-4545-B471-2D360C44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08942-A0FC-4220-8DA2-0456FA82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31A5-0BEC-45E8-9B38-65472B72E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14B-3D3C-4032-81DA-4605B232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C66-DFFB-4F2C-8091-9D081119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8898-E7A5-456F-BB01-65E6520A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6E4-83F4-4096-81BD-114C0FA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709-6998-4217-AF64-AC896256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1B4F-E44F-445F-896B-72553DF1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255-9277-49D9-A175-BD9AB429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FF5-5D8F-4ACA-A09C-834ECF35AF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5C6D-A429-4814-994C-C93AA1C99AD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Education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Mr. Anderson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haracter Trait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Self-Disciplin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Restrai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cepting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rtunity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 yourself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j0149481"/>
          <p:cNvPicPr/>
          <p:nvPr/>
        </p:nvPicPr>
        <p:blipFill>
          <a:blip r:embed="rId1"/>
          <a:stretch/>
        </p:blipFill>
        <p:spPr>
          <a:xfrm>
            <a:off x="5181480" y="1986120"/>
            <a:ext cx="297180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Tu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47656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 Awa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pers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cognizes when 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emptation is t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rong to resist 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urns away from it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" descr="j0186348"/>
          <p:cNvPicPr/>
          <p:nvPr/>
        </p:nvPicPr>
        <p:blipFill>
          <a:blip r:embed="rId1"/>
          <a:stretch/>
        </p:blipFill>
        <p:spPr>
          <a:xfrm>
            <a:off x="5410080" y="1981080"/>
            <a:ext cx="2667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uppor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ek Account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ountability is invoking t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ength of teamwork to face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lleng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Greek philosopher Plato was onc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sked, “What man is most fit to govern 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own?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lato’s reply: “He that can well gover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himself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Quot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e become just by the practice of jus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ions, self-controlled by exercising self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ol, and courageous by perform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ts of courage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-Aristotl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Discipline 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not negative restraint but rather positive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ife management. Self-discipline is having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 focus broader than self-indulgence. I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ings selfish desires under control i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order to achieve a greater en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Self-Management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intaining a personal budget is a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xcellent example of self-discipl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Internal Chain-of-Command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f-discipline involves self-government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eeping one’s internal faculties in prop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lationship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Foundation of Self-Discipline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foundation of self-discipline is th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bility to control one’s thoughts, actions,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ttitudes, and feeling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33"/>
                </a:solidFill>
                <a:latin typeface="Garamond"/>
              </a:rPr>
              <a:t>Self-Discipline Questions</a:t>
            </a:r>
            <a:endParaRPr b="0" lang="en-US" sz="5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ow is self-discipli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monstrated in th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assroom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elf-Discipline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hinking about your words and actions, and then making choices that are right for you and other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Picture 9" descr="j0195384"/>
          <p:cNvPicPr/>
          <p:nvPr/>
        </p:nvPicPr>
        <p:blipFill>
          <a:blip r:embed="rId1"/>
          <a:stretch/>
        </p:blipFill>
        <p:spPr>
          <a:xfrm>
            <a:off x="3351240" y="3902040"/>
            <a:ext cx="1798560" cy="184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Black Bear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“Black Bear”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3212640"/>
            <a:ext cx="7167600" cy="17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iscuss various ways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lack bear demonstrat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lf-discipline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hat can we learn from th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behavior of the black bear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at will translate into huma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activities?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Discussion Questions for Black Bear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167600" cy="17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self-discipline help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hieve your goals as you ref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allow immediate desire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romise long-term goals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choices that will benefit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0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th now and in the futu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thoughts; they become word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words; they become action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actions; they become habits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habits; they become character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atch your character; for it becomes your destiny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09480" y="9144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7000"/>
          </a:bodyPr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 wise old owl sat in an oak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more he saw, the less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poke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 less he spoke, the more 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eard,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12672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sh I could  be like that old bird!!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YES  YOU  CAN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erse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en, gather round I found something that you ca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f you listen, well, I’m here to tell you, you cannot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 song, simple melody, to remind you that you can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st ever, defeated never, even though sometimes you may l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oru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you can do anything if you try, just 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es you can, but you have to believe and rely on what you have ins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make it through your trials, for your trials will just make you stro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 do anything, yes you can, o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 your children well, it’s time to tell them just who they 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in them as they go to let them know that they can go f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h my brother why do you wait, tomorrow night just be too l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God gave the provision, made the decision, you can do all things through your fa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8440" y="1143000"/>
            <a:ext cx="5527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accept th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ings do not always go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my way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j0199036"/>
          <p:cNvPicPr/>
          <p:nvPr/>
        </p:nvPicPr>
        <p:blipFill>
          <a:blip r:embed="rId1"/>
          <a:stretch/>
        </p:blipFill>
        <p:spPr>
          <a:xfrm>
            <a:off x="6248520" y="1905120"/>
            <a:ext cx="18288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Yes You Ca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Vamp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can, I can, I can, yes I can do any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matter what if you can just conceive it, if you believe it, then you can achieve i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3560" y="1910880"/>
            <a:ext cx="476568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 show self-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I finish m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hores befo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laying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2" descr="j0199036"/>
          <p:cNvPicPr/>
          <p:nvPr/>
        </p:nvPicPr>
        <p:blipFill>
          <a:blip r:embed="rId1"/>
          <a:stretch/>
        </p:blipFill>
        <p:spPr>
          <a:xfrm>
            <a:off x="5334120" y="1905120"/>
            <a:ext cx="289548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lf-Discipline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contro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illpower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Restrain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mposur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Firm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oundnes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tabil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atie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ois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Patient Definition:</a:t>
            </a: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monstrating uncomplaining endurance under distress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6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33"/>
                </a:solidFill>
                <a:latin typeface="Garamond"/>
              </a:rPr>
              <a:t>Key Concepts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Focu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8440" y="137160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ook Beyond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lf-Discipline is th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opposite of self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dulgence.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j0216724"/>
          <p:cNvPicPr/>
          <p:nvPr/>
        </p:nvPicPr>
        <p:blipFill>
          <a:blip r:embed="rId1"/>
          <a:stretch/>
        </p:blipFill>
        <p:spPr>
          <a:xfrm>
            <a:off x="5791320" y="2077920"/>
            <a:ext cx="2359080" cy="279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Garamond"/>
              </a:rPr>
              <a:t>Discern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Guard Your Step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When water flow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long a riverbed,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here is a give-and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take between water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nd soil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j0292152"/>
          <p:cNvPicPr/>
          <p:nvPr/>
        </p:nvPicPr>
        <p:blipFill>
          <a:blip r:embed="rId1"/>
          <a:stretch/>
        </p:blipFill>
        <p:spPr>
          <a:xfrm>
            <a:off x="5334120" y="1981080"/>
            <a:ext cx="29718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07Z</dcterms:modified>
  <cp:revision>13</cp:revision>
  <dc:subject/>
  <dc:title>Character Education Self-discipline</dc:title>
</cp:coreProperties>
</file>