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1B87-7AA0-4588-B942-36F4A7743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32F-CF4A-448D-84E9-68B43585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2CA0-8A5F-4A51-B0E8-8DD07143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86D-9E20-46DA-89C1-4AC1F960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BA2-42AC-40D9-B6AD-3AB059BA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A1B1-6865-4869-9F5D-5D068A88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FDBC-1D81-433A-AA59-0BB3B739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2FC0-1F5E-4B57-9B85-D71D4FA0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BA9E-5F7D-4F6E-B298-1FC08B15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BB18-6D22-4BA1-B7CA-731D4A64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DD9E-3C58-4070-B209-3B86B030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8C12-E15C-4824-8707-6470B751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1FF-54CF-4782-BEE3-FD5BA1E0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2107-6839-4A44-8886-24C9BE49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ADD6-B7A9-4B29-904D-FE47C3B0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061A-4FD6-4B68-9DDA-CC1DF296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228F-7915-4B28-9F29-33EEE478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0169-FD09-41DF-B860-FE2051C7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70A-7FC0-462D-B8CC-2A2F7DAC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AD7-8BFD-4B45-96F4-F78BA2C6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746-958D-4020-B5E9-9A83DA52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BA7-28B7-43AD-A14F-F020D604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811-DF64-4657-BD66-C25EE6C2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320E-F5CE-4CD9-9B75-33E9B865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A499-369D-42B3-9A85-C2218854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AEB5-B228-458E-905F-F6A9E84BC72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0858-996F-49AF-B21B-4B986FFD4A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elf-Disciplin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Restrai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0149481"/>
          <p:cNvPicPr/>
          <p:nvPr/>
        </p:nvPicPr>
        <p:blipFill>
          <a:blip r:embed="rId1"/>
          <a:stretch/>
        </p:blipFill>
        <p:spPr>
          <a:xfrm>
            <a:off x="5181480" y="1986120"/>
            <a:ext cx="297180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u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76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j0186348"/>
          <p:cNvPicPr/>
          <p:nvPr/>
        </p:nvPicPr>
        <p:blipFill>
          <a:blip r:embed="rId1"/>
          <a:stretch/>
        </p:blipFill>
        <p:spPr>
          <a:xfrm>
            <a:off x="5410080" y="1981080"/>
            <a:ext cx="26672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uppor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Discipline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Managemen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nternal Chain-of-Comman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Foundation of Self-Discipline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Self-Discipline Question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inking about your words and actions, and then making choices that are right for you and other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9" descr="j0195384"/>
          <p:cNvPicPr/>
          <p:nvPr/>
        </p:nvPicPr>
        <p:blipFill>
          <a:blip r:embed="rId1"/>
          <a:stretch/>
        </p:blipFill>
        <p:spPr>
          <a:xfrm>
            <a:off x="3351240" y="3902040"/>
            <a:ext cx="1798560" cy="18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Black Bea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“Black Bear”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3212640"/>
            <a:ext cx="716760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atient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monstrating uncomplaining endurance under distres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33"/>
                </a:solidFill>
                <a:latin typeface="Garamond"/>
              </a:rPr>
              <a:t>Key Concepts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Focu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8440" y="13716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j0216724"/>
          <p:cNvPicPr/>
          <p:nvPr/>
        </p:nvPicPr>
        <p:blipFill>
          <a:blip r:embed="rId1"/>
          <a:stretch/>
        </p:blipFill>
        <p:spPr>
          <a:xfrm>
            <a:off x="5791320" y="2077920"/>
            <a:ext cx="235908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Disce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j0292152"/>
          <p:cNvPicPr/>
          <p:nvPr/>
        </p:nvPicPr>
        <p:blipFill>
          <a:blip r:embed="rId1"/>
          <a:stretch/>
        </p:blipFill>
        <p:spPr>
          <a:xfrm>
            <a:off x="5334120" y="198108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07Z</dcterms:modified>
  <cp:revision>13</cp:revision>
  <dc:subject/>
  <dc:title>Character Education Self-discipline</dc:title>
</cp:coreProperties>
</file>