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C5BC-1988-4261-B81E-DC51E7CF2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BDF-584B-421E-90AE-CBB22D94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56AF-78A0-4C95-B60C-9617376D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2BA-849E-4CB1-9C39-0491D20E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70FA-8222-4235-8442-D0EA9CAB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0654-2939-41FD-A4AA-6492FEF7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5BA0-52F6-4E6B-A8F1-249219A6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B44F-10BB-4583-8397-E2FC9D06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D428-3495-4506-949A-763A57C1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0F89-B73D-4A3A-93D5-E9732EFF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26D2-A2EF-478E-B89E-35BA5563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13E3-4B48-4E43-8AF5-6BEA17DE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AE9-2E06-42D1-A250-E0C4D6AB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F18B-7ED3-4399-9507-7C35E481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CDF0-4D24-42CB-8D97-A0C51747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24B6-9D9A-4737-BD6E-D2479D0D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DF21-B70F-49C8-A614-D462EB3F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D605-3DD3-4DBC-B4DA-580D24DE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302-6552-4286-80FF-85BDA0D8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C1B-CE25-41AF-A636-2B17AAC1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047-9E22-49FB-BF84-E3C721B6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2B0-CE5B-4AA9-9EA9-092DEEFC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069-6585-4540-A309-BED39977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3BB9-B906-4217-B95C-99AAE80F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34C5-4EEE-4034-88E7-90DAC076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820C-E71C-4020-ADB1-7A0899BAD6E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63FF-7CD1-43E9-BE8E-5C674DA2E5D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elf-Disciplin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Restrai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0149481"/>
          <p:cNvPicPr/>
          <p:nvPr/>
        </p:nvPicPr>
        <p:blipFill>
          <a:blip r:embed="rId1"/>
          <a:stretch/>
        </p:blipFill>
        <p:spPr>
          <a:xfrm>
            <a:off x="5181480" y="1986120"/>
            <a:ext cx="297180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u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76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j0186348"/>
          <p:cNvPicPr/>
          <p:nvPr/>
        </p:nvPicPr>
        <p:blipFill>
          <a:blip r:embed="rId1"/>
          <a:stretch/>
        </p:blipFill>
        <p:spPr>
          <a:xfrm>
            <a:off x="5410080" y="1981080"/>
            <a:ext cx="26672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uppor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Discipline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Managemen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nternal Chain-of-Comman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Foundation of Self-Discipline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Self-Discipline Question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inking about your words and actions, and then making choices that are right for you and other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9" descr="j0195384"/>
          <p:cNvPicPr/>
          <p:nvPr/>
        </p:nvPicPr>
        <p:blipFill>
          <a:blip r:embed="rId1"/>
          <a:stretch/>
        </p:blipFill>
        <p:spPr>
          <a:xfrm>
            <a:off x="3351240" y="3902040"/>
            <a:ext cx="1798560" cy="18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Black Bea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“Black Bear”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3212640"/>
            <a:ext cx="716760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atient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monstrating uncomplaining endurance under distres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33"/>
                </a:solidFill>
                <a:latin typeface="Garamond"/>
              </a:rPr>
              <a:t>Key Concepts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Focu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8440" y="13716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j0216724"/>
          <p:cNvPicPr/>
          <p:nvPr/>
        </p:nvPicPr>
        <p:blipFill>
          <a:blip r:embed="rId1"/>
          <a:stretch/>
        </p:blipFill>
        <p:spPr>
          <a:xfrm>
            <a:off x="5791320" y="2077920"/>
            <a:ext cx="2359080" cy="27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Disce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j0292152"/>
          <p:cNvPicPr/>
          <p:nvPr/>
        </p:nvPicPr>
        <p:blipFill>
          <a:blip r:embed="rId1"/>
          <a:stretch/>
        </p:blipFill>
        <p:spPr>
          <a:xfrm>
            <a:off x="5334120" y="198108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07Z</dcterms:modified>
  <cp:revision>13</cp:revision>
  <dc:subject/>
  <dc:title>Character Education Self-discipline</dc:title>
</cp:coreProperties>
</file>