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3F57-96C6-49B8-BED6-0BBC4EF68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accountable person thinks before acting, is reliable, and accepts responsibility for the consequences of his/her cho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countable person thinks before acting, is reliable, and accepts responsibility for the consequences of his/her cho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accountable person doesn’t make excuses, or blame others for mistakes personally ma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countable person doesn’t make excuses, or blame others for mistakes personally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accountable person sets a good example for others to look up t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countable person sets a good example for others to look up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sue Excellenc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hibiting diligence, perseverance, and striving for continuous improve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sue Excellenc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ing diligence, perseverance, and striving for continuous improv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ellenc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pursuing excellence does his/her best at all times, being careful, prepared, and in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pursuing excellence does his/her best at all times, being careful, prepared, and in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pursuing excellence finishes what he/she starts and doesn’t give up easily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pursuing excellence finishes what he/she starts and doesn’t give up easily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pursuing excellence takes the responsibility of looking for ways to improve his/her work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pursuing excellence takes the responsibility of looking for ways to improve his/her work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pursuing excellence doesn’t surrender to obstacles or excuses, instead overcoming them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pursuing excellence doesn’t surrender to obstacles or excuses, instead overcoming them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Wo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oun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end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ell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orm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olf and the Crane.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lf and the Crane.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dependable and making good choi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dependable and making good cho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 Did the crane consider the consequences of her actio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Did the crane consider the consequences of her 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 Have you ever done something, then realized afterwards that you were fortunate to be unharmed by the consequenc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Have you ever done something, then realized afterwards that you were fortunate to be unharmed by the consequen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When you do something without thinking about the consequences, such as breaking a family rule, do you usually accept the consequences willingl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en you do something without thinking about the consequences, such as breaking a family rule, do you usually accept the consequences willing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 Is it good to understand actions and consequences at a young ag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Is it good to understand actions and consequences at a young a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 Why do our decisions and actions have consequenc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Why do our decisions and actions have consequen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od men prefer to be accountabl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ichael Edwar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men prefer to be accountabl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ichael Edwar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can’t escape the responsibility of tomorrow by evading it tod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braham Lincol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’t escape the responsibility of tomorrow by evading it tod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braham Linco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Privilege,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Responsibility.”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Privilege,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es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esponsibility.”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illingness to accept responsibility for one’s own life is the source from which self-respect spring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Joan Didio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illingness to accept responsibility for one’s own life is the source from which self-respect spring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Joan Didio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take responsibility for yourself you will develop a hunger to accomplish your dream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es Br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take responsibility for yourself you will develop a hunger to accomplish your dream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es Br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ice of greatness is responsibilit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ir Winston Churchill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ce of greatness is responsibilit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ir Winston Churchill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are accountable only to ourselves for what happens in our liv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ildred Newma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ccountable only to ourselves for what happens in our liv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ildred Newma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le people are accountable, pursue excellence, and exercise self-contro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people are accountable, pursue excellence, and exercise self-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ountabl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pting the blame or credit for one’s choices or behavi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l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the blame or credit for one’s choices or behavi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BFC6-6F01-492E-8F10-498505E0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C906-1063-4F21-9A1A-C2E53210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0B97-A8F6-4C8E-AFB1-7CB851C9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62C1-A91F-4C34-B84D-C7AE02CF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2BF0-6FDA-4E77-AC15-7AB43847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7B92-D1EC-4A1F-A882-F41155F9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8D9F-D1C2-410F-A376-280037B8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8830-2C40-4742-96AB-29E81107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8C1F-4B25-4938-9EE0-DF58D2C6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C75C-AB9A-4666-A063-267654CE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7073-9751-414B-8D28-B93461C1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064E-025B-4FE1-A6C0-77D77CBE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005B-F6B3-4EF3-82ED-447AAC7A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CD82-8398-4298-BD87-6018E595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AF62-2274-4A14-8373-A43AE98B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0B45-A4E3-42D9-B7D6-AF2AC074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65DE-CE61-4F92-A5DE-864285E3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EFAE-7942-4E2C-B40F-B7AF41C0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58E0-C60D-4E0D-B569-34890CEF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E882-2810-4BCA-AAE3-E5AC74D2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6C1B-8734-4E96-B3E2-3B2DB91B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7D05-212F-4594-81B3-B321BE27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2D08-D0BD-4849-8B59-7D97F197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B53A-CD40-47DF-A88E-F365EECC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BA6F-3F84-4E8E-8539-F3ABAFD0F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0467-0840-4B16-8CC7-CBFC4DD5C7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Education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r. Anderson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Trait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Responsibilit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844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n accountable person thinks before acting, is reliable, and accepts responsibility for the consequences of his/her choice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An accountable person doesn’t make excuses, or blame others for mistakes personally made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38512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An accountable person sets a good example for others to look up to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ursue Excellence: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xhibiting diligence, perseverance, and striving for continuous improvement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cellenc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pursuing excellence does his/her best at all times, being careful, prepared, and inform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j0240719"/>
          <p:cNvPicPr/>
          <p:nvPr/>
        </p:nvPicPr>
        <p:blipFill>
          <a:blip r:embed="rId1"/>
          <a:stretch/>
        </p:blipFill>
        <p:spPr>
          <a:xfrm>
            <a:off x="5791320" y="2286000"/>
            <a:ext cx="2535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 person pursuing excellence finishes what he/she starts and doesn’t give up easily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 person pursuing excellence takes the responsibility of looking for ways to improve his/her work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 person pursuing excellence doesn’t surrender to obstacles or excuses, instead overcoming them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ponsibility Wor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unt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i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n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stwort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cell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orm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ept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Wolf and the Crane.”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Aesop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eing dependable and making good choice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7" descr="j0233018"/>
          <p:cNvPicPr/>
          <p:nvPr/>
        </p:nvPicPr>
        <p:blipFill>
          <a:blip r:embed="rId1"/>
          <a:stretch/>
        </p:blipFill>
        <p:spPr>
          <a:xfrm>
            <a:off x="3200400" y="3252960"/>
            <a:ext cx="257508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.  Did the crane consider the consequences of her actio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2.  Have you ever done something, then realized afterwards that you were fortunate to be unharmed by the consequence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3.  When you do something without thinking about the consequences, such as breaking a family rule, do you usually accept the consequences willingl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4.  Is it good to understand actions and consequences at a young ag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5.  Why do our decisions and actions have consequence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ood men prefer to be accountable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-Michael Edward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You can’t escape the responsibility of tomorrow by evading it today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-Abraham Lincol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With Privilege,</a:t>
            </a:r>
            <a:br>
              <a:rPr sz="7200"/>
            </a:br>
            <a:br>
              <a:rPr sz="7200"/>
            </a:b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Comes</a:t>
            </a:r>
            <a:br>
              <a:rPr sz="7200"/>
            </a:br>
            <a:br>
              <a:rPr sz="7200"/>
            </a:b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 Responsibility.”</a:t>
            </a:r>
            <a:br>
              <a:rPr sz="4000"/>
            </a:br>
            <a:br>
              <a:rPr sz="4000"/>
            </a:b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he willingness to accept responsibility for one’s own life is the source from which self-respect springs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Joan Didion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If you take responsibility for yourself you will develop a hunger to accomplish your dreams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Les Brow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he price of greatness is responsibility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Sir Winston Churchill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We are accountable only to ourselves for what happens in our lives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Mildred Newman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ponsibility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21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ponsible people are accountable, pursue excellence, and exercise self-contro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j0090070"/>
          <p:cNvPicPr/>
          <p:nvPr/>
        </p:nvPicPr>
        <p:blipFill>
          <a:blip r:embed="rId1"/>
          <a:stretch/>
        </p:blipFill>
        <p:spPr>
          <a:xfrm>
            <a:off x="5410080" y="2057400"/>
            <a:ext cx="2819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ccountabl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epting the blame or credit for one’s choices or behavior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j0195812"/>
          <p:cNvPicPr/>
          <p:nvPr/>
        </p:nvPicPr>
        <p:blipFill>
          <a:blip r:embed="rId1"/>
          <a:stretch/>
        </p:blipFill>
        <p:spPr>
          <a:xfrm>
            <a:off x="5257800" y="2057400"/>
            <a:ext cx="25099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5:23Z</dcterms:modified>
  <cp:revision>8</cp:revision>
  <dc:subject/>
  <dc:title>Character Education Responsibility</dc:title>
</cp:coreProperties>
</file>