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D5ED-5C83-4408-A6A8-EF1E5F205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37F-D466-4DD0-A8C1-15DB11C2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B4C-9246-41F2-9988-B285E192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CF9-7D46-4F40-A00E-90B401A4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095-4B29-49CD-9453-07F4DA9A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5A1A-13CD-43F0-95C4-F203EA89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AC88-0F59-41B0-830A-9C10E9E1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8EF9-CBF2-4296-8EB6-E2C46245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3DA2-5F0E-4843-9C54-15AE57AE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3875-C7DF-4F31-9A63-888B28B3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9466-67B0-4CFE-A0BD-34339320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6677-D28F-4199-833A-EF0A0EF2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45A-B997-44EF-8E2D-B5BC1005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DF6-B1B9-456E-BAE4-9D1BE6C7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F77E-EDC8-4FB1-9278-B4538804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8F5C-960C-483D-9438-035FB97C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D2CC-BAA4-456E-8E88-A39981B6E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0C29-CAED-4849-8192-9300659C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F276-EB3F-41DD-8F19-C65EFB552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C992-3093-4E98-945D-6FEF2602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544-B4E5-4094-B690-40C708BF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9EA-B3AA-4D59-AF37-44A73EAE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335-F4A2-494C-A837-3C83031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B9A-43BE-44BD-A77A-6E1F1958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D81-03C2-4B34-BCFB-669DCCAF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FEB8-9CA0-47B0-AA79-E75985A58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EBBB1-D6BA-4493-98EE-D3B30800E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sponsibil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n accountable person thinks before acting, is reliable, and accepts responsibility for the consequences of his/her choic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An accountable person doesn’t make excuses, or blame others for mistakes personally mad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385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An accountable person sets a good example for others to look up to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ursue Excellen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hibiting diligence, perseverance, and striving for continuous improvement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ellenc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40719"/>
          <p:cNvPicPr/>
          <p:nvPr/>
        </p:nvPicPr>
        <p:blipFill>
          <a:blip r:embed="rId1"/>
          <a:stretch/>
        </p:blipFill>
        <p:spPr>
          <a:xfrm>
            <a:off x="5791320" y="2286000"/>
            <a:ext cx="2535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finishes what he/she starts and doesn’t give up easily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takes the responsibility of looking for ways to improve his/her work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doesn’t surrender to obstacles or excuses, instead overcoming them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Wolf and the Crane.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dependable and making good choice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j0233018"/>
          <p:cNvPicPr/>
          <p:nvPr/>
        </p:nvPicPr>
        <p:blipFill>
          <a:blip r:embed="rId1"/>
          <a:stretch/>
        </p:blipFill>
        <p:spPr>
          <a:xfrm>
            <a:off x="3200400" y="32529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men prefer to be accountable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Michael Edwar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can’t escape the responsibility of tomorrow by evading it today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Abraham Lincol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ith Privilege,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Comes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Responsibility.”</a:t>
            </a:r>
            <a:br>
              <a:rPr sz="4000"/>
            </a:br>
            <a:br>
              <a:rPr sz="40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willingness to accept responsibility for one’s own life is the source from which self-respect spring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Joan Did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you take responsibility for yourself you will develop a hunger to accomplish your dream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Les Brow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rice of greatness is responsibility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Sir Winston Churchill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 are accountable only to ourselves for what happens in our liv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Mildred Newma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090070"/>
          <p:cNvPicPr/>
          <p:nvPr/>
        </p:nvPicPr>
        <p:blipFill>
          <a:blip r:embed="rId1"/>
          <a:stretch/>
        </p:blipFill>
        <p:spPr>
          <a:xfrm>
            <a:off x="5410080" y="20574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untabl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j0195812"/>
          <p:cNvPicPr/>
          <p:nvPr/>
        </p:nvPicPr>
        <p:blipFill>
          <a:blip r:embed="rId1"/>
          <a:stretch/>
        </p:blipFill>
        <p:spPr>
          <a:xfrm>
            <a:off x="5257800" y="2057400"/>
            <a:ext cx="2509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5:23Z</dcterms:modified>
  <cp:revision>8</cp:revision>
  <dc:subject/>
  <dc:title>Character Education Responsibility</dc:title>
</cp:coreProperties>
</file>