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A5F1-CB15-4752-AD7D-E131DAF3D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is it sometimes difficult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is it sometimes difficult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the most difficult thing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o wait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the most difficult thing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o wait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When you show patience in a situation, does it usually have a good res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When you show patience in a situation, does it usually have a good res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ttle Engine That C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ttle Engine That C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o you think the engine kept trying even though the task was diffic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o you think the engine kept trying even though the task was diffic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What does it mean to have an “I Can” at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What does it mean to have an “I Can” at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at usually happens when you think you can’t do some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at usually happens when you think you can’t do some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something you have accomplished by believing that you could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something you have accomplished by believing that you could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How can you encourage yourself when you’re given a tough situation or tas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How can you encourage yourself when you’re given a tough situation or tas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2 handou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nacious Quo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y personal patience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 2 handouts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Tenacious Quot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My personal patience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hard and not giving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hard and not giving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stick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until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stick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until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do not g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do not g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ti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dfas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wa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nt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g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tin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ti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dfas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wa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nt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g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tin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ing together and sticking t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ing together and sticking t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w and the Pit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w and the Pit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id the crow decid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its plan to get the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id the crow decid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its plan to get the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re you a patient pers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re you a patient pers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A223-5CE9-46DA-B1A7-D90BDDE3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DA26-0875-46C2-89B7-640AA950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D749-DFD1-4C63-9338-E0D0DBCE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76F4-B226-4A5F-B58D-144E3347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5A50-9653-4EC5-AB81-7213427C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F03F-0465-4B10-AE2D-1EFA43E7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3571-678D-458B-B55F-CDE351ED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577C-2BF1-4732-89BC-52BCCCAF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DE9F-FEA6-44D0-AB6E-401D4626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66B1-CB73-4555-B37B-2CB61AB4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030F-16D0-47B3-8C4C-468FA4FA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256-A6C9-4D39-8C04-B24522A3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E939-2EA6-4F6D-AB19-050727F8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1683-3BA5-438B-81E4-A4CB7D06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A07D-306D-4529-AA71-7E33AF92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FF14-35D7-4098-B985-69633964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58B2-B0A1-4CB7-8DC9-CD2591C1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0215-A659-4A91-8C58-F7BDB361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42C8-D9FA-446F-A99A-1D1285E6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C965-D8DC-401C-B333-9D3E83FD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7E21-812A-4E33-B6D4-3D142B30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DBD-0619-4690-8551-719D9944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05F0-DBA7-4765-B3F1-BE1E5CE4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9548-4087-47B3-A9B2-0B48B4BD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5CB3-DDC2-4DFF-BADC-D3CE7BA308E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BB0E-EAA0-481A-AB9B-67247EE3641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Education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Mr. Anderson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Trait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erseveranc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3.  Why is it sometimes difficult to b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atien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4.  What is the most difficult thing for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you to wait for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5.  When you show patience in a situation, does it usually have a good resul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The Little Engine That Could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1.  Why do you think the engine kept trying even though the task was difficul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2.  What does it mean to have an “I Can” attitude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3.  What usually happens when you think you can’t do something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4.  What is something you have accomplished by believing that you could do i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5.  How can you encourage yourself when you’re given a tough situation or task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Complete 2 handouts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-Tenacious Quotes</a:t>
            </a:r>
            <a:br>
              <a:rPr sz="5400"/>
            </a:b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-My personal patience rating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erseverance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Working hard and not giving up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Picture 11" descr="j0292020"/>
          <p:cNvPicPr/>
          <p:nvPr/>
        </p:nvPicPr>
        <p:blipFill>
          <a:blip r:embed="rId1"/>
          <a:stretch/>
        </p:blipFill>
        <p:spPr>
          <a:xfrm>
            <a:off x="3770280" y="3581280"/>
            <a:ext cx="186840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YES  YOU  CA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erseveranc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8440" y="1143000"/>
            <a:ext cx="5527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 persevera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stick with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omething until it i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inished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j0199036"/>
          <p:cNvPicPr/>
          <p:nvPr/>
        </p:nvPicPr>
        <p:blipFill>
          <a:blip r:embed="rId1"/>
          <a:stretch/>
        </p:blipFill>
        <p:spPr>
          <a:xfrm>
            <a:off x="6248520" y="1905120"/>
            <a:ext cx="182880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erseveranc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3560" y="1910880"/>
            <a:ext cx="476568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do not giv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up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j0199036"/>
          <p:cNvPicPr/>
          <p:nvPr/>
        </p:nvPicPr>
        <p:blipFill>
          <a:blip r:embed="rId1"/>
          <a:stretch/>
        </p:blipFill>
        <p:spPr>
          <a:xfrm>
            <a:off x="5334120" y="1905120"/>
            <a:ext cx="289548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erseverance Wor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ertina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eadfast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alwart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nstanc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lentless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ogged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bstinac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ena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enacity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olding together and sticking to something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Picture 5" descr="j0285410"/>
          <p:cNvPicPr/>
          <p:nvPr/>
        </p:nvPicPr>
        <p:blipFill>
          <a:blip r:embed="rId1"/>
          <a:stretch/>
        </p:blipFill>
        <p:spPr>
          <a:xfrm>
            <a:off x="4343400" y="3276720"/>
            <a:ext cx="2819520" cy="23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The Crow and the Pitcher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1.  Why did the crow decide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hange its plan to get the water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2.  Are you a patient person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LEGION</cp:lastModifiedBy>
  <dcterms:modified xsi:type="dcterms:W3CDTF">2015-09-11T10:54:09Z</dcterms:modified>
  <cp:revision>13</cp:revision>
  <dc:subject/>
  <dc:title>Character Education Perseverance</dc:title>
</cp:coreProperties>
</file>