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265F-D18B-4933-93C1-6A8A0B826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Fair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Fair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more than his/her 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more than his/her 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blame others un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blame others un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ability that we may fail in the struggle ought not deter us from the support of a cause we believe to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we may fail in the struggle ought not deter us from the support of a cause we believe to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orazon Aqui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razon Aqu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ation of justice is good fai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cus T. Cic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ation of justice is good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cus T. Cic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 is the justice that examines all offen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illiam Shakespe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s the justice that examines all off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lliam Shakespe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a temporary thing that must at last come to an end; but the conscience is eternal and will never d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tin Lu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a temporary thing that must at last come to an end; but the conscience is eternal and will never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tin Lu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hing is to be preferred before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Socr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to be preferred before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c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the ligament which holds civilized beings and civilized nations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aniel Web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the ligament which holds civilized beings and civilized nation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niel Web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and power must be brought together, so that whatever is just may be powerful, and whatever is powerful may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Blaise Pas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and power must be brought together, so that whatever is just may be powerful, and whatever is powerful may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laise Pas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Demonstrating impartial, unbiased, and equitable treatment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Demonstrating impartial, unbiased, and equitable treatment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Donkey and the Lion.”</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Donkey and the Lion.”</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ow did the lion get away with taking all of the f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did the lion get away with taking all of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Have you ever played with someone who made up their own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ave you ever played with someone who made up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How does it feel to be cheated or taken advantag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does it feel to be cheated or taken advanta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y is it important to play by rules that all players agree up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y is it important to play by rules that all players agree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n playing a game or participating in a group activity, what can you do to make sure that everyone is treated 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n playing a game or participating in a group activity, what can you do to make sure that everyone is treated 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thoughts; they become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words; they become a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actions; they become ha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habits; they become charac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character; for it becomes your destin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thoughts; they bec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words; they becom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actions; they become ha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habits; they become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character; for it becomes your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Taking turns, sharing, and listening to what others have to s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Taking turns, sharing, and listening to what others have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show fairness when I take only my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fairness when I take only my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fair when I play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fair when I play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n-mind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qu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jud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it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r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rtion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arti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i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ju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rti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Definition:</a:t>
            </a:r>
            <a:br>
              <a:rPr sz="1200"/>
            </a:br>
            <a:br>
              <a:rPr sz="1200"/>
            </a:br>
            <a:r>
              <a:rPr b="0" lang="en-US" sz="1200" spc="-1" strike="noStrike">
                <a:solidFill>
                  <a:srgbClr val="ffffff"/>
                </a:solidFill>
                <a:latin typeface="Arial"/>
              </a:rPr>
              <a:t>Not taking advantage of others and making correction of mista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efinition:</a:t>
            </a:r>
            <a:br>
              <a:rPr sz="1200"/>
            </a:br>
            <a:br>
              <a:rPr sz="1200"/>
            </a:br>
            <a:r>
              <a:rPr b="0" lang="en-US" sz="1200" spc="-1" strike="noStrike">
                <a:solidFill>
                  <a:srgbClr val="000000"/>
                </a:solidFill>
                <a:latin typeface="Arial"/>
              </a:rPr>
              <a:t>Not taking advantage of others and making correction of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admits and corrects mistakes promptly and voluntarily and expects others to do the sa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admits and corrects mistakes promptly and voluntarily and expects others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advantage of the weaknesses or ignorance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advantage of the weaknesses or ignorance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6DD8B-8829-4819-8132-40D53814C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780D9-5D1A-4AC3-8909-095D889E8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2555D-9DE3-4269-900F-8DC579B0B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09800-1391-40E6-850C-9B311E56A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8839B80-6B7B-4427-B3CF-9EBF4C65D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EAF9B6-313F-4A3D-A697-549C03E09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8D9F1A9-D066-436A-A41A-575A6EDDA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3111FB-8BED-4144-806C-55FED8395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612295-8E30-4634-915D-7A00F8C48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508B5EA-FA9A-4806-9F61-218077308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880205-7F02-449B-B605-A7A37C397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F60F2-29FE-4B21-B758-0B1D3C2B1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252D06-B1FD-4FEE-AB1E-D612C167D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EDC695-2448-4CB4-8314-C847EBC0E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77A30D-A4A4-4A81-9569-79F724596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E8F1B7F-9D47-484D-989C-159695DAF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C7BB9D4-E5D9-4814-AEC8-D915B9841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DFC61-93BD-497F-ABA5-67350D0F1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E8E7D-4D54-4131-A92E-FB8DE7E88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DA9F0-EB17-45E4-A0FF-3B0DF934D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1A9B0-A9D1-4328-AC27-FAF3D93D1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9C611-5F92-40B5-A2E7-E9ADDE468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F0B57-4EB0-421B-9822-FF20B035B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73CF9-F37A-45EF-A924-136FDEE6D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6E02-F073-4642-8229-F41FDF16D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6BB0-0F5B-4D2A-B017-06BF6B426D9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Fairnes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more than his/her fair share.</a:t>
            </a:r>
            <a:endParaRPr b="0" lang="en-US" sz="4000" spc="-1" strike="noStrike">
              <a:solidFill>
                <a:srgbClr val="ffffff"/>
              </a:solidFill>
              <a:latin typeface="Arial"/>
            </a:endParaRPr>
          </a:p>
        </p:txBody>
      </p:sp>
      <p:pic>
        <p:nvPicPr>
          <p:cNvPr id="153" name="Picture 6" descr="j0149481"/>
          <p:cNvPicPr/>
          <p:nvPr/>
        </p:nvPicPr>
        <p:blipFill>
          <a:blip r:embed="rId1"/>
          <a:stretch/>
        </p:blipFill>
        <p:spPr>
          <a:xfrm>
            <a:off x="5181480" y="1981080"/>
            <a:ext cx="2971800" cy="32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blame others unfairly.</a:t>
            </a:r>
            <a:endParaRPr b="0" lang="en-US" sz="4000" spc="-1" strike="noStrike">
              <a:solidFill>
                <a:srgbClr val="ffffff"/>
              </a:solidFill>
              <a:latin typeface="Arial"/>
            </a:endParaRPr>
          </a:p>
        </p:txBody>
      </p:sp>
      <p:pic>
        <p:nvPicPr>
          <p:cNvPr id="156" name="Picture 6" descr="j0233018"/>
          <p:cNvPicPr/>
          <p:nvPr/>
        </p:nvPicPr>
        <p:blipFill>
          <a:blip r:embed="rId1"/>
          <a:stretch/>
        </p:blipFill>
        <p:spPr>
          <a:xfrm>
            <a:off x="4572000" y="1676520"/>
            <a:ext cx="3382920" cy="347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obability that we may fail in the struggle ought not deter us from the support of a cause we believe to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Corazon Aquin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oundation of justice is good faith.</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cus T. Cicer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 is the justice that examines all offender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William Shakespear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a temporary thing that must at last come to an end; but the conscience is eternal and will never di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tin Luth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hing is to be preferred before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Socrate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the ligament which holds civilized beings and civilized nations togeth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Daniel Webst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and power must be brought together, so that whatever is just may be powerful, and whatever is powerful may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Blaise Pascal</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Demonstrating impartial, unbiased, and equitable treatment of others.</a:t>
            </a:r>
            <a:endParaRPr b="0" lang="en-US" sz="4000" spc="-1" strike="noStrike">
              <a:solidFill>
                <a:srgbClr val="e3e3ff"/>
              </a:solidFill>
              <a:latin typeface="Arial"/>
            </a:endParaRPr>
          </a:p>
        </p:txBody>
      </p:sp>
      <p:pic>
        <p:nvPicPr>
          <p:cNvPr id="131" name="Picture 7"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Donkey and the Lion.”</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5000"/>
          </a:bodyPr>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How did the lion get away with taking all of the foo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Have you ever played with someone who made up their own rul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How does it feel to be cheated or taken advantage of?</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Why is it important to play by rules that all players agree up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3" name="PlaceHolder 2"/>
          <p:cNvSpPr>
            <a:spLocks noGrp="1"/>
          </p:cNvSpPr>
          <p:nvPr>
            <p:ph/>
          </p:nvPr>
        </p:nvSpPr>
        <p:spPr>
          <a:xfrm>
            <a:off x="1066320" y="2666520"/>
            <a:ext cx="7162920" cy="1752840"/>
          </a:xfrm>
          <a:prstGeom prst="rect">
            <a:avLst/>
          </a:prstGeom>
          <a:noFill/>
          <a:ln w="0">
            <a:noFill/>
          </a:ln>
        </p:spPr>
        <p:txBody>
          <a:bodyPr anchor="t">
            <a:normAutofit fontScale="68000"/>
          </a:bodyPr>
          <a:p>
            <a:pPr marL="2332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When playing a game or participating in a group activity, what can you do to make sure that everyone is treated fairl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28240" y="228600"/>
            <a:ext cx="7924680" cy="1752480"/>
          </a:xfrm>
          <a:prstGeom prst="rect">
            <a:avLst/>
          </a:prstGeom>
          <a:noFill/>
          <a:ln w="0">
            <a:noFill/>
          </a:ln>
        </p:spPr>
        <p:txBody>
          <a:bodyPr anchor="t">
            <a:normAutofit fontScale="51000"/>
          </a:bodyPr>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thoughts; they become word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words; they become action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actions; they become habit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habits; they become character.</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character; for it becomes your destin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Taking turns, sharing, and listening to what others have to say.</a:t>
            </a:r>
            <a:endParaRPr b="0" lang="en-US" sz="4000" spc="-1" strike="noStrike">
              <a:solidFill>
                <a:srgbClr val="e3e3ff"/>
              </a:solidFill>
              <a:latin typeface="Arial"/>
            </a:endParaRPr>
          </a:p>
        </p:txBody>
      </p:sp>
      <p:pic>
        <p:nvPicPr>
          <p:cNvPr id="133" name="Picture 3"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show fairness when I take only my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9" descr="j0300840"/>
          <p:cNvPicPr/>
          <p:nvPr/>
        </p:nvPicPr>
        <p:blipFill>
          <a:blip r:embed="rId1"/>
          <a:stretch/>
        </p:blipFill>
        <p:spPr>
          <a:xfrm>
            <a:off x="5759280" y="3083040"/>
            <a:ext cx="1814760" cy="152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am fair when I play by the rules.</a:t>
            </a:r>
            <a:endParaRPr b="0" lang="en-US" sz="4000" spc="-1" strike="noStrike">
              <a:solidFill>
                <a:srgbClr val="ffffff"/>
              </a:solidFill>
              <a:latin typeface="Arial"/>
            </a:endParaRPr>
          </a:p>
        </p:txBody>
      </p:sp>
      <p:pic>
        <p:nvPicPr>
          <p:cNvPr id="139" name="Picture 10" descr="j0300840"/>
          <p:cNvPicPr/>
          <p:nvPr/>
        </p:nvPicPr>
        <p:blipFill>
          <a:blip r:embed="rId1"/>
          <a:stretch/>
        </p:blipFill>
        <p:spPr>
          <a:xfrm>
            <a:off x="5684760" y="2209680"/>
            <a:ext cx="2468520" cy="21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Wor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minded</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ice</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qu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quence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judic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2"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voritism</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sten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ertain</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portional</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artial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quity Definition:</a:t>
            </a:r>
            <a:br>
              <a:rPr sz="4000"/>
            </a:br>
            <a:br>
              <a:rPr sz="4000"/>
            </a:br>
            <a:r>
              <a:rPr b="0" lang="en-US" sz="4000" spc="-1" strike="noStrike">
                <a:solidFill>
                  <a:srgbClr val="e3e3ff"/>
                </a:solidFill>
                <a:latin typeface="Arial"/>
              </a:rPr>
              <a:t>Not taking advantage of others and making correction of mistakes.</a:t>
            </a:r>
            <a:endParaRPr b="0" lang="en-US" sz="4000" spc="-1" strike="noStrike">
              <a:solidFill>
                <a:srgbClr val="e3e3ff"/>
              </a:solidFill>
              <a:latin typeface="Arial"/>
            </a:endParaRPr>
          </a:p>
        </p:txBody>
      </p:sp>
      <p:pic>
        <p:nvPicPr>
          <p:cNvPr id="144" name="Picture 3"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6"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admits and corrects mistakes promptly and voluntarily and expects others to do the same.</a:t>
            </a:r>
            <a:endParaRPr b="0" lang="en-US" sz="4000" spc="-1" strike="noStrike">
              <a:solidFill>
                <a:srgbClr val="ffffff"/>
              </a:solidFill>
              <a:latin typeface="Arial"/>
            </a:endParaRPr>
          </a:p>
        </p:txBody>
      </p:sp>
      <p:pic>
        <p:nvPicPr>
          <p:cNvPr id="147" name="Picture 10" descr="j0216724"/>
          <p:cNvPicPr/>
          <p:nvPr/>
        </p:nvPicPr>
        <p:blipFill>
          <a:blip r:embed="rId1"/>
          <a:stretch/>
        </p:blipFill>
        <p:spPr>
          <a:xfrm>
            <a:off x="5942160" y="2935440"/>
            <a:ext cx="2363760" cy="277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9"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advantage of the weaknesses or ignorance of others.</a:t>
            </a:r>
            <a:endParaRPr b="0" lang="en-US" sz="4000" spc="-1" strike="noStrike">
              <a:solidFill>
                <a:srgbClr val="ffffff"/>
              </a:solidFill>
              <a:latin typeface="Arial"/>
            </a:endParaRPr>
          </a:p>
        </p:txBody>
      </p:sp>
      <p:pic>
        <p:nvPicPr>
          <p:cNvPr id="150" name="Picture 6" descr="j0216724"/>
          <p:cNvPicPr/>
          <p:nvPr/>
        </p:nvPicPr>
        <p:blipFill>
          <a:blip r:embed="rId1"/>
          <a:stretch/>
        </p:blipFill>
        <p:spPr>
          <a:xfrm>
            <a:off x="5942160" y="2935440"/>
            <a:ext cx="2211120" cy="239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4:41Z</dcterms:modified>
  <cp:revision>10</cp:revision>
  <dc:subject/>
  <dc:title>Character Education fairness</dc:title>
</cp:coreProperties>
</file>