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00F5-0BD5-4ABE-9F2F-10FCB9053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65B-9926-476C-B7A9-66F14AF6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635-CD85-4209-9081-505B1816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FB1-266F-47FE-836C-4786CF68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42D-3F32-44EC-A7EC-0DD431E4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428C-BFB0-463E-9EDC-A5AD2B70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E4E7-0C63-44AF-906F-3DD8687F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C73F-2BBE-443A-A96A-6A535A13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B7A6-EB2D-4684-AF44-641748C0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D251-56A4-4BF1-8319-7443C8F6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59A6-12B9-4DFA-B6AF-E5256547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2831-544A-46EC-B0E8-DFCC062A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C59-1A44-4F71-A77E-53159FEE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0AD8-EE29-43F6-B2EC-911DC8BA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50F8-6BEE-42B3-A19B-B4E82E86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6A7E-3406-444A-9216-E8C73261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E841-CCDE-41CA-8970-E3646778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FD8B-C116-45CB-8AED-F18BD741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E84-BA69-4D59-8754-82083114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47B-B0EE-42C3-AAE6-89ABDBF3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231-FE73-4F54-B727-32946185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B5C-9876-41CB-976E-8BAB22E9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81C-7D34-44A5-86FD-0F68C86C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E17-55C7-43F0-A00D-4D4365E6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3364-D0E6-42CA-A7B8-4E0EA69C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7021-3C13-4CE1-A752-75554E1F4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F344-41D6-43E3-B5B2-DB0ECE8FB7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pass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Lion and the Shepherd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scussion Questions for “The Lion and the Shepherd”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Defined:</a:t>
            </a:r>
            <a:br>
              <a:rPr sz="4400"/>
            </a:br>
            <a:br>
              <a:rPr sz="40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means being kind and thoughtful towards other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ssionate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genuinely concerned for the welfa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j0281904"/>
          <p:cNvPicPr/>
          <p:nvPr/>
        </p:nvPicPr>
        <p:blipFill>
          <a:blip r:embed="rId1"/>
          <a:stretch/>
        </p:blipFill>
        <p:spPr>
          <a:xfrm>
            <a:off x="5029200" y="22860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mpathetic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eeling an emotional response to the pain and pleasu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nsideration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kind, loving, and sensitive to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4:01Z</dcterms:modified>
  <cp:revision>7</cp:revision>
  <dc:subject/>
  <dc:title>Character Education compassion</dc:title>
</cp:coreProperties>
</file>