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4267-AB8E-4742-88F7-B8DC8EB57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deration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siderate person is sensitive to the needs of other people and helps people in ne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siderate person is sensitive to the needs of other people and helps people in n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ate Wo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pathe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athe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eli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ern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d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dhear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der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t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nevol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a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a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r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he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vo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Lion and the Shepherd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on and the Shepherd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Lion and the Shepherd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o you think the shepherd helped the l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a person feel the emotions that someone else is feel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es it mean to have empathy for someon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are empathetic with a person, how does that make him fee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what person do you empathize the mos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Lion and the Shepher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you think the shepherd helped the l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a person feel the emotions that someone else is feel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it mean to have empathy for some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empathetic with a person, how does that make him fe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what person do you empathize the mo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 Defined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 means being kind and thoughtful towards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 Defined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 means being kind and thoughtful towards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at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genuinely concerned for the welfare of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genuinely concerned for the welfare of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ate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compassionate is ethical and genuinely concerned with the welfare of other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compassionate is ethical and genuinely concerned with the welfare of other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ate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compassionate shows that he/she cares about other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compassionate shows that he/she cares about other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athetic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eling an emotional response to the pain and pleasure of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athetic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 an emotional response to the pain and pleasure of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athetic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empathetic feels an emotional response to the pain and the pleasure of other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athetic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empathetic feels an emotional response to the pain and the pleasure of other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athetic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empathetic has a generous spirit toward other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athetic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empathetic has a generous spirit toward other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deration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kind, loving, and sensitive to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ion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kind, loving, and sensitive to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deration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siderate person is kind and lov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siderate person is kind and lo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4493-5C9C-478D-8C8F-765044D2A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0A31-578F-411D-B9C8-5052A390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A3EA-52BE-44D6-95BA-FE2EB5521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8628-00BD-4251-AD6F-E1C86350E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10D7-BB4C-464A-BBCA-0C3E9EC41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BC2F-E153-4028-A01D-A7AC3647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819D-5B90-4649-86D3-E197C33F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8FD7-1AD4-4608-BE0F-9C9002F4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2BAE-7582-4E7B-9D2A-9D6CF38D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8541-BF5E-4404-83BD-20C1759D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7F2E-0E5A-44D9-8972-FBCBB63D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B2E9-D997-47E8-AA6A-16772396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3CB8-5337-43B0-8A04-4CD84745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B00A-221B-4C4A-97D7-58E96542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63E9-2D98-4871-B0E8-97F6DF87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BCEB-A1E7-401F-A915-FC11450C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9B63-7C16-462E-AAD5-454242C83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7C11-C1A9-4E7A-9D3F-75C471B2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4561-08DE-4C31-97AF-15C8549F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F42B-53CB-427D-8A4D-8ED14EDC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1228-7770-4259-B7EF-81262722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F622-2B2E-4D39-85AB-EC7811C1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1FD3-CC9D-4488-8B53-D6BF4059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3D0A-B152-42CB-A945-57980D3B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nderson's Character Developme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9287-C3CA-4C15-A52B-7B38F5CD7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r. Anderson's Character Developme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5BA8-3CB5-484A-91DA-AC1EA5E227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haracter Education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Mr. Anderson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haracter Trait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ompassion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sideration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onsiderate person is sensitive to the needs of other people and helps people in nee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ate Wor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mpathet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mpathet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eel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cern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nd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ndheart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sider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t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evol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Lion and the Shepherd”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-Aesop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Discussion Questions for “The Lion and the Shepherd”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do you think the shepherd helped the l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a person feel the emotions that someone else is feel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it mean to have empathy for someo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are empathetic with a person, how does that make him fee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what person do you empathize the mo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 Defined:</a:t>
            </a:r>
            <a:br>
              <a:rPr sz="4400"/>
            </a:br>
            <a:br>
              <a:rPr sz="40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 means being kind and thoughtful towards others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mpassionate Definition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Being genuinely concerned for the welfare of other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5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ate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2120" y="1904760"/>
            <a:ext cx="476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compassionate is ethical and genuinely concerned with the welfare of other peop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5" descr="j0281904"/>
          <p:cNvPicPr/>
          <p:nvPr/>
        </p:nvPicPr>
        <p:blipFill>
          <a:blip r:embed="rId1"/>
          <a:stretch/>
        </p:blipFill>
        <p:spPr>
          <a:xfrm>
            <a:off x="5029200" y="228600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ate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compassionate shows that he/she cares about other peop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Empathetic Definition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eeling an emotional response to the pain and pleasure of other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Picture 3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mpathetic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empathetic feels an emotional response to the pain and the pleasure of other peop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mpathetic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empathetic has a generous spirit toward other peop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nsideration Definition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Being kind, loving, and sensitive to other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Picture 3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sideration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onsiderate person is kind and lov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2:55:25Z</dcterms:created>
  <dc:creator>OKCPS</dc:creator>
  <dc:description/>
  <dc:language>en-US</dc:language>
  <cp:lastModifiedBy>RomaK</cp:lastModifiedBy>
  <dcterms:modified xsi:type="dcterms:W3CDTF">2015-09-02T09:34:01Z</dcterms:modified>
  <cp:revision>7</cp:revision>
  <dc:subject/>
  <dc:title>Character Education compassion</dc:title>
</cp:coreProperties>
</file>