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CF7C-14F5-467B-94A2-1840C7964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a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ideration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nsiderate person is sensitive to the needs of other people and helps people in ne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a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siderate person is sensitive to the needs of other people and helps people in ne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ate Wo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mpathe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pathe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elin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ern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nd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ndhear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ider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t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nevol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at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path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ath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r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d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dhe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vo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Lion and the Shepherd”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es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on and the Shepherd”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es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Lion and the Shepherd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do you think the shepherd helped the l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a person feel the emotions that someone else is feel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es it mean to have empathy for someon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you are empathetic with a person, how does that make him fee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 what person do you empathize the mos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Lion and the Shepher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you think the shepherd helped the l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a person feel the emotions that someone else is feel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it mean to have empathy for some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empathetic with a person, how does that make him fe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what person do you empathize the mo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 Defined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 means being kind and thoughtful towards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 Defined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 means being kind and thoughtful towards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ate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genuinely concerned for the welfare of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ate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genuinely concerned for the welfare of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ate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 is compassionate is ethical and genuinely concerned with the welfare of other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at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 is compassionate is ethical and genuinely concerned with the welfare of other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ate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 is compassionate shows that he/she cares about other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at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 is compassionate shows that he/she cares about other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pathetic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eling an emotional response to the pain and pleasure of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athetic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 an emotional response to the pain and pleasure of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pathetic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 is empathetic feels an emotional response to the pain and the pleasure of other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athetic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 is empathetic feels an emotional response to the pain and the pleasure of other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pathetic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 is empathetic has a generous spirit toward other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athetic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 is empathetic has a generous spirit toward other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ideration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kind, loving, and sensitive to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ation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kind, loving, and sensitive to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ideration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nsiderate person is kind and lov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a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siderate person is kind and lo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E454-DDF1-46B3-B9D8-C764CD1C4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A912-EA5E-486E-A341-6A545013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56B8-F8FF-4BCD-B104-1C1C148AE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C3A8-6065-4EF1-9D84-D3955D2EB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CA562-5E7B-4990-A69B-C6B80D1AF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93BD-E2E7-4E31-A623-F9334ADF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3924-F6A6-4511-978B-6A91532F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8B86-C193-4792-B052-EB2805C6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CAA6-56F8-42FC-B959-339F3533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3F70-C6ED-4B9B-B474-CC8B6474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F3F2-B670-4ABC-AEF4-AD2453AB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F09C-8ACD-4104-AC5C-4194DA64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3634A-5448-4438-9F1D-D1B7F5CD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2C7C-BF60-43F4-BFD4-E9117795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2AAB-32B0-4870-806C-77F529CB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F421-DA58-4C49-98BB-A222E2A08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0DDB-50EB-43E0-B815-F85FA1F2B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7A90-1C08-45D4-ADCC-539FE56C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B609-D5E3-4E7F-8AC5-A3FCE325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69E0-B6CE-43BB-8C96-DB233AE8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BD16-EA4D-4F81-8267-91F0C4E4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6E55-5AB4-4C1D-851C-1DD84409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2F80-239D-4B5F-AA6A-DB923628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62D9-D53E-4C57-B318-9986B48F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nderson's Character Development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455C-E209-4CA7-BCEF-57088168F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r. Anderson's Character Development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12A7-FB41-40C7-B07F-104EF84FAB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530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haracter Education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Mr. Anderson</a:t>
            </a: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haracter Trait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ompassion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sideration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considerate person is sensitive to the needs of other people and helps people in nee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4" descr="j0281904"/>
          <p:cNvPicPr/>
          <p:nvPr/>
        </p:nvPicPr>
        <p:blipFill>
          <a:blip r:embed="rId1"/>
          <a:stretch/>
        </p:blipFill>
        <p:spPr>
          <a:xfrm>
            <a:off x="5257800" y="213372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assionate Wor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mpathet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mpathet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eel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cern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i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ind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indheart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sider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r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t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nevol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Lion and the Shepherd”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-Aesop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Discussion Questions for “The Lion and the Shepherd”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do you think the shepherd helped the l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a person feel the emotions that someone else is feel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es it mean to have empathy for someon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are empathetic with a person, how does that make him fee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what person do you empathize the mo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530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assion Defined:</a:t>
            </a:r>
            <a:br>
              <a:rPr sz="4400"/>
            </a:br>
            <a:br>
              <a:rPr sz="40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assion means being kind and thoughtful towards others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Compassionate Definition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Being genuinely concerned for the welfare of others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Picture 5" descr="j0216724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assionate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2120" y="1904760"/>
            <a:ext cx="476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 is compassionate is ethical and genuinely concerned with the welfare of other peopl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5" descr="j0281904"/>
          <p:cNvPicPr/>
          <p:nvPr/>
        </p:nvPicPr>
        <p:blipFill>
          <a:blip r:embed="rId1"/>
          <a:stretch/>
        </p:blipFill>
        <p:spPr>
          <a:xfrm>
            <a:off x="5029200" y="228600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assionate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 is compassionate shows that he/she cares about other peopl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j0281904"/>
          <p:cNvPicPr/>
          <p:nvPr/>
        </p:nvPicPr>
        <p:blipFill>
          <a:blip r:embed="rId1"/>
          <a:stretch/>
        </p:blipFill>
        <p:spPr>
          <a:xfrm>
            <a:off x="5257800" y="213372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Empathetic Definition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Feeling an emotional response to the pain and pleasure of others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Picture 3" descr="j0216724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mpathetic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 is empathetic feels an emotional response to the pain and the pleasure of other peopl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j0281904"/>
          <p:cNvPicPr/>
          <p:nvPr/>
        </p:nvPicPr>
        <p:blipFill>
          <a:blip r:embed="rId1"/>
          <a:stretch/>
        </p:blipFill>
        <p:spPr>
          <a:xfrm>
            <a:off x="5257800" y="213372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mpathetic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 is empathetic has a generous spirit toward other peopl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j0281904"/>
          <p:cNvPicPr/>
          <p:nvPr/>
        </p:nvPicPr>
        <p:blipFill>
          <a:blip r:embed="rId1"/>
          <a:stretch/>
        </p:blipFill>
        <p:spPr>
          <a:xfrm>
            <a:off x="5257800" y="213372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Consideration Definition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Being kind, loving, and sensitive to others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Picture 3" descr="j0216724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sideration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274320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considerate person is kind and lovi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j0281904"/>
          <p:cNvPicPr/>
          <p:nvPr/>
        </p:nvPicPr>
        <p:blipFill>
          <a:blip r:embed="rId1"/>
          <a:stretch/>
        </p:blipFill>
        <p:spPr>
          <a:xfrm>
            <a:off x="5257800" y="213372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02:55:25Z</dcterms:created>
  <dc:creator>OKCPS</dc:creator>
  <dc:description/>
  <dc:language>en-US</dc:language>
  <cp:lastModifiedBy>RomaK</cp:lastModifiedBy>
  <dcterms:modified xsi:type="dcterms:W3CDTF">2015-09-02T09:34:01Z</dcterms:modified>
  <cp:revision>7</cp:revision>
  <dc:subject/>
  <dc:title>Character Education compassion</dc:title>
</cp:coreProperties>
</file>