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F138-978A-494D-9A17-9D1BABC12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y in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Isaiah Bow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aiah Bow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ndrew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rew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us at all times remember that all American citizens are brothers of a common country, and should dwell together in bonds of fraternal feel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t all times remember that all American citizens are brothers of a common country, and should dwell together in bonds of fraternal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requisite of a good citizen in this republic of ours is that he should be able and willing to pull his we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odore Roosev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quisite of a good citizen in this republic of ours is that he should be able and willing to pull hi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odore 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cked men obey from fear; good men, from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 men obey from fear; good men, from 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nly safe ruler is he who has learned to obey willing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omas a Kemp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safe ruler is he who has learned to obey will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mas a Kem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ect freedom is as necessary to the health and vigor of commerce as it is to the health and vigor of 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atrick Hen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freedom is as necessary to the health and vigor of commerce as it is to the health and vigor of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trick Hen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nsists in the service of the coun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Jawaharlal Nehr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nsists in the service of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waharlal Neh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Goatherd and the Wild Goats.”</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therd and the Wild Goats.”</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Being a good neighbor and member of the community and protecting the environ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Being a good neighbor and member of the community and protecting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o you think the wild goat was right with its predi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 you think the wild goat was right with its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treat new friends more kindly than you do your ol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treat new friends more kindly than you do your ol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are some things that a friend does to let you know he is loy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are some things that a friend does to let you know he is 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How do you select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do you select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do you keep goo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do you keep goo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ipe for Good Friend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of 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hug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big smile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ous helping of liste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iant scoop of kind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kle with sugar and sp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e for Goo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p of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hug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g smil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ous helping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iant scoop of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kle with sugar and sp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Obeying the rules and working to make your community a better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Obeying the rules and working to make your community a bette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plays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plays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eys parents, teachers, coaches, and others who have been given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eys parents, teachers, coaches, and others who have been give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serves 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serves 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honors the principles of democra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honors the principles of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doing more than his/her fair share to make society work, now and in the fu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doing more than his/her fair share to make society work, now and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3FDBE-FF25-49EF-9D74-AF66C988F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78C50-D350-4B14-9423-8370121D9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838C2-4711-4008-9E24-0AC53AA98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F2956-8545-4FDA-975D-061BE8438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341673A-2F66-476F-A04B-6C70CD708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EB6E7CA-754D-4523-A7BB-A76EAE0CF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FBF474-6D9D-41ED-9B98-4500711E2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198225-164F-4AAD-98F7-1C5C17940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7DF500B-EA0A-44D7-956F-FB21F1F66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58CB50B-49EA-4DA8-82CE-336B98747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B38AE8-8394-43D7-AB48-73FCD22D2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08A80-7D2D-469C-BE2E-A9BF7C061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267EE3-01E6-441D-A4A7-7C78729A9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14F803-BDB6-4AC6-91CA-FB9CC53E6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3AC66F-623C-4DC9-987B-B8DFABDB2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CBDBFC2-F3FB-4BDD-8FD6-A6FE6BAC5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57BAE8E-C4FE-4F5C-810A-7DCFBB1AB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B4735-3B7E-4EA1-B777-5F53D096E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48F00-34F0-4CF6-9273-D61361114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79D53-DB76-4A04-BBFF-1F372DD23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9B675-DE88-4853-B8C3-38B51556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69CB-0C8E-4035-B40F-B5F68713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8EEE9-79CD-4E8B-9058-48E5DAA6E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06713-1782-420D-B580-E0C109682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96D8-5779-49B8-A916-89BB098AA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9234-4408-4B9B-B45C-3D5FCBE6C1C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Citizenship</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Word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thor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vic Du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or</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ir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e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 law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y informed</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6" name="PlaceHolder 2"/>
          <p:cNvSpPr>
            <a:spLocks noGrp="1"/>
          </p:cNvSpPr>
          <p:nvPr>
            <p:ph/>
          </p:nvPr>
        </p:nvSpPr>
        <p:spPr>
          <a:xfrm>
            <a:off x="457200" y="762120"/>
            <a:ext cx="8229600" cy="4495680"/>
          </a:xfrm>
          <a:prstGeom prst="rect">
            <a:avLst/>
          </a:prstGeom>
          <a:noFill/>
          <a:ln w="0">
            <a:noFill/>
          </a:ln>
        </p:spPr>
        <p:txBody>
          <a:bodyPr anchor="t">
            <a:normAutofit fontScale="89000"/>
          </a:bodyPr>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saiah Bow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ndrew Jacks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 us at all times remember that all American citizens are brothers of a common country, and should dwell together in bonds of fraternal feeling.</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rst requisite of a good citizen in this republic of ours is that he should be able and willing to pull his weigh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eodore Roosevelt</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cked men obey from fear; good men, from lov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ristotl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ly safe ruler is he who has learned to obey willing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omas a Kempi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ect freedom is as necessary to the health and vigor of commerce as it is to the health and vigor of citizenshi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atrick Henry</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nsists in the service of the countr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Jawaharlal Nehru</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Goatherd and the Wild Goats.”</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Being a good neighbor and member of the community and protecting the environment.</a:t>
            </a:r>
            <a:endParaRPr b="0" lang="en-US" sz="4000" spc="-1" strike="noStrike">
              <a:solidFill>
                <a:srgbClr val="e3e3ff"/>
              </a:solidFill>
              <a:latin typeface="Arial"/>
            </a:endParaRPr>
          </a:p>
        </p:txBody>
      </p:sp>
      <p:pic>
        <p:nvPicPr>
          <p:cNvPr id="131" name="Picture 9" descr="j0285360"/>
          <p:cNvPicPr/>
          <p:nvPr/>
        </p:nvPicPr>
        <p:blipFill>
          <a:blip r:embed="rId1"/>
          <a:stretch/>
        </p:blipFill>
        <p:spPr>
          <a:xfrm>
            <a:off x="3962520" y="3897360"/>
            <a:ext cx="14745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3" name="PlaceHolder 2"/>
          <p:cNvSpPr>
            <a:spLocks noGrp="1"/>
          </p:cNvSpPr>
          <p:nvPr>
            <p:ph/>
          </p:nvPr>
        </p:nvSpPr>
        <p:spPr>
          <a:xfrm>
            <a:off x="1066320" y="3200400"/>
            <a:ext cx="7162920" cy="1752480"/>
          </a:xfrm>
          <a:prstGeom prst="rect">
            <a:avLst/>
          </a:prstGeom>
          <a:noFill/>
          <a:ln w="0">
            <a:noFill/>
          </a:ln>
        </p:spPr>
        <p:txBody>
          <a:bodyPr anchor="t">
            <a:normAutofit fontScale="93000"/>
          </a:bodyPr>
          <a:p>
            <a:pPr marL="3189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Do you think the wild goat was right with its predi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Do you treat new friends more kindly than you do your ol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What are some things that a friend does to let you know he is loy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How do you select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123720"/>
            <a:ext cx="7162920" cy="17528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How do you keep goo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Recipe for Good Friendship</a:t>
            </a:r>
            <a:endParaRPr b="0" lang="en-US" sz="4800" spc="-1" strike="noStrike">
              <a:solidFill>
                <a:srgbClr val="e3e3ff"/>
              </a:solidFill>
              <a:latin typeface="Arial"/>
            </a:endParaRPr>
          </a:p>
        </p:txBody>
      </p:sp>
      <p:sp>
        <p:nvSpPr>
          <p:cNvPr id="183" name="PlaceHolder 2"/>
          <p:cNvSpPr>
            <a:spLocks noGrp="1"/>
          </p:cNvSpPr>
          <p:nvPr>
            <p:ph/>
          </p:nvPr>
        </p:nvSpPr>
        <p:spPr>
          <a:xfrm>
            <a:off x="1066320" y="1905120"/>
            <a:ext cx="7162920" cy="1752480"/>
          </a:xfrm>
          <a:prstGeom prst="rect">
            <a:avLst/>
          </a:prstGeom>
          <a:noFill/>
          <a:ln w="0">
            <a:noFill/>
          </a:ln>
        </p:spPr>
        <p:txBody>
          <a:bodyPr anchor="t">
            <a:normAutofit fontScale="42000"/>
          </a:bodyPr>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cup of patience</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3 hug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3 big smile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enerous helping of listening</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giant scoop of kindness</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rinkle with sugar and spi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Obeying the rules and working to make your community a better place.</a:t>
            </a:r>
            <a:endParaRPr b="0" lang="en-US" sz="4000" spc="-1" strike="noStrike">
              <a:solidFill>
                <a:srgbClr val="e3e3ff"/>
              </a:solidFill>
              <a:latin typeface="Arial"/>
            </a:endParaRPr>
          </a:p>
        </p:txBody>
      </p:sp>
      <p:pic>
        <p:nvPicPr>
          <p:cNvPr id="133" name="Picture 5" descr="j0090386"/>
          <p:cNvPicPr/>
          <p:nvPr/>
        </p:nvPicPr>
        <p:blipFill>
          <a:blip r:embed="rId1"/>
          <a:stretch/>
        </p:blipFill>
        <p:spPr>
          <a:xfrm>
            <a:off x="3200400" y="3657600"/>
            <a:ext cx="2698920" cy="230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plays by the rul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11" descr="j0199036"/>
          <p:cNvPicPr/>
          <p:nvPr/>
        </p:nvPicPr>
        <p:blipFill>
          <a:blip r:embed="rId1"/>
          <a:stretch/>
        </p:blipFill>
        <p:spPr>
          <a:xfrm>
            <a:off x="5943600" y="2743200"/>
            <a:ext cx="1569960" cy="17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who respects authority obeys parents, teachers, coaches, and others who have been given authority.</a:t>
            </a:r>
            <a:endParaRPr b="0" lang="en-US" sz="3600" spc="-1" strike="noStrike">
              <a:solidFill>
                <a:srgbClr val="ffffff"/>
              </a:solidFill>
              <a:latin typeface="Arial"/>
            </a:endParaRPr>
          </a:p>
        </p:txBody>
      </p:sp>
      <p:pic>
        <p:nvPicPr>
          <p:cNvPr id="139" name="Picture 12"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1"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observes just laws.</a:t>
            </a:r>
            <a:endParaRPr b="0" lang="en-US" sz="4000" spc="-1" strike="noStrike">
              <a:solidFill>
                <a:srgbClr val="ffffff"/>
              </a:solidFill>
              <a:latin typeface="Arial"/>
            </a:endParaRPr>
          </a:p>
        </p:txBody>
      </p:sp>
      <p:pic>
        <p:nvPicPr>
          <p:cNvPr id="142"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4"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honors the principles of democracy.</a:t>
            </a:r>
            <a:endParaRPr b="0" lang="en-US" sz="4000" spc="-1" strike="noStrike">
              <a:solidFill>
                <a:srgbClr val="ffffff"/>
              </a:solidFill>
              <a:latin typeface="Arial"/>
            </a:endParaRPr>
          </a:p>
        </p:txBody>
      </p:sp>
      <p:pic>
        <p:nvPicPr>
          <p:cNvPr id="145"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47"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performs his/her civic duty by doing more than his/her fair share to make society work, now and in the future.</a:t>
            </a:r>
            <a:endParaRPr b="0" lang="en-US" sz="4000" spc="-1" strike="noStrike">
              <a:solidFill>
                <a:srgbClr val="ffffff"/>
              </a:solidFill>
              <a:latin typeface="Arial"/>
            </a:endParaRPr>
          </a:p>
        </p:txBody>
      </p:sp>
      <p:pic>
        <p:nvPicPr>
          <p:cNvPr id="148"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50" name="PlaceHolder 2"/>
          <p:cNvSpPr>
            <a:spLocks noGrp="1"/>
          </p:cNvSpPr>
          <p:nvPr>
            <p:ph/>
          </p:nvPr>
        </p:nvSpPr>
        <p:spPr>
          <a:xfrm>
            <a:off x="152280" y="1523880"/>
            <a:ext cx="6096240" cy="419112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3600" spc="-1" strike="noStrike">
              <a:solidFill>
                <a:srgbClr val="ffffff"/>
              </a:solidFill>
              <a:latin typeface="Arial"/>
            </a:endParaRPr>
          </a:p>
        </p:txBody>
      </p:sp>
      <p:pic>
        <p:nvPicPr>
          <p:cNvPr id="151" name="Picture 6" descr="j0299125"/>
          <p:cNvPicPr/>
          <p:nvPr/>
        </p:nvPicPr>
        <p:blipFill>
          <a:blip r:embed="rId1"/>
          <a:stretch/>
        </p:blipFill>
        <p:spPr>
          <a:xfrm>
            <a:off x="6781680" y="1905120"/>
            <a:ext cx="198144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3:43Z</dcterms:modified>
  <cp:revision>10</cp:revision>
  <dc:subject/>
  <dc:title>Citizenship</dc:title>
</cp:coreProperties>
</file>