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4BE6-11BE-4450-BA75-E8A643289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y in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Isaiah Bow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saiah Bow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ndrew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rew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us at all times remember that all American citizens are brothers of a common country, and should dwell together in bonds of fraternal feel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at all times remember that all American citizens are brothers of a common country, and should dwell together in bonds of fraternal fe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requisite of a good citizen in this republic of ours is that he should be able and willing to pull his we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odore Roosev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quisite of a good citizen in this republic of ours is that he should be able and willing to pull hi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odore 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cked men obey from fear; good men, from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 men obey from fear; good men, from l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nly safe ruler is he who has learned to obey willing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omas a Kemp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safe ruler is he who has learned to obey will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omas a Kem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ect freedom is as necessary to the health and vigor of commerce as it is to the health and vigor of 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atrick Hen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ect freedom is as necessary to the health and vigor of commerce as it is to the health and vigor of 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trick Hen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nsists in the service of the coun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Jawaharlal Nehr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nsists in the service of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waharlal Neh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Goatherd and the Wild Goats.”</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Goatherd and the Wild Goats.”</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Being a good neighbor and member of the community and protecting the environ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Being a good neighbor and member of the community and protecting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o you think the wild goat was right with its predi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 you think the wild goat was right with its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treat new friends more kindly than you do your ol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treat new friends more kindly than you do your ol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are some things that a friend does to let you know he is loy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are some things that a friend does to let you know he is 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How do you select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do you select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do you keep goo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do you keep goo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ipe for Good Friend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of 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hug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big smile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enerous helping of liste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giant scoop of kind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kle with sugar and sp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e for Goo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p of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hug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big smile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ous helping of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iant scoop of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kle with sugar and sp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Obeying the rules and working to make your community a better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Obeying the rules and working to make your community a bette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plays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plays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eys parents, teachers, coaches, and others who have been given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eys parents, teachers, coaches, and others who have been given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serves 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serves 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honors the principles of democra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honors the principles of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doing more than his/her fair share to make society work, now and in the fu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doing more than his/her fair share to make society work, now and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B3417-F06C-43D5-9624-246CADDFA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C5DB2-4ABA-4F19-841B-37BA5B24A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74A44-4CCC-4B51-B177-873DB9CDA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2D525-F8CF-4C14-9C78-920C09BD0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CFE98EC-233D-4E2E-8D2C-689813667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5E06E4-39D1-43DE-99D9-CB869D9E7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1098FE-A407-4ACB-BBB9-9ED87577F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14564C-8FFE-419A-9C25-477C15AAC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1CB682A-217D-46EC-B83F-B20B8E274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E2A22FD-CB06-4C5A-ABD9-CB7A86E00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74DBC8-7F75-4933-91AD-8CE062747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9FE30-E8E4-4976-BA81-102AE43CF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40F61D-262E-485E-A056-A6E913BAC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B138BC-ADD4-4307-918F-68F307667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C3218B-3E3C-48BA-A70B-08C362171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65236E9-8A85-4BFD-A742-F0379CFE9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DC3F71D-9EEA-440C-81E6-195BCD734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70EC9-4387-4FA4-B802-BBE8E99FC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D5DCC-D621-468F-B357-0B7593909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5DE3A-9341-4652-A43A-62EA23D74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B11F9-AA96-4E53-9A07-18FE5B911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A978E-EF57-489D-BCBD-4ECCDEEA9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0902-6A8B-4FD2-ACB9-45A00AF52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F9DAF-5139-48A8-8708-BF4F769B3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DFDC-A93D-46EE-BA1D-F501DD088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C322-61B1-4D88-80B9-58700C82429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Citizenship</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Word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thor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ivic Du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nor</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ir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4"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e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 law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y informed</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6" name="PlaceHolder 2"/>
          <p:cNvSpPr>
            <a:spLocks noGrp="1"/>
          </p:cNvSpPr>
          <p:nvPr>
            <p:ph/>
          </p:nvPr>
        </p:nvSpPr>
        <p:spPr>
          <a:xfrm>
            <a:off x="457200" y="762120"/>
            <a:ext cx="8229600" cy="4495680"/>
          </a:xfrm>
          <a:prstGeom prst="rect">
            <a:avLst/>
          </a:prstGeom>
          <a:noFill/>
          <a:ln w="0">
            <a:noFill/>
          </a:ln>
        </p:spPr>
        <p:txBody>
          <a:bodyPr anchor="t">
            <a:normAutofit fontScale="89000"/>
          </a:bodyPr>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Isaiah Bow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ndrew Jacks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 us at all times remember that all American citizens are brothers of a common country, and should dwell together in bonds of fraternal feeling.</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rst requisite of a good citizen in this republic of ours is that he should be able and willing to pull his weigh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eodore Roosevelt</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cked men obey from fear; good men, from lov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ristotl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ly safe ruler is he who has learned to obey willingl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omas a Kempi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fect freedom is as necessary to the health and vigor of commerce as it is to the health and vigor of citizenshi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Patrick Henry</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nsists in the service of the countr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Jawaharlal Nehru</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Goatherd and the Wild Goats.”</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Being a good neighbor and member of the community and protecting the environment.</a:t>
            </a:r>
            <a:endParaRPr b="0" lang="en-US" sz="4000" spc="-1" strike="noStrike">
              <a:solidFill>
                <a:srgbClr val="e3e3ff"/>
              </a:solidFill>
              <a:latin typeface="Arial"/>
            </a:endParaRPr>
          </a:p>
        </p:txBody>
      </p:sp>
      <p:pic>
        <p:nvPicPr>
          <p:cNvPr id="131" name="Picture 9" descr="j0285360"/>
          <p:cNvPicPr/>
          <p:nvPr/>
        </p:nvPicPr>
        <p:blipFill>
          <a:blip r:embed="rId1"/>
          <a:stretch/>
        </p:blipFill>
        <p:spPr>
          <a:xfrm>
            <a:off x="3962520" y="3897360"/>
            <a:ext cx="1474560" cy="181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3" name="PlaceHolder 2"/>
          <p:cNvSpPr>
            <a:spLocks noGrp="1"/>
          </p:cNvSpPr>
          <p:nvPr>
            <p:ph/>
          </p:nvPr>
        </p:nvSpPr>
        <p:spPr>
          <a:xfrm>
            <a:off x="1066320" y="3200400"/>
            <a:ext cx="7162920" cy="1752480"/>
          </a:xfrm>
          <a:prstGeom prst="rect">
            <a:avLst/>
          </a:prstGeom>
          <a:noFill/>
          <a:ln w="0">
            <a:noFill/>
          </a:ln>
        </p:spPr>
        <p:txBody>
          <a:bodyPr anchor="t">
            <a:normAutofit fontScale="93000"/>
          </a:bodyPr>
          <a:p>
            <a:pPr marL="3189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Do you think the wild goat was right with its predic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Do you treat new friends more kindly than you do your ol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What are some things that a friend does to let you know he is loya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How do you select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123720"/>
            <a:ext cx="7162920" cy="17528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How do you keep goo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Recipe for Good Friendship</a:t>
            </a:r>
            <a:endParaRPr b="0" lang="en-US" sz="4800" spc="-1" strike="noStrike">
              <a:solidFill>
                <a:srgbClr val="e3e3ff"/>
              </a:solidFill>
              <a:latin typeface="Arial"/>
            </a:endParaRPr>
          </a:p>
        </p:txBody>
      </p:sp>
      <p:sp>
        <p:nvSpPr>
          <p:cNvPr id="183" name="PlaceHolder 2"/>
          <p:cNvSpPr>
            <a:spLocks noGrp="1"/>
          </p:cNvSpPr>
          <p:nvPr>
            <p:ph/>
          </p:nvPr>
        </p:nvSpPr>
        <p:spPr>
          <a:xfrm>
            <a:off x="1066320" y="1905120"/>
            <a:ext cx="7162920" cy="1752480"/>
          </a:xfrm>
          <a:prstGeom prst="rect">
            <a:avLst/>
          </a:prstGeom>
          <a:noFill/>
          <a:ln w="0">
            <a:noFill/>
          </a:ln>
        </p:spPr>
        <p:txBody>
          <a:bodyPr anchor="t">
            <a:normAutofit fontScale="42000"/>
          </a:bodyPr>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cup of patience</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3 hug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3 big smile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generous helping of listening</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giant scoop of kindness</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rinkle with sugar and spi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Obeying the rules and working to make your community a better place.</a:t>
            </a:r>
            <a:endParaRPr b="0" lang="en-US" sz="4000" spc="-1" strike="noStrike">
              <a:solidFill>
                <a:srgbClr val="e3e3ff"/>
              </a:solidFill>
              <a:latin typeface="Arial"/>
            </a:endParaRPr>
          </a:p>
        </p:txBody>
      </p:sp>
      <p:pic>
        <p:nvPicPr>
          <p:cNvPr id="133" name="Picture 5" descr="j0090386"/>
          <p:cNvPicPr/>
          <p:nvPr/>
        </p:nvPicPr>
        <p:blipFill>
          <a:blip r:embed="rId1"/>
          <a:stretch/>
        </p:blipFill>
        <p:spPr>
          <a:xfrm>
            <a:off x="3200400" y="3657600"/>
            <a:ext cx="2698920" cy="230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plays by the rul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11" descr="j0199036"/>
          <p:cNvPicPr/>
          <p:nvPr/>
        </p:nvPicPr>
        <p:blipFill>
          <a:blip r:embed="rId1"/>
          <a:stretch/>
        </p:blipFill>
        <p:spPr>
          <a:xfrm>
            <a:off x="5943600" y="2743200"/>
            <a:ext cx="1569960" cy="17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who respects authority obeys parents, teachers, coaches, and others who have been given authority.</a:t>
            </a:r>
            <a:endParaRPr b="0" lang="en-US" sz="3600" spc="-1" strike="noStrike">
              <a:solidFill>
                <a:srgbClr val="ffffff"/>
              </a:solidFill>
              <a:latin typeface="Arial"/>
            </a:endParaRPr>
          </a:p>
        </p:txBody>
      </p:sp>
      <p:pic>
        <p:nvPicPr>
          <p:cNvPr id="139" name="Picture 12"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1"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observes just laws.</a:t>
            </a:r>
            <a:endParaRPr b="0" lang="en-US" sz="4000" spc="-1" strike="noStrike">
              <a:solidFill>
                <a:srgbClr val="ffffff"/>
              </a:solidFill>
              <a:latin typeface="Arial"/>
            </a:endParaRPr>
          </a:p>
        </p:txBody>
      </p:sp>
      <p:pic>
        <p:nvPicPr>
          <p:cNvPr id="142"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4"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honors the principles of democracy.</a:t>
            </a:r>
            <a:endParaRPr b="0" lang="en-US" sz="4000" spc="-1" strike="noStrike">
              <a:solidFill>
                <a:srgbClr val="ffffff"/>
              </a:solidFill>
              <a:latin typeface="Arial"/>
            </a:endParaRPr>
          </a:p>
        </p:txBody>
      </p:sp>
      <p:pic>
        <p:nvPicPr>
          <p:cNvPr id="145"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47"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performs his/her civic duty by doing more than his/her fair share to make society work, now and in the future.</a:t>
            </a:r>
            <a:endParaRPr b="0" lang="en-US" sz="4000" spc="-1" strike="noStrike">
              <a:solidFill>
                <a:srgbClr val="ffffff"/>
              </a:solidFill>
              <a:latin typeface="Arial"/>
            </a:endParaRPr>
          </a:p>
        </p:txBody>
      </p:sp>
      <p:pic>
        <p:nvPicPr>
          <p:cNvPr id="148"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50" name="PlaceHolder 2"/>
          <p:cNvSpPr>
            <a:spLocks noGrp="1"/>
          </p:cNvSpPr>
          <p:nvPr>
            <p:ph/>
          </p:nvPr>
        </p:nvSpPr>
        <p:spPr>
          <a:xfrm>
            <a:off x="152280" y="1523880"/>
            <a:ext cx="6096240" cy="419112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3600" spc="-1" strike="noStrike">
              <a:solidFill>
                <a:srgbClr val="ffffff"/>
              </a:solidFill>
              <a:latin typeface="Arial"/>
            </a:endParaRPr>
          </a:p>
        </p:txBody>
      </p:sp>
      <p:pic>
        <p:nvPicPr>
          <p:cNvPr id="151" name="Picture 6" descr="j0299125"/>
          <p:cNvPicPr/>
          <p:nvPr/>
        </p:nvPicPr>
        <p:blipFill>
          <a:blip r:embed="rId1"/>
          <a:stretch/>
        </p:blipFill>
        <p:spPr>
          <a:xfrm>
            <a:off x="6781680" y="1905120"/>
            <a:ext cx="198144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3:43Z</dcterms:modified>
  <cp:revision>10</cp:revision>
  <dc:subject/>
  <dc:title>Citizenship</dc:title>
</cp:coreProperties>
</file>