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5495-62B7-4AC6-926C-BB9DCB0334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and Leadership Develop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Anders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over Middle Schoo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and Leadership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over Middle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lf-Discipl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nking about your words and actions and then making choices that are right for you and oth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ept that things will not always go your wa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ish chores before play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ing about your words and actions and then making choices that are right for you and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 that things will not always go your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chores before pla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people can count on you to do the right th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urn things you borrow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s can count on you to do what you say you will d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people can count on you to do the right 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hings you bor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s can count on you to do what you say you will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12 Powerful Wor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ly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alu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ulat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crib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i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iz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12 Powerful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itizenshi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eys the ru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ing to make the community a better pl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eys the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to make the community a better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kind and thoughtful towards oth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ing oth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ing kind things for oth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kind and thoughtful towards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ing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ing kind things for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irn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ing tur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ar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ening to what others have to sa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ing tu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ing to what others have to 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nes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truthful and since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ing your own work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turn things that belong to oth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e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truthful and sinc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ing your own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hings that belong to 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ing choices that help you be the best person you can b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what you think is r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at being the best you can b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choices that help you be the best person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what you think is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at being the best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ing hard and not giving u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ick with something and not give up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eve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ing hard and not giving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ck with something and not give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ec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eating others the way you would want to be tre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king permission before using someone else’s thing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ing others the way you would want to be tr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ing permission before using someone else’s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dependable and making good choi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 care of things that belong to you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 care of yourself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dependable and making good cho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care of things that belong to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care of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A7D8-D7F2-4E8B-A682-AF8D43958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2AD4-086E-4F7E-B29E-75C3DAD1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5E8E-427A-4DD6-8FB2-681CB44ED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DEFF-F2B3-45FE-BF2D-35C2B453E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24F88-56E2-4619-A10B-D6472597D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AF080-E9E5-444D-9177-CE23C0CE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C13D4-B930-4B64-958F-51A11729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867C0-467A-42BF-B807-C421EC82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633DC-28A8-43D4-AA54-C7D1F0E8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CBF69-3AEE-4D2A-B768-C470BE86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40227-E173-4ECF-B72B-AD9F4344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D927-87DE-4974-9999-D07D8870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60676-6707-4388-88FF-985AE3CA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B121B-0581-4B7D-94AA-3E5FA70D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4E985-7853-4450-9D8F-60A2F322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3E1A9-4A39-4DFA-A2F3-BAB2A8895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7EA55-88D5-4668-8C9B-E955C0D0D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035E-6524-425C-94A6-14C02C2D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073A-CCED-4015-A7CE-ECA8055E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9B52-C47E-415B-882C-0351F4E5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B7A1-E33D-48FD-9AA4-FCB35802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D2ED-36F2-4333-B93B-D6075AE7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B4C8-486A-4C74-AC17-110475CE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5EAC-3CF4-488C-974D-B67BBE93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0679-3BB2-4598-A454-B28F47901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A4B8-07F4-400C-A7FC-BB311E7A15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aracter and Leadership Develop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r. Ander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over Middle Schoo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lf-Discipli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nking about your words and actions and then making choices that are right for you and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cept that things will not always go your w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nish chores before play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j0195384"/>
          <p:cNvPicPr/>
          <p:nvPr/>
        </p:nvPicPr>
        <p:blipFill>
          <a:blip r:embed="rId1"/>
          <a:stretch/>
        </p:blipFill>
        <p:spPr>
          <a:xfrm>
            <a:off x="4952880" y="1598760"/>
            <a:ext cx="35053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ustworthin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people can count on you to do the right t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urn things you borr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s can count on you to do what you say you will 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5" descr="j0090070"/>
          <p:cNvPicPr/>
          <p:nvPr/>
        </p:nvPicPr>
        <p:blipFill>
          <a:blip r:embed="rId1"/>
          <a:stretch/>
        </p:blipFill>
        <p:spPr>
          <a:xfrm>
            <a:off x="4724280" y="1447920"/>
            <a:ext cx="39625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12 Powerful Wor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alyz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alu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mul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scri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pla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mmariz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a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ra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di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9" descr="j0301252"/>
          <p:cNvPicPr/>
          <p:nvPr/>
        </p:nvPicPr>
        <p:blipFill>
          <a:blip r:embed="rId1"/>
          <a:stretch/>
        </p:blipFill>
        <p:spPr>
          <a:xfrm>
            <a:off x="3505320" y="1447920"/>
            <a:ext cx="5105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itizenshi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eys the ru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ing to make the community a better 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8" descr="j0233018"/>
          <p:cNvPicPr/>
          <p:nvPr/>
        </p:nvPicPr>
        <p:blipFill>
          <a:blip r:embed="rId1"/>
          <a:stretch/>
        </p:blipFill>
        <p:spPr>
          <a:xfrm>
            <a:off x="4648320" y="1371600"/>
            <a:ext cx="396216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mpas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ing kind and thoughtful towards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lping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ing kind things for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5" descr="j0216724"/>
          <p:cNvPicPr/>
          <p:nvPr/>
        </p:nvPicPr>
        <p:blipFill>
          <a:blip r:embed="rId1"/>
          <a:stretch/>
        </p:blipFill>
        <p:spPr>
          <a:xfrm>
            <a:off x="4648320" y="1527120"/>
            <a:ext cx="380988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irn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ing tur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a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stening to what others have to s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5" descr="j0300840"/>
          <p:cNvPicPr/>
          <p:nvPr/>
        </p:nvPicPr>
        <p:blipFill>
          <a:blip r:embed="rId1"/>
          <a:stretch/>
        </p:blipFill>
        <p:spPr>
          <a:xfrm>
            <a:off x="4267080" y="1141560"/>
            <a:ext cx="411480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ones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ing truthful and sinc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ing your own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turn things that belong to ot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5" descr="j0293844"/>
          <p:cNvPicPr/>
          <p:nvPr/>
        </p:nvPicPr>
        <p:blipFill>
          <a:blip r:embed="rId1"/>
          <a:stretch/>
        </p:blipFill>
        <p:spPr>
          <a:xfrm>
            <a:off x="4876920" y="762120"/>
            <a:ext cx="3581280" cy="41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tegr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ing choices that help you be the best person you can b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what you think is r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 at being the best you can b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5" descr="j0215086"/>
          <p:cNvPicPr/>
          <p:nvPr/>
        </p:nvPicPr>
        <p:blipFill>
          <a:blip r:embed="rId1"/>
          <a:stretch/>
        </p:blipFill>
        <p:spPr>
          <a:xfrm>
            <a:off x="4952880" y="1214280"/>
            <a:ext cx="34290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ersevera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ing hard and not giving u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ck with something and not give u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5" descr="j0199549"/>
          <p:cNvPicPr/>
          <p:nvPr/>
        </p:nvPicPr>
        <p:blipFill>
          <a:blip r:embed="rId1"/>
          <a:stretch/>
        </p:blipFill>
        <p:spPr>
          <a:xfrm>
            <a:off x="4952880" y="1693800"/>
            <a:ext cx="3505320" cy="36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spec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eating others the way you would want to be tre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ing permission before using someone else’s th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j0297551"/>
          <p:cNvPicPr/>
          <p:nvPr/>
        </p:nvPicPr>
        <p:blipFill>
          <a:blip r:embed="rId1"/>
          <a:stretch/>
        </p:blipFill>
        <p:spPr>
          <a:xfrm>
            <a:off x="5181480" y="1603440"/>
            <a:ext cx="3124440" cy="38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sponsibil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ing dependable and making good cho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e care of things that belong to y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ke care of yours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5" descr="j0195812"/>
          <p:cNvPicPr/>
          <p:nvPr/>
        </p:nvPicPr>
        <p:blipFill>
          <a:blip r:embed="rId1"/>
          <a:stretch/>
        </p:blipFill>
        <p:spPr>
          <a:xfrm>
            <a:off x="4952880" y="1146240"/>
            <a:ext cx="358164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03:04:56Z</dcterms:created>
  <dc:creator>OKCPS</dc:creator>
  <dc:description/>
  <dc:language>en-US</dc:language>
  <cp:lastModifiedBy>RomaK</cp:lastModifiedBy>
  <dcterms:modified xsi:type="dcterms:W3CDTF">2015-09-02T09:33:09Z</dcterms:modified>
  <cp:revision>7</cp:revision>
  <dc:subject/>
  <dc:title>Character and Leadership Development</dc:title>
</cp:coreProperties>
</file>