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5CFF-4B61-499D-B2E9-3A7FBF48A8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and Leadership Develop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over Middle Schoo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Leadership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over Middl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king about your words and actions and then making choices that are right for you and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pt that things will not always go your w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sh chores before play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ing about your words and actions and then making choices that are right for you and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 that things will not always go your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chores before pla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people can count on you to do the right th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urn things you borr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s can count on you to do what you say you will d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people can count on you to do the right 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hings you bo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 can count on you to do what you say you will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12 Powerful Wor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ly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alu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ul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12 Powerful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tizenshi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eys the r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ing to make the community a better pl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ys the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to make the community a better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kind and thoughtful towards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ing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ing kind things for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kind and thoughtful towards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ing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ng kind things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irn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ing tur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ening to what others have to s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t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ing to what others have to 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truthful and since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ing your own wor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urn things that belong to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truthful and sinc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ng your own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hings that belong to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ing choices that help you be the best person you 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what you think is r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at being the best you 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choices that help you be the best person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what you think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at being the bes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ing hard and not giving u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ick with something and not give u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hard and not giv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 with something and not giv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ec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ating others the way you would want to be tre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king permission before using someone else’s thing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ing others the way you would want to be tr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ing permission before using someone else’s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dependable and making good choi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care of things that belong to yo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care of yoursel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dependable and making good cho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care of things that belong to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care of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E954-52D9-49DE-9B36-2BA5ECEB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1040-7436-4017-A113-511B3837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0638-EC3A-4668-ABD9-8583C289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3EC4-DC27-40B2-BF26-D59A51A9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3CED2-E3AA-40F2-9663-F7872A9D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2AC02-B64B-4DAB-9B30-E382A3CD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43CEC-BD60-4BE8-BF58-0E1F5DF5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8B718-B03E-4F14-8D09-A50D7599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80E2A-1915-4E11-9CD1-3E73F652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27738-AEAB-4E71-9CD5-7C790BEA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61A42-A521-44C0-96B5-A1D886D3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8E8C-6B5E-493C-8238-35A3DB27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B12BC-1BEC-476D-8C40-509B39E7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422AC-1B30-46FA-BE40-414CF8A5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4EC13-DD24-4F6C-8A70-7D160555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15657-15B5-4E16-BEAD-44C82BCF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5228A-3654-48FA-8D83-505E1C62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F1C-D813-4145-A483-8787ACEA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1B76-4075-4FE1-AF9D-CB41732A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6CF4-C664-4BD5-93A7-CF2DC5E5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9C51-57A5-485A-825C-2B3C2CC7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43A5-75B7-4FD2-8663-6A322FA5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105B-642E-43AD-B16A-5546DC3C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01A5-38DF-4DB9-B116-00960742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A6B0-1C01-4626-A0F6-DFA2E9390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BB78-4A2F-4015-9655-DF41180D7F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racter and Leadership Develop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. Ander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over Middle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lf-Discipl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nking about your words and actions and then making choices that are right for you and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ept that things will not always go your 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ish chores before play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j0195384"/>
          <p:cNvPicPr/>
          <p:nvPr/>
        </p:nvPicPr>
        <p:blipFill>
          <a:blip r:embed="rId1"/>
          <a:stretch/>
        </p:blipFill>
        <p:spPr>
          <a:xfrm>
            <a:off x="4952880" y="1598760"/>
            <a:ext cx="35053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ustworthi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people can count on you to do the right 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 things you bor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s can count on you to do what you say you will 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5" descr="j0090070"/>
          <p:cNvPicPr/>
          <p:nvPr/>
        </p:nvPicPr>
        <p:blipFill>
          <a:blip r:embed="rId1"/>
          <a:stretch/>
        </p:blipFill>
        <p:spPr>
          <a:xfrm>
            <a:off x="4724280" y="1447920"/>
            <a:ext cx="39625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12 Powerful 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ly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lu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ul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cri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l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mmari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di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9" descr="j0301252"/>
          <p:cNvPicPr/>
          <p:nvPr/>
        </p:nvPicPr>
        <p:blipFill>
          <a:blip r:embed="rId1"/>
          <a:stretch/>
        </p:blipFill>
        <p:spPr>
          <a:xfrm>
            <a:off x="3505320" y="1447920"/>
            <a:ext cx="5105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itizenshi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eys the r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ing to make the community a better 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8" descr="j0233018"/>
          <p:cNvPicPr/>
          <p:nvPr/>
        </p:nvPicPr>
        <p:blipFill>
          <a:blip r:embed="rId1"/>
          <a:stretch/>
        </p:blipFill>
        <p:spPr>
          <a:xfrm>
            <a:off x="4648320" y="1371600"/>
            <a:ext cx="396216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pas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ing kind and thoughtful towards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ing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ing kind things for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j0216724"/>
          <p:cNvPicPr/>
          <p:nvPr/>
        </p:nvPicPr>
        <p:blipFill>
          <a:blip r:embed="rId1"/>
          <a:stretch/>
        </p:blipFill>
        <p:spPr>
          <a:xfrm>
            <a:off x="4648320" y="1527120"/>
            <a:ext cx="38098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ir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ing tur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stening to what others have to 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j0300840"/>
          <p:cNvPicPr/>
          <p:nvPr/>
        </p:nvPicPr>
        <p:blipFill>
          <a:blip r:embed="rId1"/>
          <a:stretch/>
        </p:blipFill>
        <p:spPr>
          <a:xfrm>
            <a:off x="4267080" y="1141560"/>
            <a:ext cx="411480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nes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ing truthful and sinc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ing your own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 things that belong to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j0293844"/>
          <p:cNvPicPr/>
          <p:nvPr/>
        </p:nvPicPr>
        <p:blipFill>
          <a:blip r:embed="rId1"/>
          <a:stretch/>
        </p:blipFill>
        <p:spPr>
          <a:xfrm>
            <a:off x="4876920" y="762120"/>
            <a:ext cx="358128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egr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ing choices that help you be the best person you can 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what you think is r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at being the best you can 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j0215086"/>
          <p:cNvPicPr/>
          <p:nvPr/>
        </p:nvPicPr>
        <p:blipFill>
          <a:blip r:embed="rId1"/>
          <a:stretch/>
        </p:blipFill>
        <p:spPr>
          <a:xfrm>
            <a:off x="4952880" y="1214280"/>
            <a:ext cx="34290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ersever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ing hard and not giving 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ck with something and not give 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5" descr="j0199549"/>
          <p:cNvPicPr/>
          <p:nvPr/>
        </p:nvPicPr>
        <p:blipFill>
          <a:blip r:embed="rId1"/>
          <a:stretch/>
        </p:blipFill>
        <p:spPr>
          <a:xfrm>
            <a:off x="4952880" y="1693800"/>
            <a:ext cx="350532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pec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ting others the way you would want to be tre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ing permission before using someone else’s th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j0297551"/>
          <p:cNvPicPr/>
          <p:nvPr/>
        </p:nvPicPr>
        <p:blipFill>
          <a:blip r:embed="rId1"/>
          <a:stretch/>
        </p:blipFill>
        <p:spPr>
          <a:xfrm>
            <a:off x="5181480" y="1603440"/>
            <a:ext cx="312444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ponsibi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ing dependable and making good cho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care of things that belong to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care of your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5" descr="j0195812"/>
          <p:cNvPicPr/>
          <p:nvPr/>
        </p:nvPicPr>
        <p:blipFill>
          <a:blip r:embed="rId1"/>
          <a:stretch/>
        </p:blipFill>
        <p:spPr>
          <a:xfrm>
            <a:off x="4952880" y="1146240"/>
            <a:ext cx="358164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3:04:56Z</dcterms:created>
  <dc:creator>OKCPS</dc:creator>
  <dc:description/>
  <dc:language>en-US</dc:language>
  <cp:lastModifiedBy>RomaK</cp:lastModifiedBy>
  <dcterms:modified xsi:type="dcterms:W3CDTF">2015-09-02T09:33:09Z</dcterms:modified>
  <cp:revision>7</cp:revision>
  <dc:subject/>
  <dc:title>Character and Leadership Development</dc:title>
</cp:coreProperties>
</file>