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80E1-F30E-4C95-A263-27B82E728B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and Leadership Develop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Anders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over Middle Schoo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Leadership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over Middle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f-Discipl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nking about your words and actions and then making choices that are right for you and oth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ept that things will not always go your wa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ish chores before play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ing about your words and actions and then making choices that are right for you and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 that things will not always go your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chores before pla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people can count on you to do the right th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urn things you borr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s can count on you to do what you say you will d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people can count on you to do the right 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hings you bo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 can count on you to do what you say you will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12 Powerful Wor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ly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alu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ul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12 Powerful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tizenshi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eys the r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ing to make the community a better pl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ys the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to make the community a better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kind and thoughtful towards oth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ing oth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ing kind things for oth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kind and thoughtful towards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ing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ing kind things for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irn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ing tur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ening to what others have to sa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tu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ing to what others have to 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nes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truthful and since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ing your own wor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urn things that belong to oth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truthful and sinc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ing your own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hings that belong to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ing choices that help you be the best person you can 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what you think is r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at being the best you can 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choices that help you be the best person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what you think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at being the bes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ing hard and not giving u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ick with something and not give u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hard and not giving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ck with something and not give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ec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ating others the way you would want to be tre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king permission before using someone else’s thing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ing others the way you would want to be tr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ing permission before using someone else’s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dependable and making good choi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care of things that belong to yo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care of yoursel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dependable and making good cho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care of things that belong to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care of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6F28-97AB-4C85-916D-795076F17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821E-F1F8-4BDD-AF01-17EF1DB5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338B-2C38-483B-9E23-EC413302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E8CA-0FD0-4CEE-AB18-A552F9BD4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06DE4-CEDD-49AC-911F-1E6456D9D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EFB80-3462-45FF-95CE-8671FAF3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C9795-3133-4433-A3D9-76508A75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0BFEB-C7BD-4C6E-85AC-D0354383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35DE6-284D-4789-8A53-FDC2EE9C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62DC3-F8C7-4584-AAAE-891393AF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2CA49-F344-42FF-94B8-783F2BC8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00B0-7EBE-4239-A737-6706F20D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81DE9-FF81-4A0D-A58A-3733ADFE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7418B-A9B5-40DE-A40A-69E300E2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5AEE8-4838-467A-8405-9D689469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436AF-BD07-4DD7-B75E-32B0318A8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A80F1-6ED6-4B71-832F-A6FD824BA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DE20-C44C-45BB-AC08-E10E3460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73FC-ABD0-4596-B635-8017CDBA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A639-E936-40D6-8D17-41369270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4F97-7471-4737-A6FB-1B02D5EC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8017-2278-49C5-B85C-2E5EE305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0B22-E413-41DC-A65F-6E761F41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02EB-B813-491F-AF39-9A071687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5E14-679C-415F-8014-A10154357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3935-1E42-4C99-B6BE-18D184D6C1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aracter and Leadership Develop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r. Ander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over Middle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lf-Discipli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nking about your words and actions and then making choices that are right for you and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ept that things will not always go your w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ish chores before play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j0195384"/>
          <p:cNvPicPr/>
          <p:nvPr/>
        </p:nvPicPr>
        <p:blipFill>
          <a:blip r:embed="rId1"/>
          <a:stretch/>
        </p:blipFill>
        <p:spPr>
          <a:xfrm>
            <a:off x="4952880" y="1598760"/>
            <a:ext cx="35053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ustworthin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people can count on you to do the right t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urn things you borr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s can count on you to do what you say you will 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5" descr="j0090070"/>
          <p:cNvPicPr/>
          <p:nvPr/>
        </p:nvPicPr>
        <p:blipFill>
          <a:blip r:embed="rId1"/>
          <a:stretch/>
        </p:blipFill>
        <p:spPr>
          <a:xfrm>
            <a:off x="4724280" y="1447920"/>
            <a:ext cx="39625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12 Powerful Wor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ly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alu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mul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cri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pl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mmari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a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di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9" descr="j0301252"/>
          <p:cNvPicPr/>
          <p:nvPr/>
        </p:nvPicPr>
        <p:blipFill>
          <a:blip r:embed="rId1"/>
          <a:stretch/>
        </p:blipFill>
        <p:spPr>
          <a:xfrm>
            <a:off x="3505320" y="1447920"/>
            <a:ext cx="5105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itizenshi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eys the ru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ing to make the community a better 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8" descr="j0233018"/>
          <p:cNvPicPr/>
          <p:nvPr/>
        </p:nvPicPr>
        <p:blipFill>
          <a:blip r:embed="rId1"/>
          <a:stretch/>
        </p:blipFill>
        <p:spPr>
          <a:xfrm>
            <a:off x="4648320" y="1371600"/>
            <a:ext cx="396216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pas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ing kind and thoughtful towards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ping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ing kind things for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5" descr="j0216724"/>
          <p:cNvPicPr/>
          <p:nvPr/>
        </p:nvPicPr>
        <p:blipFill>
          <a:blip r:embed="rId1"/>
          <a:stretch/>
        </p:blipFill>
        <p:spPr>
          <a:xfrm>
            <a:off x="4648320" y="1527120"/>
            <a:ext cx="38098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irn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ing tur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a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stening to what others have to s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5" descr="j0300840"/>
          <p:cNvPicPr/>
          <p:nvPr/>
        </p:nvPicPr>
        <p:blipFill>
          <a:blip r:embed="rId1"/>
          <a:stretch/>
        </p:blipFill>
        <p:spPr>
          <a:xfrm>
            <a:off x="4267080" y="1141560"/>
            <a:ext cx="411480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nes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ing truthful and sinc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ing your own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urn things that belong to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5" descr="j0293844"/>
          <p:cNvPicPr/>
          <p:nvPr/>
        </p:nvPicPr>
        <p:blipFill>
          <a:blip r:embed="rId1"/>
          <a:stretch/>
        </p:blipFill>
        <p:spPr>
          <a:xfrm>
            <a:off x="4876920" y="762120"/>
            <a:ext cx="358128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tegr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ing choices that help you be the best person you can b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what you think is r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 at being the best you can b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5" descr="j0215086"/>
          <p:cNvPicPr/>
          <p:nvPr/>
        </p:nvPicPr>
        <p:blipFill>
          <a:blip r:embed="rId1"/>
          <a:stretch/>
        </p:blipFill>
        <p:spPr>
          <a:xfrm>
            <a:off x="4952880" y="1214280"/>
            <a:ext cx="34290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ersevera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ing hard and not giving 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ck with something and not give 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5" descr="j0199549"/>
          <p:cNvPicPr/>
          <p:nvPr/>
        </p:nvPicPr>
        <p:blipFill>
          <a:blip r:embed="rId1"/>
          <a:stretch/>
        </p:blipFill>
        <p:spPr>
          <a:xfrm>
            <a:off x="4952880" y="1693800"/>
            <a:ext cx="3505320" cy="36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spec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ating others the way you would want to be tre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ing permission before using someone else’s th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j0297551"/>
          <p:cNvPicPr/>
          <p:nvPr/>
        </p:nvPicPr>
        <p:blipFill>
          <a:blip r:embed="rId1"/>
          <a:stretch/>
        </p:blipFill>
        <p:spPr>
          <a:xfrm>
            <a:off x="5181480" y="1603440"/>
            <a:ext cx="312444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sponsibi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ing dependable and making good cho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e care of things that belong to 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e care of your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5" descr="j0195812"/>
          <p:cNvPicPr/>
          <p:nvPr/>
        </p:nvPicPr>
        <p:blipFill>
          <a:blip r:embed="rId1"/>
          <a:stretch/>
        </p:blipFill>
        <p:spPr>
          <a:xfrm>
            <a:off x="4952880" y="1146240"/>
            <a:ext cx="358164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03:04:56Z</dcterms:created>
  <dc:creator>OKCPS</dc:creator>
  <dc:description/>
  <dc:language>en-US</dc:language>
  <cp:lastModifiedBy>RomaK</cp:lastModifiedBy>
  <dcterms:modified xsi:type="dcterms:W3CDTF">2015-09-02T09:33:09Z</dcterms:modified>
  <cp:revision>7</cp:revision>
  <dc:subject/>
  <dc:title>Character and Leadership Development</dc:title>
</cp:coreProperties>
</file>