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3494-1489-4409-B590-B0D17E639B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A45-7C3F-4D4E-8E49-2CDFDF25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705-3AD3-460F-ABD4-9B9A11C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09A-8658-4DD7-8D9B-818F4809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A03-2A4D-49E7-B48E-7C8F1DCC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0F0C9-94D8-44EA-B016-64F36E95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AD722-1F8E-4BEA-B984-4F1FF3C7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078B1-8347-4085-94EB-F48E6BDE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A6F28-B709-4796-BC6E-56C03478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D6C28-FB8B-48CB-A890-4C067AD9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E93EA-5A3B-4A45-A415-0DDC2DC8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3BA03-2B54-4CB0-A081-9B61F370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EE7-6173-4EDF-9067-9C5A1C87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D6ED4-F13F-4EFA-96DC-6505F5B6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F3FD3-DC93-4DED-9834-7F2E531D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976F0-885A-4C63-8B5B-49AEC741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74234-9C42-4CFC-812B-CD673695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CE907-F946-400E-8971-C8C5301C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61D-0704-4F92-9B7C-DF2BE5FA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CBD-85CE-42E9-8504-4642A90A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C0C-C188-46E4-B94B-7CD9710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268-ECA7-4288-BCEC-A40BDD91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2C4-7B76-4210-AAED-3C10A138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C20-8013-47F3-97EB-D4E8D14D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B9A-ADAB-4D72-89AE-96F78584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0ED8-8428-4198-B21A-21B0DFF92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B718-F673-4897-8042-B836C6BDA7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 and Leadership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A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ver Middl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Discip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your words and actions and then making choices that are right for you and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that things will not always go your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ish chores before pla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j0195384"/>
          <p:cNvPicPr/>
          <p:nvPr/>
        </p:nvPicPr>
        <p:blipFill>
          <a:blip r:embed="rId1"/>
          <a:stretch/>
        </p:blipFill>
        <p:spPr>
          <a:xfrm>
            <a:off x="4952880" y="1598760"/>
            <a:ext cx="3505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ustworth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ople can count on you to do the right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you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can count on you to do what you say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j0090070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12 Powerful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j0301252"/>
          <p:cNvPicPr/>
          <p:nvPr/>
        </p:nvPicPr>
        <p:blipFill>
          <a:blip r:embed="rId1"/>
          <a:stretch/>
        </p:blipFill>
        <p:spPr>
          <a:xfrm>
            <a:off x="3505320" y="144792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ys th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 make the community a better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233018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kind and thoughtful towards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kind thing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j0216724"/>
          <p:cNvPicPr/>
          <p:nvPr/>
        </p:nvPicPr>
        <p:blipFill>
          <a:blip r:embed="rId1"/>
          <a:stretch/>
        </p:blipFill>
        <p:spPr>
          <a:xfrm>
            <a:off x="4648320" y="1527120"/>
            <a:ext cx="3809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ir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tu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what others have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00840"/>
          <p:cNvPicPr/>
          <p:nvPr/>
        </p:nvPicPr>
        <p:blipFill>
          <a:blip r:embed="rId1"/>
          <a:stretch/>
        </p:blipFill>
        <p:spPr>
          <a:xfrm>
            <a:off x="4267080" y="1141560"/>
            <a:ext cx="4114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truthful and sin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your ow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that belo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j0293844"/>
          <p:cNvPicPr/>
          <p:nvPr/>
        </p:nvPicPr>
        <p:blipFill>
          <a:blip r:embed="rId1"/>
          <a:stretch/>
        </p:blipFill>
        <p:spPr>
          <a:xfrm>
            <a:off x="4876920" y="762120"/>
            <a:ext cx="3581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choices that help you be the best person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 you think is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at being the best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j0215086"/>
          <p:cNvPicPr/>
          <p:nvPr/>
        </p:nvPicPr>
        <p:blipFill>
          <a:blip r:embed="rId1"/>
          <a:stretch/>
        </p:blipFill>
        <p:spPr>
          <a:xfrm>
            <a:off x="4952880" y="121428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eve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hard and not giv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ck with something and not give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j0199549"/>
          <p:cNvPicPr/>
          <p:nvPr/>
        </p:nvPicPr>
        <p:blipFill>
          <a:blip r:embed="rId1"/>
          <a:stretch/>
        </p:blipFill>
        <p:spPr>
          <a:xfrm>
            <a:off x="4952880" y="1693800"/>
            <a:ext cx="3505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ing others the way you would want to be tr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permission before using someone else’s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j0297551"/>
          <p:cNvPicPr/>
          <p:nvPr/>
        </p:nvPicPr>
        <p:blipFill>
          <a:blip r:embed="rId1"/>
          <a:stretch/>
        </p:blipFill>
        <p:spPr>
          <a:xfrm>
            <a:off x="5181480" y="1603440"/>
            <a:ext cx="3124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dependable and making good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things that belong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j0195812"/>
          <p:cNvPicPr/>
          <p:nvPr/>
        </p:nvPicPr>
        <p:blipFill>
          <a:blip r:embed="rId1"/>
          <a:stretch/>
        </p:blipFill>
        <p:spPr>
          <a:xfrm>
            <a:off x="4952880" y="1146240"/>
            <a:ext cx="35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4:56Z</dcterms:created>
  <dc:creator>OKCPS</dc:creator>
  <dc:description/>
  <dc:language>en-US</dc:language>
  <cp:lastModifiedBy>RomaK</cp:lastModifiedBy>
  <dcterms:modified xsi:type="dcterms:W3CDTF">2015-09-02T09:33:09Z</dcterms:modified>
  <cp:revision>7</cp:revision>
  <dc:subject/>
  <dc:title>Character and Leadership Development</dc:title>
</cp:coreProperties>
</file>