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34CCF-56CB-4F9B-B511-C99006D62E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rnice Bobs Her Hair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y F. Scott Fitzgeral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rnice Bobs Her Hair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F. Scott Fitzgera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d what they did THEN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ens in Fitzgerald’s day weren’t so different from teens in the ‘80s or toda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 what did they do that was considered, trendy, rebellious, taboo, controversial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hat they did THEN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ens in Fitzgerald’s day weren’t so different from teens in the ‘80s or tod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hat did they do that was considered, trendy, rebellious, taboo, controversia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d what they did THEN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irls wore short, straight  dresses and cut their hai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was shocking and rebellious- and it got attention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was a big     no-no to these children of the conservative Victorians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hat they did THEN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rls wore short, straight  dresses and cut their hai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as shocking and rebellious- and it got attentio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was a big     no-no to these children of the conservative Victorian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, as you study this story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tice what the popular teens are doing, how they behave and how they interact with othe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y attention to the main characte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are Marjorie, Warren and Bernice each like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you know people like these character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nk of a time when you may have done something to be more popular, or to be liked more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s that so different from Bernice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d it work out differently for you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, as you study this story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 what the popular teens are doing, how they behave and how they interact with oth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y attention to the main charact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Marjorie, Warren and Bernice each lik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you know people like these charac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 of a time when you may have done something to be more popular, or to be liked mor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at so different from Berni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d it work out differently for you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fe during The Jazz A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hibition led to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llegal parties, underground nightclubs serving alcoho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conomic Bo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ts of new money, young and ric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tertainment Indust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azz- wild music that is on-the-ed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vies- depicting, among other socially taboo subjects, parties and sexual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 during The Jazz 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hibition led t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legal parties, underground nightclubs serving alcoh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onomic Bo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s of new money, young and ri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ertainment Indus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zz- wild music that is on-the-e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ies- depicting, among other socially taboo subjects, parties and sex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rnice Bobs Her Hair”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y F. Scott Fitzgeral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story about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out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ing popula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ying to fit 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rnice Bobs Her Hair”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F. Scott Fitzgera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tory abou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ing popu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ing to fit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et’s Brainstorm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do teens do TODAY, in terms of fashion and image, that could be considered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end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belliou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aboo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troversial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let’s generate a list together as a clas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w, who is the influence for these trends &amp; fads?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Brainstorm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teens do TODAY, in terms of fashion and image, that could be considered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nd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belliou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bo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versia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let’s generate a list together as a clas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, who is the influence for these trends &amp; fad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 who set the trends of earlier generation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ho set the trends of earlier generat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shion and Trends of the ‘80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jor influence???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DONNA!!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shion and Trends of the ‘80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jor influence?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ONNA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shion and Trends of the ‘80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DONNA!!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ts of make-u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posed mid-drif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derwear becomes “outerwear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ligious jewelry tabo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shion and Trends of the ‘80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ONNA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s of make-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osed mid-dri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derwear becomes “outerwear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igious jewelry tabo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troversial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troversial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E3CB-2409-452C-A95A-524B396E9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52120" y="153720"/>
            <a:ext cx="7162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52120" y="1294920"/>
            <a:ext cx="7162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52120" y="3802320"/>
            <a:ext cx="7162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B11B-D19B-4751-BF07-4C15466D8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52120" y="153720"/>
            <a:ext cx="7162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52120" y="1294920"/>
            <a:ext cx="3495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22680" y="1294920"/>
            <a:ext cx="3495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52120" y="3802320"/>
            <a:ext cx="3495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22680" y="3802320"/>
            <a:ext cx="3495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B19B-158C-415C-B199-1ED9173B9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52120" y="153720"/>
            <a:ext cx="7162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52120" y="1294920"/>
            <a:ext cx="2306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73840" y="1294920"/>
            <a:ext cx="2306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95920" y="1294920"/>
            <a:ext cx="2306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52120" y="3802320"/>
            <a:ext cx="2306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73840" y="3802320"/>
            <a:ext cx="2306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95920" y="3802320"/>
            <a:ext cx="2306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CC76-6AD5-47DC-BA6A-531671365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52120" y="153720"/>
            <a:ext cx="7162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52120" y="129492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932E-C802-459D-891D-751BA6D2F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120" y="153720"/>
            <a:ext cx="7162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52120" y="129492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3C88-0621-4A5C-86AE-01A65EC1B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120" y="153720"/>
            <a:ext cx="7162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52120" y="1294920"/>
            <a:ext cx="3495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22680" y="1294920"/>
            <a:ext cx="3495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A27E-48AD-48BD-849F-FE24DE087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52120" y="153720"/>
            <a:ext cx="7162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721A-7BA1-4DEB-9800-2C332FA54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52120" y="153720"/>
            <a:ext cx="716292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AC80-ACDB-4BEA-B1EC-813B6476A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120" y="153720"/>
            <a:ext cx="7162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52120" y="1294920"/>
            <a:ext cx="3495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22680" y="1294920"/>
            <a:ext cx="3495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52120" y="3802320"/>
            <a:ext cx="3495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5A4C-BF27-42D6-9B62-BEFD45CD9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52120" y="153720"/>
            <a:ext cx="7162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52120" y="1294920"/>
            <a:ext cx="3495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22680" y="1294920"/>
            <a:ext cx="3495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22680" y="3802320"/>
            <a:ext cx="3495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8F0D-49C5-422F-94E0-5C9228C8F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52120" y="153720"/>
            <a:ext cx="7162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52120" y="1294920"/>
            <a:ext cx="3495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22680" y="1294920"/>
            <a:ext cx="3495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52120" y="3802320"/>
            <a:ext cx="7162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3BA3-33FA-4751-A13C-5687C8C61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52120" y="153720"/>
            <a:ext cx="7162920" cy="10666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52120" y="1294920"/>
            <a:ext cx="7162920" cy="48006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752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8858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1408A-E333-45C6-BC5D-E88124BB83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33720" y="2285640"/>
            <a:ext cx="6400800" cy="646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ernice Bobs Her Hair</a:t>
            </a: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”</a:t>
            </a: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13372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By F. Scott Fitzgeral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162920" cy="10666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Times New Roman"/>
              </a:rPr>
              <a:t>And what they did THEN…</a:t>
            </a:r>
            <a:endParaRPr b="0" i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828800" y="2057400"/>
            <a:ext cx="6934320" cy="36576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ens in Fitzgerald’s day weren’t so different from teens in the ‘80s or toda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 what did they do that was considered, trendy, rebellious, taboo, controversial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1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162920" cy="10666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Times New Roman"/>
              </a:rPr>
              <a:t>And what they did THEN…</a:t>
            </a:r>
            <a:endParaRPr b="0" i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294920"/>
            <a:ext cx="3429000" cy="53341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irls wore short, straight  dresses and cut their hai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 was shocking and rebellious- and it got attention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 algn="r">
              <a:lnSpc>
                <a:spcPct val="90000"/>
              </a:lnSpc>
              <a:spcBef>
                <a:spcPts val="700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s was a big     no-no to these children of the conservative Victorians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0" name="Picture 4" descr="Victorians"/>
          <p:cNvPicPr/>
          <p:nvPr/>
        </p:nvPicPr>
        <p:blipFill>
          <a:blip r:embed="rId1"/>
          <a:stretch/>
        </p:blipFill>
        <p:spPr>
          <a:xfrm>
            <a:off x="6399360" y="3352680"/>
            <a:ext cx="2668320" cy="32767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a_flapper"/>
          <p:cNvPicPr/>
          <p:nvPr/>
        </p:nvPicPr>
        <p:blipFill>
          <a:blip r:embed="rId2"/>
          <a:stretch/>
        </p:blipFill>
        <p:spPr>
          <a:xfrm>
            <a:off x="304920" y="1371600"/>
            <a:ext cx="2401920" cy="3657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162920" cy="10666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Times New Roman"/>
              </a:rPr>
              <a:t>So, as you study this story…</a:t>
            </a:r>
            <a:endParaRPr b="0" i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828440" y="1218960"/>
            <a:ext cx="7010280" cy="5257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ice what the popular teens are doing, how they behave and how they interact with other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y attention to the main character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are Marjorie, Warren and Bernice each lik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o you know people like these character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nk of a time when you may have done something to be more popular, or to be liked more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s that so different from Bernic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d it work out differently for you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9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3" descr="bernice_art"/>
          <p:cNvPicPr/>
          <p:nvPr/>
        </p:nvPicPr>
        <p:blipFill>
          <a:blip r:embed="rId1"/>
          <a:stretch/>
        </p:blipFill>
        <p:spPr>
          <a:xfrm>
            <a:off x="1752480" y="568440"/>
            <a:ext cx="7162920" cy="511308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</p:pic>
    </p:spTree>
  </p:cSld>
  <p:transition>
    <p:random/>
  </p:transition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0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52120" y="153720"/>
            <a:ext cx="7162920" cy="10666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ife during </a:t>
            </a: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The Jazz Age</a:t>
            </a: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52120" y="1294920"/>
            <a:ext cx="7162920" cy="48006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hibition led to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llegal parties, underground nightclubs serving alcoh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conomic Bo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ts of new money, young and ri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tertainment Indust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azz- wild music that is on-the-ed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vies- depicting, among other socially taboo subjects, parties and sexual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52120" y="533160"/>
            <a:ext cx="7162920" cy="10666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ernice Bobs Her Hair”</a:t>
            </a:r>
            <a:br>
              <a:rPr sz="4000"/>
            </a:b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by F. Scott Fitzgerald</a:t>
            </a:r>
            <a:endParaRPr b="0" i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1640" y="2742840"/>
            <a:ext cx="4267080" cy="48006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story about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ou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ing popul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ying to fit 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" name="Picture 4" descr="post"/>
          <p:cNvPicPr/>
          <p:nvPr/>
        </p:nvPicPr>
        <p:blipFill>
          <a:blip r:embed="rId1"/>
          <a:stretch/>
        </p:blipFill>
        <p:spPr>
          <a:xfrm rot="21385800">
            <a:off x="228240" y="2590560"/>
            <a:ext cx="4419720" cy="33620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162920" cy="10666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Times New Roman"/>
              </a:rPr>
              <a:t>Let’s Brainstorm…</a:t>
            </a:r>
            <a:endParaRPr b="0" i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828800" y="1218960"/>
            <a:ext cx="6934320" cy="5715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do teens do TODAY, in terms of fashion and image, that could be considered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endy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belliou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aboo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roversial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let’s generate a list together as a clas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w, who is the influence for these trends &amp; fads?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85h3h_bowa_001"/>
          <p:cNvPicPr/>
          <p:nvPr/>
        </p:nvPicPr>
        <p:blipFill>
          <a:blip r:embed="rId1"/>
          <a:stretch/>
        </p:blipFill>
        <p:spPr>
          <a:xfrm>
            <a:off x="228600" y="228600"/>
            <a:ext cx="2779560" cy="41148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428px-Snoop_Dogg_Hawaii"/>
          <p:cNvPicPr/>
          <p:nvPr/>
        </p:nvPicPr>
        <p:blipFill>
          <a:blip r:embed="rId2"/>
          <a:stretch/>
        </p:blipFill>
        <p:spPr>
          <a:xfrm>
            <a:off x="6313320" y="0"/>
            <a:ext cx="2830680" cy="39607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jayz"/>
          <p:cNvPicPr/>
          <p:nvPr/>
        </p:nvPicPr>
        <p:blipFill>
          <a:blip r:embed="rId3"/>
          <a:stretch/>
        </p:blipFill>
        <p:spPr>
          <a:xfrm>
            <a:off x="3886200" y="0"/>
            <a:ext cx="2222640" cy="27432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miley-cyrus-hannah-400a062107"/>
          <p:cNvPicPr/>
          <p:nvPr/>
        </p:nvPicPr>
        <p:blipFill>
          <a:blip r:embed="rId4"/>
          <a:stretch/>
        </p:blipFill>
        <p:spPr>
          <a:xfrm>
            <a:off x="5943600" y="3352680"/>
            <a:ext cx="2629080" cy="35053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9" descr="paris-hilton-louis-vuitton"/>
          <p:cNvPicPr/>
          <p:nvPr/>
        </p:nvPicPr>
        <p:blipFill>
          <a:blip r:embed="rId5"/>
          <a:stretch/>
        </p:blipFill>
        <p:spPr>
          <a:xfrm>
            <a:off x="3429000" y="2514600"/>
            <a:ext cx="2479680" cy="40384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" descr="usher-lloyd"/>
          <p:cNvPicPr/>
          <p:nvPr/>
        </p:nvPicPr>
        <p:blipFill>
          <a:blip r:embed="rId6"/>
          <a:stretch/>
        </p:blipFill>
        <p:spPr>
          <a:xfrm>
            <a:off x="0" y="4664160"/>
            <a:ext cx="3657600" cy="21938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33720" y="2285640"/>
            <a:ext cx="64008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So who set the trends of earlier generations?</a:t>
            </a: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80720" y="75960"/>
            <a:ext cx="7162920" cy="10666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ashion and Trends of the ‘80s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724280" y="2057040"/>
            <a:ext cx="4267440" cy="48006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jor influence???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DONNA!!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6" name="Picture 5" descr="1980+madonna"/>
          <p:cNvPicPr/>
          <p:nvPr/>
        </p:nvPicPr>
        <p:blipFill>
          <a:blip r:embed="rId1"/>
          <a:stretch/>
        </p:blipFill>
        <p:spPr>
          <a:xfrm>
            <a:off x="1981080" y="1905120"/>
            <a:ext cx="2641680" cy="3276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madonna2"/>
          <p:cNvPicPr/>
          <p:nvPr/>
        </p:nvPicPr>
        <p:blipFill>
          <a:blip r:embed="rId2"/>
          <a:stretch/>
        </p:blipFill>
        <p:spPr>
          <a:xfrm>
            <a:off x="1828800" y="1600200"/>
            <a:ext cx="2887560" cy="38512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2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80720" y="75960"/>
            <a:ext cx="7162920" cy="10666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ashion and Trends of the ‘80s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724280" y="2057040"/>
            <a:ext cx="4267440" cy="48006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DONNA!!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ts of make-u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posed mid-drif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derwear becomes “outerwear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ligious jewelry tabo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0" name="Picture 6" descr="madonna2-1"/>
          <p:cNvPicPr/>
          <p:nvPr/>
        </p:nvPicPr>
        <p:blipFill>
          <a:blip r:embed="rId1"/>
          <a:stretch/>
        </p:blipFill>
        <p:spPr>
          <a:xfrm>
            <a:off x="304920" y="1447920"/>
            <a:ext cx="3543120" cy="46479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0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9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80720" y="75960"/>
            <a:ext cx="7162920" cy="10666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Controversial</a:t>
            </a: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!</a:t>
            </a:r>
            <a:endParaRPr b="0" i="1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2" name="Picture 5" descr="200px-Madmtv1984"/>
          <p:cNvPicPr/>
          <p:nvPr/>
        </p:nvPicPr>
        <p:blipFill>
          <a:blip r:embed="rId1"/>
          <a:stretch/>
        </p:blipFill>
        <p:spPr>
          <a:xfrm rot="20811600">
            <a:off x="304920" y="228240"/>
            <a:ext cx="2655720" cy="38736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Madonna198440519_400"/>
          <p:cNvPicPr/>
          <p:nvPr/>
        </p:nvPicPr>
        <p:blipFill>
          <a:blip r:embed="rId2"/>
          <a:stretch/>
        </p:blipFill>
        <p:spPr>
          <a:xfrm rot="428400">
            <a:off x="3123720" y="2743200"/>
            <a:ext cx="2857680" cy="3733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" descr="premios5madonna"/>
          <p:cNvPicPr/>
          <p:nvPr/>
        </p:nvPicPr>
        <p:blipFill>
          <a:blip r:embed="rId3"/>
          <a:stretch/>
        </p:blipFill>
        <p:spPr>
          <a:xfrm rot="21163800">
            <a:off x="6095880" y="1371600"/>
            <a:ext cx="2849760" cy="41148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9" descr="madonna like a virgin 84"/>
          <p:cNvPicPr/>
          <p:nvPr/>
        </p:nvPicPr>
        <p:blipFill>
          <a:blip r:embed="rId4"/>
          <a:stretch/>
        </p:blipFill>
        <p:spPr>
          <a:xfrm>
            <a:off x="228600" y="4114800"/>
            <a:ext cx="2540160" cy="25401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8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8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8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8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8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8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8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8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8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4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8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8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8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8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2T01:02:38Z</dcterms:created>
  <dc:creator>PVUSD PVUSD</dc:creator>
  <dc:description/>
  <dc:language>en-US</dc:language>
  <cp:lastModifiedBy>RomaK</cp:lastModifiedBy>
  <dcterms:modified xsi:type="dcterms:W3CDTF">2015-09-02T09:32:59Z</dcterms:modified>
  <cp:revision>14</cp:revision>
  <dc:subject/>
  <dc:title>“Bernice Bobs Her Hair”</dc:title>
</cp:coreProperties>
</file>