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D2BC-3FA1-4CD0-82B9-F0957248E19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Guide to Writing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Guide to Writing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the Body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pace under each point, write down some elaboration for that point. Elaboration can be further description or explanation or discuss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leshed out each of your body paragraphs, one for each main point,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Body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pace under each point, write down some elaboration for that point. Elaboration can be further description or explanation o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leshed out each of your body paragraphs, one for each main point,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main idea is "reduces freeway congestion," you might say th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 reduces freeway conges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orting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ers appreciate the cost savings of taking public transportation rather than driv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riving time means less maintenance expense, such as oil chang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less driving time means savings on gasoline as wel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many cases, these savings amount to more than the cost of riding 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main idea is "reduces freeway congestion," you might say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 reduces freeway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appreciate the cost savings of taking public transportation rather than dr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riving time means less maintenance expense, such as oi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ess driving time means savings on gasoli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se savings amount to more than the cost of riding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 and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 an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attention grabber was only a sentence or two, add one or two more sentences that will lead the reader from your opening to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ish the paragraph with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ttention grabber was only a sentence or two, add one or two more sentences that will lead the reader from your opening to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aragraph with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stop just yet! One more step remains before your essay is truly finish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top just yet! One more step remains before your essay is truly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order of your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instructions for the assign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your writ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order of your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nstructions for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checked your work and perfected your formatting,</a:t>
            </a:r>
            <a:br>
              <a:rPr sz="1200"/>
            </a:br>
            <a:r>
              <a:rPr b="0" lang="en-US" sz="1200" spc="-1" strike="noStrike">
                <a:solidFill>
                  <a:srgbClr val="ffffff"/>
                </a:solidFill>
                <a:latin typeface="Arial"/>
              </a:rPr>
              <a:t>your essay is finished.</a:t>
            </a:r>
            <a:br>
              <a:rPr sz="1200"/>
            </a:br>
            <a:br>
              <a:rPr sz="1200"/>
            </a:br>
            <a:br>
              <a:rPr sz="1200"/>
            </a:br>
            <a:r>
              <a:rPr b="0" lang="en-US" sz="1200" spc="-1" strike="noStrike">
                <a:solidFill>
                  <a:srgbClr val="ffffff"/>
                </a:solidFill>
                <a:latin typeface="Arial"/>
              </a:rPr>
              <a:t>Congratulation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hecked your work and perfected your formatting,</a:t>
            </a:r>
            <a:br>
              <a:rPr sz="1200"/>
            </a:br>
            <a:r>
              <a:rPr b="0" lang="en-US" sz="1200" spc="-1" strike="noStrike">
                <a:solidFill>
                  <a:srgbClr val="000000"/>
                </a:solidFill>
                <a:latin typeface="Arial"/>
              </a:rPr>
              <a:t>your essay is finished.</a:t>
            </a:r>
            <a:br>
              <a:rPr sz="1200"/>
            </a:br>
            <a:br>
              <a:rPr sz="1200"/>
            </a:br>
            <a:br>
              <a:rPr sz="1200"/>
            </a:br>
            <a:r>
              <a:rPr b="0" lang="en-US" sz="1200" spc="-1" strike="noStrike">
                <a:solidFill>
                  <a:srgbClr val="000000"/>
                </a:solidFill>
                <a:latin typeface="Arial"/>
              </a:rPr>
              <a:t>Congratulatio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let the thought of putting pen to paper daunt you. Get start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let the thought of putting pen to paper daunt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say Forma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simple steps will guide you through the essay writing proc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ide on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e an outline or diagram of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bod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main 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e on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mple steps will guide you through the essay writ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on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an outline or diagram of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e on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osing a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determined that your topic will be suitable, you can move 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termined that your topic will be suitable, you can mov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ganize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rganizing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ing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Your Outli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gin your outline by writing your topic at the top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rite the Roman numerals I, II, and III, spread apart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Roman numeral, write the main ideas that you have about your topic, or the main points that you want to mak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persuade, you want to write your best argu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inform, you want to write the major categories into which your information can be divid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each Roman numeral, write A, B, and C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letter, write the facts or information that support that main ide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have finished, you have the basic structure for your essay and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Your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your outline by writing your topic at the top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rite the Roman numerals I, II, and III, spread apart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Roman numeral, write the main ideas that you have about your topic, or the main points that you want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persuade, you want to write your best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inform, you want to write the major categories into which your information can be di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ach Roman numeral, write A, B, and C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letter, write the facts or information that support that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finished, you have the basic structure for your essay and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sing a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 have decided, at least tentatively, what information you plan to present in your essay, you are ready to 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esis statement tells the reader what the essay will be about, and what point you, the author, will be mak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a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decided, at least tentatively, what information you plan to present in your essay, you are ready to 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is statement tells the reader what the essay will be about, and what point you, the author, will b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is State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thesis statement will have two par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art states the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s Cultu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ding a Model Train S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part states the point of the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a rich and varied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s time and pati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olve some of our city's most persistent and pressing probl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ormulated a thesis statement that fits this pattern and with which you are comfortable,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is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hesis statement will have tw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states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a Model Train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states the point of the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 rich and varied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time and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lve some of our city's most persistent and press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ormulated a thesis statement that fits this pattern and with which you are comfortable,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E236C-DA46-4203-9B42-5D1D2B380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73995-4A99-4A17-8961-80494A49B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9142B-A340-4570-984D-472119788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F8A5C-94C3-4675-8AAC-23F5593FB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2704B-0208-4EC1-84ED-B40A283CB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A1856-3736-4DDE-BD82-722CAB078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028A4-1A3D-41EE-BD8F-E762A81A9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93532-A2A4-4DC2-BF26-5C99F6483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D6430-DAF6-43E6-9355-F52BFAADA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BA65C-18A3-4C3F-9BFF-742AD87D4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CC8A6-1F0B-4170-88C1-63A2F2830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EED5B-5707-4D56-A973-B22D2E53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36D6B-5296-4124-838D-C8DD7E3AA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560DC-C0FC-4465-ACAC-08214B7E8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62D9D-5BEC-47E1-A55F-17A7156CB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D1BCB-91CA-4C9E-A3B8-3B1F88129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C5E95-45FC-4015-A4FE-CE50B7D3D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3EF8C-D555-4CBA-9E85-23370F772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1890F-6B18-4E18-9448-6D1DAC4EB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F8241-07E4-4672-8EF5-9A8D886E6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073C3-AB2A-478B-A499-C773D2F5A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E4DC0-59F7-4D9C-9CD8-DDE0A7E5E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839BB-3B71-4CAF-8157-08146572C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C7047-73E9-4E02-8CE3-A3737FA82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0A88-CA52-4AFB-B4A2-3DEC514B2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D251-FFFB-4852-8015-20B56651D6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asic Guide to Writing an Essay</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the Body Paragraphs</a:t>
            </a:r>
            <a:endParaRPr b="1" lang="en-US" sz="4400" spc="-1" strike="noStrike">
              <a:solidFill>
                <a:srgbClr val="feec94"/>
              </a:solidFill>
              <a:latin typeface="Times New Roman"/>
            </a:endParaRPr>
          </a:p>
        </p:txBody>
      </p:sp>
      <p:sp>
        <p:nvSpPr>
          <p:cNvPr id="156" name="PlaceHolder 2"/>
          <p:cNvSpPr>
            <a:spLocks noGrp="1"/>
          </p:cNvSpPr>
          <p:nvPr>
            <p:ph/>
          </p:nvPr>
        </p:nvSpPr>
        <p:spPr>
          <a:xfrm>
            <a:off x="456840" y="1676520"/>
            <a:ext cx="8458200" cy="4952880"/>
          </a:xfrm>
          <a:prstGeom prst="rect">
            <a:avLst/>
          </a:prstGeom>
          <a:noFill/>
          <a:ln w="0">
            <a:noFill/>
          </a:ln>
        </p:spPr>
        <p:txBody>
          <a:bodyPr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by writing down one of your main ideas, in sentence form. Next, write down each of your supporting points for that main idea, but leave four or five lines in between each point.</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pace under each point, write down some elaboration for that point. Elaboration can be further description or explanation or discussion.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you have fleshed out each of your body paragraphs, one for each main point, you are ready to continue.</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r main idea is "reduces freeway congestion," you might say thi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 reduces freeway conges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ing Point:</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ters appreciate the cost savings of taking public transportation rather than driving.</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s driving time means less maintenance expense, such as oil changes.</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 course, less driving time means savings on gasoline as well.</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s, these savings amount to more than the cost of riding public transporta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rite the Introduction and Conclusion</a:t>
            </a:r>
            <a:endParaRPr b="1" lang="en-US" sz="4000" spc="-1" strike="noStrike">
              <a:solidFill>
                <a:srgbClr val="feec94"/>
              </a:solidFill>
              <a:latin typeface="Times New Roman"/>
            </a:endParaRPr>
          </a:p>
        </p:txBody>
      </p:sp>
      <p:sp>
        <p:nvSpPr>
          <p:cNvPr id="160" name="Text Box 4"/>
          <p:cNvSpPr/>
          <p:nvPr/>
        </p:nvSpPr>
        <p:spPr>
          <a:xfrm>
            <a:off x="838080" y="1981080"/>
            <a:ext cx="754380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ssay lacks only two paragraphs now: the introduction and the conclusion. These paragraphs will give the reader a point of entry to and a point of exit from your ess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troduction</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he introduction should be designed to attract the reader's attention and give her an idea of the essay's focus. Begin with an attention grabber. The attention grabber you use is up to you, but here are some ideas:</a:t>
            </a: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rtling information</a:t>
            </a:r>
            <a:r>
              <a:rPr b="0" lang="en-US" sz="1700" spc="-1" strike="noStrike">
                <a:solidFill>
                  <a:srgbClr val="ffffff"/>
                </a:solidFill>
                <a:latin typeface="Times New Roman"/>
              </a:rPr>
              <a:t>.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necdote</a:t>
            </a:r>
            <a:r>
              <a:rPr b="0" lang="en-US" sz="1700" spc="-1" strike="noStrike">
                <a:solidFill>
                  <a:srgbClr val="ffffff"/>
                </a:solidFill>
                <a:latin typeface="Times New Roman"/>
              </a:rPr>
              <a:t>. An anecdote is a story that illustrates a point. Be sure your anecdote is short, to the point, and relevant to your topic. This can be a very effective opener for your essay, but use it carefully.</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ialogue</a:t>
            </a:r>
            <a:r>
              <a:rPr b="0" lang="en-US" sz="1700" spc="-1" strike="noStrike">
                <a:solidFill>
                  <a:srgbClr val="ffffff"/>
                </a:solidFill>
                <a:latin typeface="Times New Roman"/>
              </a:rPr>
              <a:t>.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ummary Information</a:t>
            </a:r>
            <a:r>
              <a:rPr b="0" lang="en-US" sz="1700" spc="-1" strike="noStrike">
                <a:solidFill>
                  <a:srgbClr val="ffffff"/>
                </a:solidFill>
                <a:latin typeface="Times New Roman"/>
              </a:rPr>
              <a:t>. A few sentences explaining your topic in general terms can lead the reader gently to your thesis. Each sentence should become gradually more specific, until you reach your thesis.</a:t>
            </a:r>
            <a:endParaRPr b="0" lang="en-US" sz="1700" spc="-1" strike="noStrike">
              <a:solidFill>
                <a:srgbClr val="ffffff"/>
              </a:solidFill>
              <a:latin typeface="Times New Roman"/>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If the attention grabber was only a sentence or two, add one or two more sentences that will lead the reader from your opening to your thesis statement.</a:t>
            </a: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Finish the paragraph with your thesis statement.</a:t>
            </a:r>
            <a:endParaRPr b="0" lang="en-US" sz="1700" spc="-1" strike="noStrike">
              <a:solidFill>
                <a:srgbClr val="ffffff"/>
              </a:solidFill>
              <a:latin typeface="Times New Roman"/>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stop just yet! One more step remains before your essay is truly finished.</a:t>
            </a:r>
            <a:endParaRPr b="0" lang="en-US" sz="2800" spc="-1" strike="noStrike">
              <a:solidFill>
                <a:srgbClr val="ffffff"/>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Add the Finishing Touches</a:t>
            </a:r>
            <a:br>
              <a:rPr sz="4000"/>
            </a:br>
            <a:endParaRPr b="1" lang="en-US" sz="40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now completed all of the paragraphs of your essay. Before you can consider this a finished product, however, you must give some thought to the formatting of your pap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order of your paragraph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instructions for the assignm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writing.</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28440"/>
            <a:ext cx="8229600" cy="322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Once you have checked your work and perfected your formatting,</a:t>
            </a:r>
            <a:br>
              <a:rPr sz="4000"/>
            </a:br>
            <a:r>
              <a:rPr b="0" lang="en-US" sz="4000" spc="-1" strike="noStrike">
                <a:solidFill>
                  <a:srgbClr val="feec94"/>
                </a:solidFill>
                <a:latin typeface="Times New Roman"/>
              </a:rPr>
              <a:t>your essay is finished.</a:t>
            </a:r>
            <a:br>
              <a:rPr sz="4000"/>
            </a:br>
            <a:br>
              <a:rPr sz="4000"/>
            </a:br>
            <a:br>
              <a:rPr sz="4000"/>
            </a:br>
            <a:r>
              <a:rPr b="1" lang="en-US" sz="4000" spc="-1" strike="noStrike">
                <a:solidFill>
                  <a:srgbClr val="feec94"/>
                </a:solidFill>
                <a:latin typeface="Times New Roman"/>
              </a:rPr>
              <a:t>Congratulations!</a:t>
            </a:r>
            <a:br>
              <a:rPr sz="4000"/>
            </a:b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an Essay?</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let the thought of putting pen to paper daunt you. Get start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ssay Format</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imple steps will guide you through the essay writing proces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your topic.</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n outline or diagram of your idea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thesis stateme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bod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main 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e on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int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conclus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the finishing touche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oosing a Topic</a:t>
            </a:r>
            <a:endParaRPr b="1" lang="en-US" sz="4400" spc="-1" strike="noStrike">
              <a:solidFill>
                <a:srgbClr val="feec94"/>
              </a:solidFill>
              <a:latin typeface="Times New Roman"/>
            </a:endParaRPr>
          </a:p>
        </p:txBody>
      </p:sp>
      <p:sp>
        <p:nvSpPr>
          <p:cNvPr id="133" name="Rectangle 4"/>
          <p:cNvSpPr/>
          <p:nvPr/>
        </p:nvSpPr>
        <p:spPr>
          <a:xfrm>
            <a:off x="228600" y="1905120"/>
            <a:ext cx="8610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ce you have determined that your topic will be suitable, you can move o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e Your Ideas</a:t>
            </a:r>
            <a:endParaRPr b="1" lang="en-US" sz="4400" spc="-1" strike="noStrike">
              <a:solidFill>
                <a:srgbClr val="feec94"/>
              </a:solidFill>
              <a:latin typeface="Times New Roman"/>
            </a:endParaRPr>
          </a:p>
        </p:txBody>
      </p:sp>
      <p:sp>
        <p:nvSpPr>
          <p:cNvPr id="135" name="Rectangle 5"/>
          <p:cNvSpPr/>
          <p:nvPr/>
        </p:nvSpPr>
        <p:spPr>
          <a:xfrm>
            <a:off x="304920" y="220968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ing Your Ideas</a:t>
            </a:r>
            <a:endParaRPr b="1" lang="en-US" sz="4400" spc="-1" strike="noStrike">
              <a:solidFill>
                <a:srgbClr val="feec94"/>
              </a:solidFill>
              <a:latin typeface="Times New Roman"/>
            </a:endParaRPr>
          </a:p>
        </p:txBody>
      </p:sp>
      <p:grpSp>
        <p:nvGrpSpPr>
          <p:cNvPr id="137" name="Diagram 10"/>
          <p:cNvGrpSpPr/>
          <p:nvPr/>
        </p:nvGrpSpPr>
        <p:grpSpPr>
          <a:xfrm>
            <a:off x="2516040" y="1730520"/>
            <a:ext cx="4111920" cy="3962160"/>
            <a:chOff x="2516040" y="1730520"/>
            <a:chExt cx="4111920" cy="3962160"/>
          </a:xfrm>
        </p:grpSpPr>
        <p:sp>
          <p:nvSpPr>
            <p:cNvPr id="138" name="_s1028"/>
            <p:cNvSpPr/>
            <p:nvPr/>
          </p:nvSpPr>
          <p:spPr>
            <a:xfrm flipH="1" flipV="1">
              <a:off x="3557160" y="3533400"/>
              <a:ext cx="507960" cy="166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_s1029"/>
            <p:cNvSpPr/>
            <p:nvPr/>
          </p:nvSpPr>
          <p:spPr>
            <a:xfrm>
              <a:off x="251604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eeds</a:t>
              </a:r>
              <a:endParaRPr b="0" lang="en-US" sz="1800" spc="-1" strike="noStrike">
                <a:solidFill>
                  <a:srgbClr val="ffffff"/>
                </a:solidFill>
                <a:latin typeface="Times New Roman"/>
              </a:endParaRPr>
            </a:p>
          </p:txBody>
        </p:sp>
        <p:sp>
          <p:nvSpPr>
            <p:cNvPr id="140" name="_s1030"/>
            <p:cNvSpPr/>
            <p:nvPr/>
          </p:nvSpPr>
          <p:spPr>
            <a:xfrm flipH="1">
              <a:off x="3943080" y="4295880"/>
              <a:ext cx="315720" cy="431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_s1031"/>
            <p:cNvSpPr/>
            <p:nvPr/>
          </p:nvSpPr>
          <p:spPr>
            <a:xfrm>
              <a:off x="3098880" y="4626000"/>
              <a:ext cx="106668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lth</a:t>
              </a:r>
              <a:endParaRPr b="0" lang="en-US" sz="1800" spc="-1" strike="noStrike">
                <a:solidFill>
                  <a:srgbClr val="ffffff"/>
                </a:solidFill>
                <a:latin typeface="Times New Roman"/>
              </a:endParaRPr>
            </a:p>
          </p:txBody>
        </p:sp>
        <p:sp>
          <p:nvSpPr>
            <p:cNvPr id="142" name="_s1032"/>
            <p:cNvSpPr/>
            <p:nvPr/>
          </p:nvSpPr>
          <p:spPr>
            <a:xfrm>
              <a:off x="4884840" y="4295880"/>
              <a:ext cx="314280" cy="433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_s1033"/>
            <p:cNvSpPr/>
            <p:nvPr/>
          </p:nvSpPr>
          <p:spPr>
            <a:xfrm>
              <a:off x="4979880" y="462600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trition</a:t>
              </a:r>
              <a:endParaRPr b="0" lang="en-US" sz="1800" spc="-1" strike="noStrike">
                <a:solidFill>
                  <a:srgbClr val="ffffff"/>
                </a:solidFill>
                <a:latin typeface="Times New Roman"/>
              </a:endParaRPr>
            </a:p>
          </p:txBody>
        </p:sp>
        <p:sp>
          <p:nvSpPr>
            <p:cNvPr id="144" name="_s1034"/>
            <p:cNvSpPr/>
            <p:nvPr/>
          </p:nvSpPr>
          <p:spPr>
            <a:xfrm flipV="1">
              <a:off x="5078520" y="3534840"/>
              <a:ext cx="509400" cy="16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 name="_s1035"/>
            <p:cNvSpPr/>
            <p:nvPr/>
          </p:nvSpPr>
          <p:spPr>
            <a:xfrm>
              <a:off x="556092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havior</a:t>
              </a:r>
              <a:endParaRPr b="0" lang="en-US" sz="1800" spc="-1" strike="noStrike">
                <a:solidFill>
                  <a:srgbClr val="ffffff"/>
                </a:solidFill>
                <a:latin typeface="Times New Roman"/>
              </a:endParaRPr>
            </a:p>
          </p:txBody>
        </p:sp>
        <p:sp>
          <p:nvSpPr>
            <p:cNvPr id="146" name="_s1036"/>
            <p:cNvSpPr/>
            <p:nvPr/>
          </p:nvSpPr>
          <p:spPr>
            <a:xfrm flipV="1">
              <a:off x="4572000" y="2797200"/>
              <a:ext cx="0" cy="534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_s1037"/>
            <p:cNvSpPr/>
            <p:nvPr/>
          </p:nvSpPr>
          <p:spPr>
            <a:xfrm>
              <a:off x="4038480" y="173052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oming</a:t>
              </a:r>
              <a:endParaRPr b="0" lang="en-US" sz="1800" spc="-1" strike="noStrike">
                <a:solidFill>
                  <a:srgbClr val="ffffff"/>
                </a:solidFill>
                <a:latin typeface="Times New Roman"/>
              </a:endParaRPr>
            </a:p>
          </p:txBody>
        </p:sp>
        <p:sp>
          <p:nvSpPr>
            <p:cNvPr id="148" name="_s1038"/>
            <p:cNvSpPr/>
            <p:nvPr/>
          </p:nvSpPr>
          <p:spPr>
            <a:xfrm>
              <a:off x="4038480" y="333216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g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Your Outline</a:t>
            </a:r>
            <a:endParaRPr b="1" lang="en-US" sz="4400" spc="-1" strike="noStrike">
              <a:solidFill>
                <a:srgbClr val="feec94"/>
              </a:solidFill>
              <a:latin typeface="Times New Roman"/>
            </a:endParaRPr>
          </a:p>
        </p:txBody>
      </p:sp>
      <p:sp>
        <p:nvSpPr>
          <p:cNvPr id="150" name="PlaceHolder 2"/>
          <p:cNvSpPr>
            <a:spLocks noGrp="1"/>
          </p:cNvSpPr>
          <p:nvPr>
            <p:ph/>
          </p:nvPr>
        </p:nvSpPr>
        <p:spPr>
          <a:xfrm>
            <a:off x="380880" y="1218960"/>
            <a:ext cx="8305920" cy="4911480"/>
          </a:xfrm>
          <a:prstGeom prst="rect">
            <a:avLst/>
          </a:prstGeom>
          <a:noFill/>
          <a:ln w="0">
            <a:noFill/>
          </a:ln>
        </p:spPr>
        <p:txBody>
          <a:bodyPr anchor="t">
            <a:normAutofit fontScale="96000"/>
          </a:bodyPr>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gin your outline by writing your topic at the top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write the Roman numerals I, II, and III, spread apart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Roman numeral, write the main ideas that you have about your topic, or the main points that you want to make.</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persuade, you want to write your best arguments.</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explain a process, you want to write the steps that should be followed. You will probably need to group these into categories. If you have trouble grouping the steps into categories, try using Beginning, Middle, and End.</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inform, you want to write the major categories into which your information can be divided.</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 each Roman numeral, write A, B, and C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letter, write the facts or information that support that main idea.</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you have finished, you have the basic structure for your essay and are ready to continue.</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sing a Thesis Statement</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decided, at least tentatively, what information you plan to present in your essay, you are ready to write your thesis statemen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esis statement tells the reader what the essay will be about, and what point you, the author, will be ma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know what the essay will be about. That was your topic. Now you must look at your outline or diagram and decide what point you will be making. What do the main ideas and supporting ideas that you listed say about your topic?</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sis Statement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thesis statement will have two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art states the topic.</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nya's Cultur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ilding a Model Train Set</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cond part states the point of the essay.</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a rich and varied history</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s time and patienc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solve some of our city's most persistent and pressing problems</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you have formulated a thesis statement that fits this pattern and with which you are comfortable, you are ready to continu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14:31Z</dcterms:created>
  <dc:creator>HRSB</dc:creator>
  <dc:description/>
  <dc:language>en-US</dc:language>
  <cp:lastModifiedBy>RomaK</cp:lastModifiedBy>
  <dcterms:modified xsi:type="dcterms:W3CDTF">2015-09-02T09:32:48Z</dcterms:modified>
  <cp:revision>12</cp:revision>
  <dc:subject/>
  <dc:title>Basic Guide to Writing an Essay</dc:title>
</cp:coreProperties>
</file>