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3C04-058C-4A88-808C-73D5EC2A0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9ED-3300-4A86-9C4E-5586D755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059-37B0-4EA8-9037-F8899642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ECE-10A4-4CFB-B594-83F74E6A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2B2-03E6-4F36-9B63-420AE103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9836-7D09-44CE-8B5D-395A6FE3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7B2B-51CD-4B4B-A61D-9D5C1AF9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F1C9-2963-480D-9B7A-EB454BE5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B7F8-300A-4D56-B041-4A75E532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04D9-348D-432E-910D-F7AC9C38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7170-0AB9-4022-AE39-47DFAE12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8341-35AA-4457-937F-36832CDB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F82-A75A-4668-A6F5-F0E36685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FD11-39E7-4EFA-B387-CDB1434A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8FA0-76EA-4CBD-94A0-9CD4818F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5F04-A6BB-4AE8-B3B1-43598551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67D8-B284-4AF1-B04A-53FE384C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6A54-7CBD-4449-BA80-402F6E6E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65B-BE36-429E-9A9E-2D55D87F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705-926E-400B-8850-DD9DB9F0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00C-6F82-435D-99BA-A690F1DF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C15-3328-4982-B944-ACFF1049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6A1-59E7-405E-AC97-69CDB7FE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194-429E-4433-8F89-9263427B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779-E16E-4CA8-96F4-5293439B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CDD5-B7FC-4C38-AE09-990EB5C2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4CB4-309B-468B-B94E-DA786A4D35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066680" y="6858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Man with Dog 1"/>
          <p:cNvPicPr/>
          <p:nvPr/>
        </p:nvPicPr>
        <p:blipFill>
          <a:blip r:embed="rId1"/>
          <a:stretch/>
        </p:blipFill>
        <p:spPr>
          <a:xfrm>
            <a:off x="3352680" y="2590920"/>
            <a:ext cx="265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a Committe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g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u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ll your talent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Friends Talking 1"/>
          <p:cNvPicPr/>
          <p:nvPr/>
        </p:nvPicPr>
        <p:blipFill>
          <a:blip r:embed="rId1"/>
          <a:stretch/>
        </p:blipFill>
        <p:spPr>
          <a:xfrm>
            <a:off x="685800" y="3352680"/>
            <a:ext cx="2011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Kids on Slide 2"/>
          <p:cNvPicPr/>
          <p:nvPr/>
        </p:nvPicPr>
        <p:blipFill>
          <a:blip r:embed="rId1"/>
          <a:stretch/>
        </p:blipFill>
        <p:spPr>
          <a:xfrm>
            <a:off x="2895480" y="2438280"/>
            <a:ext cx="48006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tereotypes are dangerous perceptions we all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Boy Standing 07"/>
          <p:cNvPicPr/>
          <p:nvPr/>
        </p:nvPicPr>
        <p:blipFill>
          <a:blip r:embed="rId1"/>
          <a:stretch/>
        </p:blipFill>
        <p:spPr>
          <a:xfrm>
            <a:off x="4648320" y="1447920"/>
            <a:ext cx="2671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African American Males are 72% less likely to attend college than Caucasian Males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Over represented in Special education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Have higher levels of behavior problems in the school se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re often feared by teachers regardless of the teacher’s r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The odds are agains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Boy Standing 04"/>
          <p:cNvPicPr/>
          <p:nvPr/>
        </p:nvPicPr>
        <p:blipFill>
          <a:blip r:embed="rId1"/>
          <a:stretch/>
        </p:blipFill>
        <p:spPr>
          <a:xfrm>
            <a:off x="6858000" y="1752480"/>
            <a:ext cx="19162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ed Your He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Doctor 10"/>
          <p:cNvPicPr/>
          <p:nvPr/>
        </p:nvPicPr>
        <p:blipFill>
          <a:blip r:embed="rId1"/>
          <a:stretch/>
        </p:blipFill>
        <p:spPr>
          <a:xfrm>
            <a:off x="5521320" y="2490840"/>
            <a:ext cx="229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Make African American History Part of Regular Curriculu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Boy Standing 12"/>
          <p:cNvPicPr/>
          <p:nvPr/>
        </p:nvPicPr>
        <p:blipFill>
          <a:blip r:embed="rId1"/>
          <a:stretch/>
        </p:blipFill>
        <p:spPr>
          <a:xfrm>
            <a:off x="228600" y="380988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Boy Standing 05"/>
          <p:cNvPicPr/>
          <p:nvPr/>
        </p:nvPicPr>
        <p:blipFill>
          <a:blip r:embed="rId2"/>
          <a:stretch/>
        </p:blipFill>
        <p:spPr>
          <a:xfrm>
            <a:off x="7010280" y="3809880"/>
            <a:ext cx="1928880" cy="27432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1295280" y="2209680"/>
            <a:ext cx="686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Help the students to understand that all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ur history involves interaction with one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ek and teach about positive African Ameri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role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 About the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Boy Tying Shoe"/>
          <p:cNvPicPr/>
          <p:nvPr/>
        </p:nvPicPr>
        <p:blipFill>
          <a:blip r:embed="rId1"/>
          <a:stretch/>
        </p:blipFill>
        <p:spPr>
          <a:xfrm>
            <a:off x="5437080" y="2490840"/>
            <a:ext cx="245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Stop pitying them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, start helping the child to see his own skin color as the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it is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Boy &amp; Skateboard 04"/>
          <p:cNvPicPr/>
          <p:nvPr/>
        </p:nvPicPr>
        <p:blipFill>
          <a:blip r:embed="rId1"/>
          <a:stretch/>
        </p:blipFill>
        <p:spPr>
          <a:xfrm>
            <a:off x="5278320" y="1219320"/>
            <a:ext cx="2570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ive students the gift of high expecta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Boy Playing Basketball"/>
          <p:cNvPicPr/>
          <p:nvPr/>
        </p:nvPicPr>
        <p:blipFill>
          <a:blip r:embed="rId1"/>
          <a:stretch/>
        </p:blipFill>
        <p:spPr>
          <a:xfrm>
            <a:off x="5638680" y="1447920"/>
            <a:ext cx="2438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eliev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Flying Disc"/>
          <p:cNvPicPr/>
          <p:nvPr/>
        </p:nvPicPr>
        <p:blipFill>
          <a:blip r:embed="rId1"/>
          <a:stretch/>
        </p:blipFill>
        <p:spPr>
          <a:xfrm>
            <a:off x="5295960" y="3181320"/>
            <a:ext cx="3695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7:53:56Z</dcterms:created>
  <dc:creator>kathy</dc:creator>
  <dc:description/>
  <dc:language>en-US</dc:language>
  <cp:lastModifiedBy>RomaK</cp:lastModifiedBy>
  <dcterms:modified xsi:type="dcterms:W3CDTF">2015-09-02T09:32:37Z</dcterms:modified>
  <cp:revision>6</cp:revision>
  <dc:subject/>
  <dc:title>Empowering african american m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