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3570-D948-402A-901D-C67B84E68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mpowering African Ameri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owering 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Committe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’t go ugh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g, all your talents toge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what works b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boys in your scho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the cataly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mmitt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o 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, all your talent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what work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boys in your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the cataly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trongest word  anyone of us know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trongest word  anyone of us kn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reo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reotypes are dangerous perceptions we all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cking one’s own attitude and hidden behavi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ypes are dangerous perceptions we all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ing one’s own attitude and hidden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American Males are 72% less likely to attend college than Caucasian Ma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 represented in Special education progra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higher levels of behavior problems in the school set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often feared by teachers regardless of the teacher’s r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dds are against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merican Males are 72% less likely to attend college than Caucasian 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represented in Special education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igher levels of behavior problems in the school set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feared by teachers regardless of the teacher’s r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dds are agains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Your Hel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college as an opport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self-este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hat the student needs to do to reach his go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 within the child’s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Your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college as an opport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hat the student needs to do to reach hi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within the child’s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African American History Part of Regular Curriculu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students to understand that all of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history involves interaction with one an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k and teach about positive African Ameri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e mod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frican American History Part of Regular Curriculu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students to understand that al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history involves interaction with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nd teach about positive 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About the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e a part of the child’s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tablish a safety net around the child by using the circle of trust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with community lead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with the child’s next school level teac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About th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 a part of the child’s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a safety net around the child by using the circle of trust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with communit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with the child’s next school level 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self-esteem is the #1 cause for Black males acting out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pitying them, start helping the child to see his own skin color as the g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self-esteem is the #1 cause for Black males acting out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pitying them, start helping the child to see his own skin color as the g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students the gift of high expec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to the child daily about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 the child what college he is going to att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child does not know, help him explore some colle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 financial programs available in his fu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students the gift of hig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the child daily about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child what college he is going to at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ild does not know, help him explore some col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inancial programs available in hi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ie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ldren know when you are ac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 the child that you believe in hi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ise the child oft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positives even when they are hard to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s to mom, a warm smile, a compliment can go a long 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know when you are a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child that you believe in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 the child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positives even when they are hard to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to mom, a warm smile, a compliment can go a l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040-8D2B-4EA7-A191-343F8D77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147-FC0D-4801-A37E-8F4E2867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225-8124-4AD9-A481-DA7C4AE1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FE7-3FB2-4BE3-BEC5-1C0161E8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E229-8821-425E-827E-2D0515D1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C6D8-DD09-47C4-882F-AB7AACA0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6044-3D2C-4E49-BE58-3A438E1B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1909-63D2-40F2-9639-5DFC834E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13F9-D030-4F0F-B9E7-C6084072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8F1C-A7D5-4622-ADAB-8BBAC167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AA0A-5912-4F96-B1EF-B980A441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DC5-603A-4922-A14C-C876AF60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7DDF-DA08-4ED5-9884-6520FEC1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8F96-B7EB-42D1-A333-117FF253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5144-5FC3-46A0-8B2F-D773D2BB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D9F4-57A9-4FC2-A01F-250526D2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695D-5C52-43FB-8B9B-3775BF61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463-D78B-4A7E-8283-43BF1537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2A3-6CD5-43F0-833D-EB8485DF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FEE-ABF9-4EE6-93D8-79CC3C66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5B5-D891-4500-BAAD-8CE416FE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C1E-18C9-47E9-8DEA-060143B2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FF8-F45A-407C-85E3-D0A171EE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F7C-B34B-4F0E-BB9B-0042699A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5825-51CF-4EA7-803F-BA5A3566B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7194-AA1A-40CF-8B3D-CBF1319E4D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1066680" y="68580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owering African Ameri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Man with Dog 1"/>
          <p:cNvPicPr/>
          <p:nvPr/>
        </p:nvPicPr>
        <p:blipFill>
          <a:blip r:embed="rId1"/>
          <a:stretch/>
        </p:blipFill>
        <p:spPr>
          <a:xfrm>
            <a:off x="3352680" y="2590920"/>
            <a:ext cx="265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e a Committe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g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u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ll your talents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ind what works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boys in your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the cataly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Friends Talking 1"/>
          <p:cNvPicPr/>
          <p:nvPr/>
        </p:nvPicPr>
        <p:blipFill>
          <a:blip r:embed="rId1"/>
          <a:stretch/>
        </p:blipFill>
        <p:spPr>
          <a:xfrm>
            <a:off x="685800" y="3352680"/>
            <a:ext cx="2011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trongest word  anyone of us kn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Kids on Slide 2"/>
          <p:cNvPicPr/>
          <p:nvPr/>
        </p:nvPicPr>
        <p:blipFill>
          <a:blip r:embed="rId1"/>
          <a:stretch/>
        </p:blipFill>
        <p:spPr>
          <a:xfrm>
            <a:off x="2895480" y="2438280"/>
            <a:ext cx="48006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reotyp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tereotypes are dangerous perceptions we all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ing one’s own attitude and hidden behav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Boy Standing 07"/>
          <p:cNvPicPr/>
          <p:nvPr/>
        </p:nvPicPr>
        <p:blipFill>
          <a:blip r:embed="rId1"/>
          <a:stretch/>
        </p:blipFill>
        <p:spPr>
          <a:xfrm>
            <a:off x="4648320" y="1447920"/>
            <a:ext cx="2671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African American Males are 72% less likely to attend college than Caucasian Males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Over represented in Special education pro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Have higher levels of behavior problems in the school set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re often feared by teachers regardless of the teacher’s r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The odds are agains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Boy Standing 04"/>
          <p:cNvPicPr/>
          <p:nvPr/>
        </p:nvPicPr>
        <p:blipFill>
          <a:blip r:embed="rId1"/>
          <a:stretch/>
        </p:blipFill>
        <p:spPr>
          <a:xfrm>
            <a:off x="6858000" y="1752480"/>
            <a:ext cx="191628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ed Your He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college as an opport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self-e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what the student needs to do to reach his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within the child’s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Doctor 10"/>
          <p:cNvPicPr/>
          <p:nvPr/>
        </p:nvPicPr>
        <p:blipFill>
          <a:blip r:embed="rId1"/>
          <a:stretch/>
        </p:blipFill>
        <p:spPr>
          <a:xfrm>
            <a:off x="5521320" y="2490840"/>
            <a:ext cx="229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Make African American History Part of Regular Curriculu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Boy Standing 12"/>
          <p:cNvPicPr/>
          <p:nvPr/>
        </p:nvPicPr>
        <p:blipFill>
          <a:blip r:embed="rId1"/>
          <a:stretch/>
        </p:blipFill>
        <p:spPr>
          <a:xfrm>
            <a:off x="228600" y="3809880"/>
            <a:ext cx="1725480" cy="2743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Boy Standing 05"/>
          <p:cNvPicPr/>
          <p:nvPr/>
        </p:nvPicPr>
        <p:blipFill>
          <a:blip r:embed="rId2"/>
          <a:stretch/>
        </p:blipFill>
        <p:spPr>
          <a:xfrm>
            <a:off x="7010280" y="3809880"/>
            <a:ext cx="1928880" cy="27432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1295280" y="2209680"/>
            <a:ext cx="686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Help the students to understand that all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our history involves interaction with one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eek and teach about positive African Ameri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role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arn About the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 a part of the child’s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 safety net around the child by using the circle of trus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with community l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with the child’s next school level 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Boy Tying Shoe"/>
          <p:cNvPicPr/>
          <p:nvPr/>
        </p:nvPicPr>
        <p:blipFill>
          <a:blip r:embed="rId1"/>
          <a:stretch/>
        </p:blipFill>
        <p:spPr>
          <a:xfrm>
            <a:off x="5437080" y="2490840"/>
            <a:ext cx="245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f-Este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lf-esteem is the #1 cause for Black males acting out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Stop pitying them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, start helping the child to see his own skin color as the g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it is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Boy &amp; Skateboard 04"/>
          <p:cNvPicPr/>
          <p:nvPr/>
        </p:nvPicPr>
        <p:blipFill>
          <a:blip r:embed="rId1"/>
          <a:stretch/>
        </p:blipFill>
        <p:spPr>
          <a:xfrm>
            <a:off x="5278320" y="1219320"/>
            <a:ext cx="2570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ive students the gift of high expecta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the child daily about col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the child what college he is going to at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child does not know, help him explore some colle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financial programs available in his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Boy Playing Basketball"/>
          <p:cNvPicPr/>
          <p:nvPr/>
        </p:nvPicPr>
        <p:blipFill>
          <a:blip r:embed="rId1"/>
          <a:stretch/>
        </p:blipFill>
        <p:spPr>
          <a:xfrm>
            <a:off x="5638680" y="1447920"/>
            <a:ext cx="2438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eliev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 know when you are a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e child that you believe in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 the child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positives even when they are hard to f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s to mom, a warm smile, a compliment can go a long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Flying Disc"/>
          <p:cNvPicPr/>
          <p:nvPr/>
        </p:nvPicPr>
        <p:blipFill>
          <a:blip r:embed="rId1"/>
          <a:stretch/>
        </p:blipFill>
        <p:spPr>
          <a:xfrm>
            <a:off x="5295960" y="3181320"/>
            <a:ext cx="3695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7:53:56Z</dcterms:created>
  <dc:creator>kathy</dc:creator>
  <dc:description/>
  <dc:language>en-US</dc:language>
  <cp:lastModifiedBy>RomaK</cp:lastModifiedBy>
  <dcterms:modified xsi:type="dcterms:W3CDTF">2015-09-02T09:32:37Z</dcterms:modified>
  <cp:revision>6</cp:revision>
  <dc:subject/>
  <dc:title>Empowering african american m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