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6.gif" ContentType="image/gif"/>
  <Override PartName="/ppt/media/image15.gif" ContentType="image/gif"/>
  <Override PartName="/ppt/media/image7.jpeg" ContentType="image/jpeg"/>
  <Override PartName="/ppt/media/image10.gif" ContentType="image/gi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A5B6-0EED-4DB1-95B9-EA0124D7A6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sell or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wants to be your frie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links itself to things we like to do, so that when we do them we think of Orange. Even if they are not t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ovies, so Orange let us go for fr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Football, so Orange sponsors Liverpo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pool (the greatest footb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 ever) is sponsored by 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se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es everyone lo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loves mu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Orange have special offers to music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ange advert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advertises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s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b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where e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Loader @ T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of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is 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you will never forget the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AB85-2F84-495F-9277-A529DC42F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D1F1-FA7E-4E75-8DB9-3C7F4B5B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03BC-2B50-47B0-8F6C-ABA75094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F54-03B7-498D-BB88-0B485655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44E3-A5C0-49BB-B4EF-790D3A42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D9A-C062-4C8B-8D1E-3E835AC1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E9D7-4070-41B4-9A16-3734892E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015D-0EE9-43F4-89F0-6588A52B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C4D5F-50A2-4831-88F4-01168C25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B804B-3FB0-4B33-A2F1-42026F20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2854-8D8A-4631-B738-37AD8131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AFF-73E6-4936-BE7E-11FA5790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A556-AC8C-4E37-8299-F7E2B96F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CE0D-326E-4620-A73E-6D6E7158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F700-E9A8-4125-9B91-A3E1BA90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1057-EDC5-4001-BC4F-C76965938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7132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1200" y="137124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8108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7132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1200" y="3600000"/>
            <a:ext cx="20854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714C-B194-4CAA-A100-52CBBD8D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B6A-6DA7-4C66-AC14-3CE9C4E1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F37-C177-4F42-8559-C8CA94CA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FF36-FECB-41D0-B177-1AFC3DEB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274680"/>
            <a:ext cx="75438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7B10-9B2A-4174-BAB6-91692632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4A59-2460-4311-BC7E-F7037506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00280" y="360000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2D7-6EEE-41EE-B6AE-CF69B0F4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810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00280" y="1371240"/>
            <a:ext cx="31608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81080" y="3600000"/>
            <a:ext cx="6477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739-1EC5-4193-B649-3365FAA2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BB89-5D4E-484D-ABBD-E3CA7FF92F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81080" y="13712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5e1f0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5e1f0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e1f08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CF0D-EEEE-4A1C-B898-CF640BAF84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1960" y="357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Advertis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79640" y="4723920"/>
            <a:ext cx="3240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Arial Rounded MT Bold"/>
              </a:rPr>
              <a:t>How to sell oranges</a:t>
            </a:r>
            <a:endParaRPr b="0" lang="en-US" sz="20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1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292720" y="429264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529128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hand_dialing_cel_phone_hg_clr"/>
          <p:cNvPicPr/>
          <p:nvPr/>
        </p:nvPicPr>
        <p:blipFill>
          <a:blip r:embed="rId1"/>
          <a:stretch/>
        </p:blipFill>
        <p:spPr>
          <a:xfrm>
            <a:off x="1332000" y="907920"/>
            <a:ext cx="24685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26920" y="1106640"/>
            <a:ext cx="554544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   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5e1f08"/>
                </a:solidFill>
                <a:latin typeface="Arial Rounded MT Bold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nks itself to things we like to do, so that when we do them we think of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. Even if they are not there!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7020000" y="1411200"/>
            <a:ext cx="1008000" cy="10810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020000" y="21258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Rounded MT Bold"/>
              </a:rPr>
              <a:t>orange</a:t>
            </a:r>
            <a:r>
              <a:rPr b="0" lang="en-GB" sz="800" spc="-1" strike="noStrike" baseline="100000">
                <a:solidFill>
                  <a:srgbClr val="ffffff"/>
                </a:solidFill>
                <a:latin typeface="Arial Rounded MT Bold"/>
              </a:rPr>
              <a:t>T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2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friends_playing_standup_videogame_together_hg_clr"/>
          <p:cNvPicPr/>
          <p:nvPr/>
        </p:nvPicPr>
        <p:blipFill>
          <a:blip r:embed="rId1"/>
          <a:stretch/>
        </p:blipFill>
        <p:spPr>
          <a:xfrm>
            <a:off x="6156360" y="3357720"/>
            <a:ext cx="2325600" cy="23256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1187280" y="4076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wants to be your frien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15" descr="orange_wednesdays2"/>
          <p:cNvPicPr/>
          <p:nvPr/>
        </p:nvPicPr>
        <p:blipFill>
          <a:blip r:embed="rId1"/>
          <a:stretch/>
        </p:blipFill>
        <p:spPr>
          <a:xfrm>
            <a:off x="971640" y="2349360"/>
            <a:ext cx="4754520" cy="356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6"/>
          <p:cNvSpPr/>
          <p:nvPr/>
        </p:nvSpPr>
        <p:spPr>
          <a:xfrm>
            <a:off x="755640" y="155736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ovies, so </a:t>
            </a:r>
            <a:r>
              <a:rPr b="0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let us go for f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9" descr="people_laughing_at_a_movie_lg_clr"/>
          <p:cNvPicPr/>
          <p:nvPr/>
        </p:nvPicPr>
        <p:blipFill>
          <a:blip r:embed="rId2"/>
          <a:stretch/>
        </p:blipFill>
        <p:spPr>
          <a:xfrm>
            <a:off x="6227640" y="316692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0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3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95280" y="141300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Football, so 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sponsors Liverp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liverpool-bg"/>
          <p:cNvPicPr/>
          <p:nvPr/>
        </p:nvPicPr>
        <p:blipFill>
          <a:blip r:embed="rId1"/>
          <a:stretch/>
        </p:blipFill>
        <p:spPr>
          <a:xfrm>
            <a:off x="826920" y="2205000"/>
            <a:ext cx="5810400" cy="2381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mblemLiverpool"/>
          <p:cNvPicPr/>
          <p:nvPr/>
        </p:nvPicPr>
        <p:blipFill>
          <a:blip r:embed="rId2"/>
          <a:stretch/>
        </p:blipFill>
        <p:spPr>
          <a:xfrm>
            <a:off x="1763640" y="4873680"/>
            <a:ext cx="971640" cy="12193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2994840" y="5199120"/>
            <a:ext cx="52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Liverpool (the greatest footb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team ever) is sponsored by 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V="1">
            <a:off x="2987640" y="5446440"/>
            <a:ext cx="144000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2987640" y="50594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radley Hand ITC"/>
              </a:rPr>
              <a:t>Arse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9" descr="ARSENAL_club%2520badge"/>
          <p:cNvPicPr/>
          <p:nvPr/>
        </p:nvPicPr>
        <p:blipFill>
          <a:blip r:embed="rId3"/>
          <a:stretch/>
        </p:blipFill>
        <p:spPr>
          <a:xfrm rot="20166000">
            <a:off x="1476000" y="5070240"/>
            <a:ext cx="762120" cy="1095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boy_kicking_soccer_ball_hg_clr"/>
          <p:cNvPicPr/>
          <p:nvPr/>
        </p:nvPicPr>
        <p:blipFill>
          <a:blip r:embed="rId4"/>
          <a:stretch/>
        </p:blipFill>
        <p:spPr>
          <a:xfrm>
            <a:off x="6602400" y="2111400"/>
            <a:ext cx="2541600" cy="25416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1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4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468360"/>
            <a:ext cx="7543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What does everyone love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128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one loves music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So</a:t>
            </a:r>
            <a:r>
              <a:rPr b="1" lang="en-GB" sz="2400" spc="-1" strike="noStrike">
                <a:solidFill>
                  <a:srgbClr val="ff6600"/>
                </a:solidFill>
                <a:latin typeface="Arial Rounded MT Bold"/>
              </a:rPr>
              <a:t> Orange 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have special offers to music events.</a:t>
            </a:r>
            <a:endParaRPr b="0" lang="en-US" sz="2400" spc="-1" strike="noStrike">
              <a:solidFill>
                <a:srgbClr val="5e1f08"/>
              </a:solidFill>
              <a:latin typeface="Arial"/>
            </a:endParaRPr>
          </a:p>
        </p:txBody>
      </p:sp>
      <p:pic>
        <p:nvPicPr>
          <p:cNvPr id="122" name="Picture 4" descr="orangemusic2"/>
          <p:cNvPicPr/>
          <p:nvPr/>
        </p:nvPicPr>
        <p:blipFill>
          <a:blip r:embed="rId1"/>
          <a:stretch/>
        </p:blipFill>
        <p:spPr>
          <a:xfrm>
            <a:off x="900000" y="3573360"/>
            <a:ext cx="4791240" cy="542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orange-music"/>
          <p:cNvPicPr/>
          <p:nvPr/>
        </p:nvPicPr>
        <p:blipFill>
          <a:blip r:embed="rId2"/>
          <a:stretch/>
        </p:blipFill>
        <p:spPr>
          <a:xfrm>
            <a:off x="900000" y="4581360"/>
            <a:ext cx="5114880" cy="12481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5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boy_band_rockin_hg_clr"/>
          <p:cNvPicPr/>
          <p:nvPr/>
        </p:nvPicPr>
        <p:blipFill>
          <a:blip r:embed="rId3"/>
          <a:stretch/>
        </p:blipFill>
        <p:spPr>
          <a:xfrm>
            <a:off x="6084720" y="3573360"/>
            <a:ext cx="284328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9640" y="1044360"/>
            <a:ext cx="754380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How </a:t>
            </a:r>
            <a:r>
              <a:rPr b="0" lang="en-GB" sz="4000" spc="-1" strike="noStrike">
                <a:solidFill>
                  <a:srgbClr val="ff6600"/>
                </a:solidFill>
                <a:latin typeface="Arial Rounded MT Bold"/>
              </a:rPr>
              <a:t>Orange</a:t>
            </a:r>
            <a:r>
              <a:rPr b="0" lang="en-GB" sz="4000" spc="-1" strike="noStrike">
                <a:solidFill>
                  <a:srgbClr val="ffffff"/>
                </a:solidFill>
                <a:latin typeface="Arial Rounded MT Bold"/>
              </a:rPr>
              <a:t> advertis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6600"/>
                </a:solidFill>
                <a:latin typeface="Arial"/>
              </a:rPr>
              <a:t>6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1547640" y="1989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Orange advertises i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1280" y="2708280"/>
            <a:ext cx="54720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News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Magaz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T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On b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The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n the 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 Rounded MT Bold"/>
              </a:rPr>
              <a:t>Anywhere el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orange-screen"/>
          <p:cNvPicPr/>
          <p:nvPr/>
        </p:nvPicPr>
        <p:blipFill>
          <a:blip r:embed="rId1"/>
          <a:stretch/>
        </p:blipFill>
        <p:spPr>
          <a:xfrm>
            <a:off x="3132000" y="2781360"/>
            <a:ext cx="5715000" cy="36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" descr="advertise_here_md_clr"/>
          <p:cNvPicPr/>
          <p:nvPr/>
        </p:nvPicPr>
        <p:blipFill>
          <a:blip r:embed="rId2"/>
          <a:stretch/>
        </p:blipFill>
        <p:spPr>
          <a:xfrm>
            <a:off x="7164360" y="404640"/>
            <a:ext cx="87624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71280" y="2205000"/>
            <a:ext cx="75438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Orange is everywhere!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991640" y="0"/>
            <a:ext cx="115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Peter Loader @ T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7 of 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68360" y="4797360"/>
            <a:ext cx="470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 rot="2197800">
            <a:off x="395640" y="489276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1258920" y="53737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 rot="18704400">
            <a:off x="4044960" y="41004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 rot="669600">
            <a:off x="4258800" y="189720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 rot="1906200">
            <a:off x="1762920" y="836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 rot="20660400">
            <a:off x="5749920" y="385920"/>
            <a:ext cx="395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 rot="21099000">
            <a:off x="415800" y="5941800"/>
            <a:ext cx="48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 rot="19668000">
            <a:off x="6336000" y="64004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020000" y="479736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Rounded MT Bold"/>
              </a:rPr>
              <a:t>ever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-1549440" y="112536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Arial Rounded MT Bold"/>
              </a:rPr>
              <a:t>Wher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03280" y="2924280"/>
            <a:ext cx="8640720" cy="764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 Rounded MT Bold"/>
              </a:rPr>
              <a:t>So you will never forget the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3T11:28:13Z</dcterms:created>
  <dc:creator>The Learning Trust</dc:creator>
  <dc:description/>
  <dc:language>en-US</dc:language>
  <cp:lastModifiedBy>RomaK</cp:lastModifiedBy>
  <dcterms:modified xsi:type="dcterms:W3CDTF">2015-09-02T09:32:24Z</dcterms:modified>
  <cp:revision>78</cp:revision>
  <dc:subject/>
  <dc:title>Advertising</dc:title>
</cp:coreProperties>
</file>