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E27-8108-48E7-BE23-F715CB5330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wants to be your fri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FB1-1088-45AB-B5E7-855DA8A8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CA2-A40E-4BE0-870A-1CF5F8AB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448-52AB-4497-9075-F0E01B5C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45F-0702-4F8B-B189-F910EE37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3986-583A-4BC9-964A-C715420A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11C9-E7E4-4F99-9521-8AD67DC0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E1CC-F7F2-4A86-924F-2F6D062B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244C-B610-4781-A680-25B58F5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D0C3-F474-4C19-9354-22353DC2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FAFF-3251-491A-9546-8D0ED169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2038-BBB2-4C56-A5BF-3E112FB8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E66-EC13-4CB3-B415-5A5D7CC6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4A9B-4123-4A04-A1E6-D4A0318A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EAB7-E781-4F71-B4F7-D9BFCEA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D39C-14DB-4099-A394-7442264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ED6E-4751-49DA-B4D3-C24C913E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0A8F-5A48-436E-99FE-A6E5FD00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574-25B3-439A-B2EE-ACE3F192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BCC-E2D5-4276-B10B-2A205A6F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6E5-0281-4D07-B784-01952A5D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42A-3335-4DE0-9202-1C565B63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331-B511-43C6-94C2-FF642C84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BF5-2D51-4BF1-B86F-6B02F159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CB9-0F50-40AA-AC8E-EC8CE2F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4D4E-8A47-4D04-B586-4F8FCEC8F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CDA9-3AD0-4CEC-91E5-E4A539197A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960" y="357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verti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472392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 Rounded MT Bold"/>
              </a:rPr>
              <a:t>How to sell oranges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1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292720" y="429264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291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and_dialing_cel_phone_hg_clr"/>
          <p:cNvPicPr/>
          <p:nvPr/>
        </p:nvPicPr>
        <p:blipFill>
          <a:blip r:embed="rId1"/>
          <a:stretch/>
        </p:blipFill>
        <p:spPr>
          <a:xfrm>
            <a:off x="1332000" y="907920"/>
            <a:ext cx="2468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1106640"/>
            <a:ext cx="554544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5e1f08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nks itself to things we like to do, so that when we do them we think of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 Even if they are not there!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020000" y="141120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020000" y="21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2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friends_playing_standup_videogame_together_hg_clr"/>
          <p:cNvPicPr/>
          <p:nvPr/>
        </p:nvPicPr>
        <p:blipFill>
          <a:blip r:embed="rId1"/>
          <a:stretch/>
        </p:blipFill>
        <p:spPr>
          <a:xfrm>
            <a:off x="6156360" y="335772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187280" y="407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wants to be your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5" descr="orange_wednesdays2"/>
          <p:cNvPicPr/>
          <p:nvPr/>
        </p:nvPicPr>
        <p:blipFill>
          <a:blip r:embed="rId1"/>
          <a:stretch/>
        </p:blipFill>
        <p:spPr>
          <a:xfrm>
            <a:off x="971640" y="2349360"/>
            <a:ext cx="4754520" cy="356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75564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ovies, so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let us go for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people_laughing_at_a_movie_lg_clr"/>
          <p:cNvPicPr/>
          <p:nvPr/>
        </p:nvPicPr>
        <p:blipFill>
          <a:blip r:embed="rId2"/>
          <a:stretch/>
        </p:blipFill>
        <p:spPr>
          <a:xfrm>
            <a:off x="6227640" y="316692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3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413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Football, so 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sponsors Liver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iverpool-bg"/>
          <p:cNvPicPr/>
          <p:nvPr/>
        </p:nvPicPr>
        <p:blipFill>
          <a:blip r:embed="rId1"/>
          <a:stretch/>
        </p:blipFill>
        <p:spPr>
          <a:xfrm>
            <a:off x="826920" y="2205000"/>
            <a:ext cx="581040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mblemLiverpool"/>
          <p:cNvPicPr/>
          <p:nvPr/>
        </p:nvPicPr>
        <p:blipFill>
          <a:blip r:embed="rId2"/>
          <a:stretch/>
        </p:blipFill>
        <p:spPr>
          <a:xfrm>
            <a:off x="1763640" y="4873680"/>
            <a:ext cx="97164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994840" y="51991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verpool (the greatest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eam ever) is sponsored by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987640" y="5446440"/>
            <a:ext cx="14400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505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Ars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ARSENAL_club%2520badge"/>
          <p:cNvPicPr/>
          <p:nvPr/>
        </p:nvPicPr>
        <p:blipFill>
          <a:blip r:embed="rId3"/>
          <a:stretch/>
        </p:blipFill>
        <p:spPr>
          <a:xfrm rot="20166000">
            <a:off x="1476000" y="5070240"/>
            <a:ext cx="762120" cy="109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boy_kicking_soccer_ball_hg_clr"/>
          <p:cNvPicPr/>
          <p:nvPr/>
        </p:nvPicPr>
        <p:blipFill>
          <a:blip r:embed="rId4"/>
          <a:stretch/>
        </p:blipFill>
        <p:spPr>
          <a:xfrm>
            <a:off x="6602400" y="21114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4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usic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So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 Orange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ave special offers to music event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pic>
        <p:nvPicPr>
          <p:cNvPr id="122" name="Picture 4" descr="orangemusic2"/>
          <p:cNvPicPr/>
          <p:nvPr/>
        </p:nvPicPr>
        <p:blipFill>
          <a:blip r:embed="rId1"/>
          <a:stretch/>
        </p:blipFill>
        <p:spPr>
          <a:xfrm>
            <a:off x="900000" y="3573360"/>
            <a:ext cx="479124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orange-music"/>
          <p:cNvPicPr/>
          <p:nvPr/>
        </p:nvPicPr>
        <p:blipFill>
          <a:blip r:embed="rId2"/>
          <a:stretch/>
        </p:blipFill>
        <p:spPr>
          <a:xfrm>
            <a:off x="900000" y="4581360"/>
            <a:ext cx="5114880" cy="12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5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oy_band_rockin_hg_clr"/>
          <p:cNvPicPr/>
          <p:nvPr/>
        </p:nvPicPr>
        <p:blipFill>
          <a:blip r:embed="rId3"/>
          <a:stretch/>
        </p:blipFill>
        <p:spPr>
          <a:xfrm>
            <a:off x="6084720" y="3573360"/>
            <a:ext cx="2843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0443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w 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advert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6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640" y="19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Orange advertises 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1280" y="2708280"/>
            <a:ext cx="54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Magaz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n the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Rounded MT Bold"/>
              </a:rPr>
              <a:t>Anywhere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orange-screen"/>
          <p:cNvPicPr/>
          <p:nvPr/>
        </p:nvPicPr>
        <p:blipFill>
          <a:blip r:embed="rId1"/>
          <a:stretch/>
        </p:blipFill>
        <p:spPr>
          <a:xfrm>
            <a:off x="3132000" y="278136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dvertise_here_md_clr"/>
          <p:cNvPicPr/>
          <p:nvPr/>
        </p:nvPicPr>
        <p:blipFill>
          <a:blip r:embed="rId2"/>
          <a:stretch/>
        </p:blipFill>
        <p:spPr>
          <a:xfrm>
            <a:off x="7164360" y="404640"/>
            <a:ext cx="876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Orange is everywhere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797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 rot="2197800">
            <a:off x="395640" y="48927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58920" y="5373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 rot="18704400">
            <a:off x="4044960" y="4100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 rot="669600">
            <a:off x="4258800" y="18972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 rot="1906200">
            <a:off x="1762920" y="83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 rot="20660400">
            <a:off x="5749920" y="3859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 rot="21099000">
            <a:off x="415800" y="5941800"/>
            <a:ext cx="48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 rot="19668000">
            <a:off x="6336000" y="64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020000" y="4797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-1549440" y="11253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</a:rPr>
              <a:t>Wher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03280" y="2924280"/>
            <a:ext cx="86407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 Rounded MT Bold"/>
              </a:rPr>
              <a:t>So you will never forget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13Z</dcterms:created>
  <dc:creator>The Learning Trust</dc:creator>
  <dc:description/>
  <dc:language>en-US</dc:language>
  <cp:lastModifiedBy>RomaK</cp:lastModifiedBy>
  <dcterms:modified xsi:type="dcterms:W3CDTF">2015-09-02T09:32:24Z</dcterms:modified>
  <cp:revision>78</cp:revision>
  <dc:subject/>
  <dc:title>Advertising</dc:title>
</cp:coreProperties>
</file>