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6.png" ContentType="image/png"/>
  <Override PartName="/ppt/media/image15.png" ContentType="image/png"/>
  <Override PartName="/ppt/media/image17.png" ContentType="image/png"/>
  <Override PartName="/ppt/media/image14.gif" ContentType="image/gif"/>
  <Override PartName="/ppt/media/image1.jpeg" ContentType="image/jpeg"/>
  <Override PartName="/ppt/media/image5.png" ContentType="image/png"/>
  <Override PartName="/ppt/media/image10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09A48-09E8-43AE-8D99-C8B7772C39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dverb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irls answered all the questions correct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was driving careless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ne landed safe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mu plays guitar skillful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Mann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dverbs and adverb phrases describe the way people do th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irls answered all the questions correc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was driving careless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ne landed saf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mu plays guitar skillfu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Mann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dverbs and adverb phrases describe the way people do th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 of mann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atched Careful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lower was beautifully made 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e seemed faint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eam played wonderful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 of mann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atched Carefu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lower was beautifully made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e seemed fain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eam played wonderfu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Frequ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dverbs and adverb phrases answer the question “how often an action is done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called adverbs of frequen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ildren always go to school on the b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ll never make that mistake again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clean my bedroom every 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d polishes his shoes twice a wee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Frequ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dverbs and adverb phrases answer the question “how often an action is don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called adverbs of freq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ildren always go to school on the b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ll never make that mistake again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clean my bedroom every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d polishes his shoes twice a wee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ain has already lef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moved into our new house last wee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favorite T.V. program starts at 6’o cloc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m going to my new school tomorr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Tim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dverbs and adverb phrases answer the question “when?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called adverbs of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ain has already le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moved into our new house last wee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favorite T.V. program starts at 6’o clo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m going to my new school tomorr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Ti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dverbs and adverb phrases answer the question “when?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called adverbs of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shall now  begin to wor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called here a few minutes ag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have spoken to him yester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comes here dai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r. Guptha formerly lived 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shall now  begin to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called here a few minutes a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have spoken to him yester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comes here da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r. Guptha formerly lived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quantity or deg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 shows how much, or in what degree or to what ext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was too carele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a is very storm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am rather bus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am fully prepar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mangos are almost rip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quantity or deg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 shows how much, or in what degree or to what ex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was too carel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a is very storm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am rather bus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am fully prepa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mangos are almost ri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rea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dverb which tells about a reason is called adverb of reas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is hence unable to refute the char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therefore left scho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rea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dverb which tells about a reason is called adverb of rea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is hence unable to refute the char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therefore left sch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affirmation and negation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says yes if it is yes and no if it is no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I don’t know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Surely you are mistake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He certainly went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affirmation and negation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says yes if it is yes and no if it is no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I don’t know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Surely you are mistake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He certainly went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Adverbs:-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1.She sings sweet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2.He speaks quite clear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3.She shouts loud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4. She smiled cheerful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5.The  traffic was moving slow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6.She writes neat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7.We waited patiently to see the doctor.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Adverbs:-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1.She sings sweet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2.He speaks quite clear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3.She shouts loud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4. She smiled cheerful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5.The  traffic was moving slow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6.She writes neat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7.We waited patiently to see the doctor.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examples of adverbs of different kind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rtoise walks  slowly (Manner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ill have our Semester exams on April 1st week(Tim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ccident happened near the Highway(Plac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least  twice a week I used to go for Temple(Frequency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ll go for a picnic just for enjoyment(Purpos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a is very stormy(Degree /Quantity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ely you are mistaken(Affirmation/Negation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examples of adverbs of different kin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rtoise walks  slowly (Manner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ill have our Semester exams on April 1st week(Tim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ccident happened near the Highway(Plac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least  twice a week I used to go for Temple(Frequency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ll go for a picnic just for enjoyment(Purpos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a is very stormy(Degree /Quantity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ely you are mistaken(Affirmation/Negatio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parts of speech adverb plays a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important role.            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Let us see what is it’s role …………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parts of speech adverb plays a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important role.            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Let us see what is it’s role ………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 face was dirty and he was dressed ----------------------.(mann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Have you---------------- ---------------------- been in a plane? (frequenc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She was so ill that she missed school -------------------------. (dura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I did some homework last night and finished it--------------------.(tim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We went--------------------------------- to play. (plac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Dad takes the dog for a walk ------------------------------. (frequenc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 Sally left her pencil case--------------------------------- . (plac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. Speak -----------------------------so everyone can hear you. (mann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. It was a fine day and the children played in the garden ------.(dura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. “Go and do your homework.” “I’ve------------------------done it.” (tim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outside        this morning        ever                   on the bus        clear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day          in old clothes       for a week        already             every da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this exercise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ld clot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wee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or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s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he b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ear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rea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 face was dirty and he was dressed ----------------------.(mann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Have you---------------- ---------------------- been in a plane? (frequenc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She was so ill that she missed school -------------------------. (dur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I did some homework last night and finished it--------------------.(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We went--------------------------------- to play. (pla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Dad takes the dog for a walk ------------------------------. (frequenc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 Sally left her pencil case--------------------------------- . (pla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. Speak -----------------------------so everyone can hear you. (mann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. It was a fine day and the children played in the garden ------.(dur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. “Go and do your homework.” “I’ve------------------------done it.” (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outside        this morning        ever                   on the bus        clea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day          in old clothes       for a week        already             every d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this exercise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ld clot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we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o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he b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ea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:- Basically, most adverbs tell you how, where or when some thing is done. In other words, they describe the manner, place or time of an a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:- Basically, most adverbs tell you how, where or when some thing is done. In other words, they describe the manner, place or time of a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only adverbs are form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from adjectives. Some are below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only adverbs are form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from adjectives. Some are below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adverbs end with ly. You make these adverbs by adding ly to adjectiv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words that end in ly are not adverbs. Some adjectives end in ly too. For Example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Sam was feeling very lone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She was wearing a lovely dre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It was a very lively par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adverbs end with ly. You make these adverbs by adding ly to adjecti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words that end in ly are not adverbs. Some adjectives end in ly too. For Example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Sam was feeling very lon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She was wearing a lovely dr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It was a very lively pa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ds of Adver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n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qu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rpose/Rea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describes in which manner an action is d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describes where an action is d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describes when an action is d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shows how many times an action is d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describes the purpose or reason for the a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ds of Adver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qu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rpose/Rea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describes in which manner an action is d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describes where an action is d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describes when an action is d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shows how many times an action is d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describes the purpose or reason for the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ntity/Deg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firmation /Neg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shows how much or in what degree or to what ext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says yes if it is yes and no if it is 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ds of Adver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ntity/Deg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firmation /Ne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shows how much or in what degree or to what ex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says yes if it is yes and no if it is 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ds of Adver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ys are playing upstai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g is in the  gard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’re going to NewYork City on our school tri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very sunny but cold outs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 Plac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dverbs and adverb phrases answer the question “where?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called adverbs of pl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ys are playing upstai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g is in the  gard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’re going to NewYork City on our school tri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very sunny but cold out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 Pla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dverbs and adverb phrases answer the question “where?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called adverbs of pl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 of plac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ve lived here for about two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glish and German are closely rela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mark still in b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 children go everywhere with hi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 of pla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ve lived here for about two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glish and German are closely rel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mark still in b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 children go everywhere with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EE62-D14B-4FE2-96DD-C78F5CAE4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9707-67AA-42F4-88F3-DE3C41054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BA79-E6DE-4887-AE4A-3B1E5DF82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81CC-9CBE-487E-983D-CDF4B5488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CE5CC-1CB1-441C-B5C6-46B25F32C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14AA4-BC9F-4D24-B294-34627DE59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6E0B9-74A1-45EE-9EB1-8ED3E93F6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46C12-8CA6-4ECD-9075-40678020C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5C1DB-14E1-48FC-AD75-7AB294E91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224BF-3CBB-4272-BF75-B81934540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D74D3-DB09-4411-B5A7-65281324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870D-F4B0-4864-85BB-79C55CE44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5D19A-5504-4796-8C1D-9BE441AD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DEEF4-28DA-44AE-AE11-119C84B18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37236-E9A5-4958-8A73-847AFD959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73132-2A8D-46CF-89A0-B39C9D916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CC3F1-EC2C-4905-B07D-835CE5345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4C36C-9153-4D84-B832-184EE56BA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2A5BE-69CB-4C70-AE46-AE3373D69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8FD10-4BE8-4F79-8CE1-8F7424587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C0295-A745-47C8-9897-3E7C04A58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99D7C-0598-437F-847F-644B3E60F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585F-7341-49EC-A4EA-DD0745924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ED43F-835A-4AE2-8005-221F76090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40270-586E-4147-8A35-81763656F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FED73-870F-4DB8-A994-41962AB5B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8A2F8-4C54-400F-B038-BBE27666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8BCC5-6D9F-4BB3-B62D-C9AFFF73F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644DE-F9F3-488A-BB7F-1CFAEC981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AAA72-9671-44F5-8C1A-A4BB04C36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D86F4-EE78-4736-8732-E85155550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A022C-46EB-41C9-A003-1C05A891C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EFD9D2-D932-409E-8A2F-22EDA33F0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B177-6614-4D63-B43F-07452200E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469A8-B1A4-4592-B221-F276FB8AB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8C19D-D54C-47CD-A759-F813F4B31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0ABA2-8F17-4B67-9974-E1237F6E3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F6DC2-63D2-4EC3-A0DE-6E8F27D15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50736-ABF6-4D53-B918-EFAE8C061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DA38A-7680-477D-9BB4-CCBE99CF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1C19B-ED92-4D26-B13C-24E9E2BC2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17FF8-CC70-4290-96F8-56F85441D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D1324-F0CF-4966-A805-EF3E1E1C3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9853-99F2-42A1-99B8-BB7CE8C10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438B-12B7-41B1-B933-C8991F1DD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6019-E583-4FA6-8D7D-7FB7B4AF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6192-CE25-480E-A40D-7B7A1410B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E86D-E4C9-46E5-90A1-6541AC83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265E7-C2E0-4EB5-A581-79064562715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FA3A5-CB5A-416A-8D9C-21AC340B3E1C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1BD5C-AFE0-41FD-8473-DC34E192B515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B0C6A-5CE4-468C-B5BA-56A415681CA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0" y="1328760"/>
            <a:ext cx="8308800" cy="27129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" descr="Picture1.jpg"/>
          <p:cNvPicPr/>
          <p:nvPr/>
        </p:nvPicPr>
        <p:blipFill>
          <a:blip r:embed="rId2"/>
          <a:stretch/>
        </p:blipFill>
        <p:spPr>
          <a:xfrm>
            <a:off x="7518240" y="1600200"/>
            <a:ext cx="1625760" cy="20574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" descr="Picture1.jpg"/>
          <p:cNvPicPr/>
          <p:nvPr/>
        </p:nvPicPr>
        <p:blipFill>
          <a:blip r:embed="rId3"/>
          <a:stretch/>
        </p:blipFill>
        <p:spPr>
          <a:xfrm>
            <a:off x="0" y="4675320"/>
            <a:ext cx="162576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Box 3"/>
          <p:cNvSpPr/>
          <p:nvPr/>
        </p:nvSpPr>
        <p:spPr>
          <a:xfrm>
            <a:off x="1143000" y="3200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4"/>
          <p:cNvSpPr/>
          <p:nvPr/>
        </p:nvSpPr>
        <p:spPr>
          <a:xfrm>
            <a:off x="1693080" y="3962520"/>
            <a:ext cx="694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The girls answered all the question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correctl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He was driving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carelessl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The plane land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safel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Ramu plays guita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skillfull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5"/>
          <p:cNvSpPr/>
          <p:nvPr/>
        </p:nvSpPr>
        <p:spPr>
          <a:xfrm>
            <a:off x="1066680" y="9144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Lucida Calligraphy"/>
                <a:ea typeface="Arial"/>
              </a:rPr>
              <a:t>Adverbs of Manner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6"/>
          <p:cNvSpPr/>
          <p:nvPr/>
        </p:nvSpPr>
        <p:spPr>
          <a:xfrm>
            <a:off x="1066680" y="1981080"/>
            <a:ext cx="78948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Some adverbs and adverb phrases describe the way people do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" descr=""/>
          <p:cNvPicPr/>
          <p:nvPr/>
        </p:nvPicPr>
        <p:blipFill>
          <a:blip r:embed="rId5"/>
          <a:stretch/>
        </p:blipFill>
        <p:spPr>
          <a:xfrm>
            <a:off x="6858000" y="4041720"/>
            <a:ext cx="2286000" cy="25606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C:\Program Files\Microsoft Office\CLIPART\PUB60COR\AG00165_.GIF"/>
          <p:cNvPicPr/>
          <p:nvPr/>
        </p:nvPicPr>
        <p:blipFill>
          <a:blip r:embed="rId6"/>
          <a:stretch/>
        </p:blipFill>
        <p:spPr>
          <a:xfrm flipH="1" rot="21289200">
            <a:off x="5586120" y="5633640"/>
            <a:ext cx="1600200" cy="6094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Box 1"/>
          <p:cNvSpPr/>
          <p:nvPr/>
        </p:nvSpPr>
        <p:spPr>
          <a:xfrm>
            <a:off x="838080" y="304920"/>
            <a:ext cx="8305920" cy="59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Lucida Calligraphy"/>
              </a:rPr>
              <a:t>         </a:t>
            </a:r>
            <a:r>
              <a:rPr b="0" lang="en-US" sz="4400" spc="-1" strike="noStrike">
                <a:solidFill>
                  <a:srgbClr val="ff0000"/>
                </a:solidFill>
                <a:latin typeface="Lucida Calligraphy"/>
              </a:rPr>
              <a:t>Adverb of manner</a:t>
            </a:r>
            <a:r>
              <a:rPr b="1" i="1" lang="en-US" sz="3200" spc="-1" strike="noStrike">
                <a:solidFill>
                  <a:srgbClr val="0070c0"/>
                </a:solidFill>
                <a:latin typeface="Lucida Calligraph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They watch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Carefu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The flower wa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beautifully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 made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She seem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faint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The team play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wonderfu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1"/>
          <p:cNvSpPr/>
          <p:nvPr/>
        </p:nvSpPr>
        <p:spPr>
          <a:xfrm>
            <a:off x="1502640" y="685800"/>
            <a:ext cx="433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alligraphy"/>
                <a:ea typeface="Arial"/>
              </a:rPr>
              <a:t>Adverbs of Frequ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2"/>
          <p:cNvSpPr/>
          <p:nvPr/>
        </p:nvSpPr>
        <p:spPr>
          <a:xfrm>
            <a:off x="1447920" y="1676520"/>
            <a:ext cx="70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Some adverbs and adverb phrases answer the question “how often an action is don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They are called adverbs of frequency</a:t>
            </a:r>
            <a:r>
              <a:rPr b="0" lang="en-US" sz="20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3"/>
          <p:cNvSpPr/>
          <p:nvPr/>
        </p:nvSpPr>
        <p:spPr>
          <a:xfrm>
            <a:off x="1262160" y="388620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Exampl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4"/>
          <p:cNvSpPr/>
          <p:nvPr/>
        </p:nvSpPr>
        <p:spPr>
          <a:xfrm>
            <a:off x="1696680" y="4648320"/>
            <a:ext cx="6728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The childre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always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 go to school on the b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I’ll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never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 make that mistake again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I clean my bedroom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every da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Dad polishes his shoe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twice a week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1"/>
          <p:cNvSpPr/>
          <p:nvPr/>
        </p:nvSpPr>
        <p:spPr>
          <a:xfrm>
            <a:off x="1414440" y="350532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Exampl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2"/>
          <p:cNvSpPr/>
          <p:nvPr/>
        </p:nvSpPr>
        <p:spPr>
          <a:xfrm>
            <a:off x="2007000" y="4191120"/>
            <a:ext cx="6687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The train ha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alread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 lef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We moved into our new hous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last week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Our favorite T.V. program start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at 6’o clock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I’m going to my new school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tomorrow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3"/>
          <p:cNvSpPr/>
          <p:nvPr/>
        </p:nvSpPr>
        <p:spPr>
          <a:xfrm>
            <a:off x="1554120" y="762120"/>
            <a:ext cx="33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alligraphy"/>
                <a:ea typeface="Arial"/>
              </a:rPr>
              <a:t>Adverbs of Time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4"/>
          <p:cNvSpPr/>
          <p:nvPr/>
        </p:nvSpPr>
        <p:spPr>
          <a:xfrm>
            <a:off x="1295280" y="152388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Some adverbs and adverb phrases answer the question “when?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They are called adverbs of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Box 2"/>
          <p:cNvSpPr/>
          <p:nvPr/>
        </p:nvSpPr>
        <p:spPr>
          <a:xfrm>
            <a:off x="2414880" y="1066680"/>
            <a:ext cx="449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2d050"/>
                </a:solidFill>
                <a:latin typeface="comic"/>
                <a:ea typeface="Arial Unicode MS"/>
              </a:rPr>
              <a:t>Adverbs Of  T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5"/>
          <p:cNvSpPr/>
          <p:nvPr/>
        </p:nvSpPr>
        <p:spPr>
          <a:xfrm>
            <a:off x="838080" y="2286000"/>
            <a:ext cx="830592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0d0d"/>
                </a:solidFill>
                <a:latin typeface="Maiandra GD"/>
                <a:ea typeface="Arial Unicode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Lucida Calligraphy"/>
                <a:ea typeface="Arial Unicode MS"/>
              </a:rPr>
              <a:t>We shall </a:t>
            </a:r>
            <a:r>
              <a:rPr b="0" i="1" lang="en-US" sz="3200" spc="-1" strike="noStrike" u="sng">
                <a:solidFill>
                  <a:srgbClr val="0d0d0d"/>
                </a:solidFill>
                <a:uFillTx/>
                <a:latin typeface="Lucida Calligraphy"/>
                <a:ea typeface="Arial Unicode MS"/>
              </a:rPr>
              <a:t>now</a:t>
            </a:r>
            <a:r>
              <a:rPr b="0" lang="en-US" sz="3200" spc="-1" strike="noStrike" u="sng">
                <a:solidFill>
                  <a:srgbClr val="0d0d0d"/>
                </a:solidFill>
                <a:uFillTx/>
                <a:latin typeface="Lucida Calligraphy"/>
                <a:ea typeface="Arial Unicode MS"/>
              </a:rPr>
              <a:t> </a:t>
            </a:r>
            <a:r>
              <a:rPr b="0" lang="en-US" sz="3200" spc="-1" strike="noStrike">
                <a:solidFill>
                  <a:srgbClr val="0d0d0d"/>
                </a:solidFill>
                <a:latin typeface="Lucida Calligraphy"/>
                <a:ea typeface="Arial Unicode MS"/>
              </a:rPr>
              <a:t> begin to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Lucida Calligraphy"/>
                <a:ea typeface="Arial Unicode MS"/>
              </a:rPr>
              <a:t>He called here a </a:t>
            </a:r>
            <a:r>
              <a:rPr b="0" lang="en-US" sz="3200" spc="-1" strike="noStrike" u="sng">
                <a:solidFill>
                  <a:srgbClr val="0d0d0d"/>
                </a:solidFill>
                <a:uFillTx/>
                <a:latin typeface="Lucida Calligraphy"/>
                <a:ea typeface="Arial Unicode MS"/>
              </a:rPr>
              <a:t>few minutes </a:t>
            </a:r>
            <a:r>
              <a:rPr b="0" i="1" lang="en-US" sz="3200" spc="-1" strike="noStrike" u="sng">
                <a:solidFill>
                  <a:srgbClr val="0d0d0d"/>
                </a:solidFill>
                <a:uFillTx/>
                <a:latin typeface="Lucida Calligraphy"/>
                <a:ea typeface="Arial Unicode MS"/>
              </a:rPr>
              <a:t>ago</a:t>
            </a:r>
            <a:r>
              <a:rPr b="0" lang="en-US" sz="3200" spc="-1" strike="noStrike" u="sng">
                <a:solidFill>
                  <a:srgbClr val="0d0d0d"/>
                </a:solidFill>
                <a:uFillTx/>
                <a:latin typeface="Lucida Calligraphy"/>
                <a:ea typeface="Arial Unicode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Lucida Calligraphy"/>
                <a:ea typeface="Arial Unicode MS"/>
              </a:rPr>
              <a:t>I have spoken to him </a:t>
            </a:r>
            <a:r>
              <a:rPr b="0" i="1" lang="en-US" sz="3200" spc="-1" strike="noStrike" u="sng">
                <a:solidFill>
                  <a:srgbClr val="0d0d0d"/>
                </a:solidFill>
                <a:uFillTx/>
                <a:latin typeface="Lucida Calligraphy"/>
                <a:ea typeface="Arial Unicode MS"/>
              </a:rPr>
              <a:t>yesterday</a:t>
            </a:r>
            <a:r>
              <a:rPr b="0" lang="en-US" sz="3200" spc="-1" strike="noStrike" u="sng">
                <a:solidFill>
                  <a:srgbClr val="0d0d0d"/>
                </a:solidFill>
                <a:uFillTx/>
                <a:latin typeface="Lucida Calligraphy"/>
                <a:ea typeface="Arial Unicode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Lucida Calligraphy"/>
                <a:ea typeface="Arial Unicode MS"/>
              </a:rPr>
              <a:t>He comes here </a:t>
            </a:r>
            <a:r>
              <a:rPr b="0" i="1" lang="en-US" sz="3200" spc="-1" strike="noStrike" u="sng">
                <a:solidFill>
                  <a:srgbClr val="0d0d0d"/>
                </a:solidFill>
                <a:uFillTx/>
                <a:latin typeface="Lucida Calligraphy"/>
                <a:ea typeface="Arial Unicode MS"/>
              </a:rPr>
              <a:t>dai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Lucida Calligraphy"/>
                <a:ea typeface="Arial Unicode MS"/>
              </a:rPr>
              <a:t>Mr. Guptha </a:t>
            </a:r>
            <a:r>
              <a:rPr b="0" i="1" lang="en-US" sz="3200" spc="-1" strike="noStrike" u="sng">
                <a:solidFill>
                  <a:srgbClr val="0d0d0d"/>
                </a:solidFill>
                <a:uFillTx/>
                <a:latin typeface="Lucida Calligraphy"/>
                <a:ea typeface="Arial Unicode MS"/>
              </a:rPr>
              <a:t>formerly</a:t>
            </a:r>
            <a:r>
              <a:rPr b="0" lang="en-US" sz="3200" spc="-1" strike="noStrike" u="sng">
                <a:solidFill>
                  <a:srgbClr val="0d0d0d"/>
                </a:solidFill>
                <a:uFillTx/>
                <a:latin typeface="Lucida Calligraphy"/>
                <a:ea typeface="Arial Unicode MS"/>
              </a:rPr>
              <a:t> </a:t>
            </a:r>
            <a:r>
              <a:rPr b="0" lang="en-US" sz="3200" spc="-1" strike="noStrike">
                <a:solidFill>
                  <a:srgbClr val="0d0d0d"/>
                </a:solidFill>
                <a:latin typeface="Lucida Calligraphy"/>
                <a:ea typeface="Arial Unicode MS"/>
              </a:rPr>
              <a:t>lived 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Lucida Calligraphy"/>
                <a:ea typeface="Tahoma"/>
              </a:rPr>
              <a:t>Adverbs of quantity or degree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It  shows how much, or in what degree or to what extent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He wa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too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careless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The sea is very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stormy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I am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rather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 busy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I am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fully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 prepared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These mangos ar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almost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ripe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Lucida Calligraphy"/>
                <a:ea typeface="Tahoma"/>
              </a:rPr>
              <a:t>Adverbs of reaso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aiandra GD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The adverb which tells about a reason is called adverb of reason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He i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hence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 unable to refute the charge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He </a:t>
            </a:r>
            <a:r>
              <a:rPr b="0" i="1" lang="en-US" sz="3200" spc="-1" strike="noStrike">
                <a:solidFill>
                  <a:srgbClr val="000000"/>
                </a:solidFill>
                <a:latin typeface="Lucida Calligraphy"/>
              </a:rPr>
              <a:t>t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herefor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left school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Title 1" descr=""/>
          <p:cNvPicPr/>
          <p:nvPr/>
        </p:nvPicPr>
        <p:blipFill>
          <a:blip r:embed="rId1"/>
          <a:stretch/>
        </p:blipFill>
        <p:spPr>
          <a:xfrm>
            <a:off x="212760" y="628560"/>
            <a:ext cx="8656560" cy="58514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Title 1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830880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Monotype Corsiva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TextBox 4"/>
          <p:cNvSpPr/>
          <p:nvPr/>
        </p:nvSpPr>
        <p:spPr>
          <a:xfrm>
            <a:off x="304920" y="1066680"/>
            <a:ext cx="8153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cc"/>
                </a:solidFill>
                <a:latin typeface="Lucida Calligraphy"/>
              </a:rPr>
              <a:t>Some examples of adverbs of different ki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Tortoise walks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</a:rPr>
              <a:t>slowl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 (Manne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We will have our Semester exams o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</a:rPr>
              <a:t>April 1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Lucida Calligraphy"/>
              </a:rPr>
              <a:t>s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</a:rPr>
              <a:t> week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(Tim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The accident happened near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</a:rPr>
              <a:t>Highwa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(Plac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At least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</a:rPr>
              <a:t>twice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a week I used to go for Temple(Frequenc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We all go for a picnic just for 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</a:rPr>
              <a:t>njoyment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(Purpos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The sea is ver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</a:rPr>
              <a:t>storm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(Degree /Quantit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</a:rPr>
              <a:t>Surely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you are mistaken(Affirmation/Neg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Title 1" descr=""/>
          <p:cNvPicPr/>
          <p:nvPr/>
        </p:nvPicPr>
        <p:blipFill>
          <a:blip r:embed="rId1"/>
          <a:stretch/>
        </p:blipFill>
        <p:spPr>
          <a:xfrm>
            <a:off x="0" y="1450800"/>
            <a:ext cx="861372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"/>
          <p:cNvSpPr/>
          <p:nvPr/>
        </p:nvSpPr>
        <p:spPr>
          <a:xfrm>
            <a:off x="609480" y="1143000"/>
            <a:ext cx="815364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His face was dirty and he was dressed ----------------------.(man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2. Have you---------------- ---------------------- been in a plane? (frequenc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3. She was so ill that she missed school -------------------------. (dur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4. I did some homework last night and finished it--------------------.(ti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5. We went--------------------------------- to play. (pla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6. Dad takes the dog for a walk ------------------------------. (frequenc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7. Sally left her pencil case--------------------------------- . (pla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8. Speak -----------------------------so everyone can hear you. (man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9. It was a fine day and the children played in the garden ------.(dur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10. “Go and do your homework.” “I’ve------------------------done it.” (tim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3"/>
          <p:cNvSpPr/>
          <p:nvPr/>
        </p:nvSpPr>
        <p:spPr>
          <a:xfrm>
            <a:off x="228600" y="5791320"/>
            <a:ext cx="8229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alligraphy"/>
                <a:ea typeface="Arial"/>
              </a:rPr>
              <a:t>(outside        this morning        ever                   on the bus        clea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alligraphy"/>
                <a:ea typeface="Arial"/>
              </a:rPr>
              <a:t>all day          in old clothes       for a week        already             every da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5"/>
          <p:cNvSpPr/>
          <p:nvPr/>
        </p:nvSpPr>
        <p:spPr>
          <a:xfrm>
            <a:off x="1207440" y="685800"/>
            <a:ext cx="26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Lucida Calligraphy"/>
                <a:ea typeface="Arial"/>
              </a:rPr>
              <a:t>Try this exercise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6"/>
          <p:cNvSpPr/>
          <p:nvPr/>
        </p:nvSpPr>
        <p:spPr>
          <a:xfrm>
            <a:off x="5715000" y="10666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Lucida Calligraphy"/>
                <a:ea typeface="Arial"/>
              </a:rPr>
              <a:t>in old cloth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8"/>
          <p:cNvSpPr/>
          <p:nvPr/>
        </p:nvSpPr>
        <p:spPr>
          <a:xfrm>
            <a:off x="2666880" y="16002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Lucida Calligraphy"/>
                <a:ea typeface="Arial"/>
              </a:rPr>
              <a:t>e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9"/>
          <p:cNvSpPr/>
          <p:nvPr/>
        </p:nvSpPr>
        <p:spPr>
          <a:xfrm>
            <a:off x="548640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Lucida Calligraphy"/>
                <a:ea typeface="Arial"/>
              </a:rPr>
              <a:t>for a we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0"/>
          <p:cNvSpPr/>
          <p:nvPr/>
        </p:nvSpPr>
        <p:spPr>
          <a:xfrm>
            <a:off x="6757560" y="2743200"/>
            <a:ext cx="14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Lucida Calligraphy"/>
                <a:ea typeface="Arial"/>
              </a:rPr>
              <a:t>this mor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11"/>
          <p:cNvSpPr/>
          <p:nvPr/>
        </p:nvSpPr>
        <p:spPr>
          <a:xfrm>
            <a:off x="2209680" y="327672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Lucida Calligraphy"/>
                <a:ea typeface="Arial"/>
              </a:rPr>
              <a:t>outs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2"/>
          <p:cNvSpPr/>
          <p:nvPr/>
        </p:nvSpPr>
        <p:spPr>
          <a:xfrm>
            <a:off x="4572000" y="358128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Lucida Calligraphy"/>
                <a:ea typeface="Arial"/>
              </a:rPr>
              <a:t>every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3"/>
          <p:cNvSpPr/>
          <p:nvPr/>
        </p:nvSpPr>
        <p:spPr>
          <a:xfrm>
            <a:off x="3886200" y="3809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Lucida Calligraphy"/>
                <a:ea typeface="Arial"/>
              </a:rPr>
              <a:t>on the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4"/>
          <p:cNvSpPr/>
          <p:nvPr/>
        </p:nvSpPr>
        <p:spPr>
          <a:xfrm>
            <a:off x="1752480" y="411480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Lucida Calligraphy"/>
                <a:ea typeface="Arial"/>
              </a:rPr>
              <a:t>clea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5"/>
          <p:cNvSpPr/>
          <p:nvPr/>
        </p:nvSpPr>
        <p:spPr>
          <a:xfrm>
            <a:off x="7772400" y="434340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Lucida Calligraphy"/>
                <a:ea typeface="Arial"/>
              </a:rPr>
              <a:t>all 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6"/>
          <p:cNvSpPr/>
          <p:nvPr/>
        </p:nvSpPr>
        <p:spPr>
          <a:xfrm>
            <a:off x="5181480" y="495288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Lucida Calligraphy"/>
                <a:ea typeface="Arial"/>
              </a:rPr>
              <a:t>alrea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WordArt 2"/>
          <p:cNvSpPr txBox="1"/>
          <p:nvPr/>
        </p:nvSpPr>
        <p:spPr>
          <a:xfrm>
            <a:off x="990720" y="2057400"/>
            <a:ext cx="6781680" cy="225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Berlin Sans FB Demi"/>
              </a:rPr>
              <a:t>THANK YOU!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Berlin Sans FB Demi"/>
              <a:ea typeface="Berlin Sans FB D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317520" y="933480"/>
            <a:ext cx="8674200" cy="52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Title 1" descr=""/>
          <p:cNvPicPr/>
          <p:nvPr/>
        </p:nvPicPr>
        <p:blipFill>
          <a:blip r:embed="rId1"/>
          <a:stretch/>
        </p:blipFill>
        <p:spPr>
          <a:xfrm>
            <a:off x="457200" y="628560"/>
            <a:ext cx="8540640" cy="3943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8" name=""/>
          <p:cNvGraphicFramePr/>
          <p:nvPr/>
        </p:nvGraphicFramePr>
        <p:xfrm>
          <a:off x="1219320" y="2514600"/>
          <a:ext cx="6095880" cy="377496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513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        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Constantia"/>
                        </a:rPr>
                        <a:t>Adjecti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        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Constantia"/>
                        </a:rPr>
                        <a:t>Adver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i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ind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pp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ppi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77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onderf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onderful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ou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oud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23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d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06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eautif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eautiful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91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we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weet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p:transition>
    <p:cover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Box 2"/>
          <p:cNvSpPr/>
          <p:nvPr/>
        </p:nvSpPr>
        <p:spPr>
          <a:xfrm>
            <a:off x="838080" y="60948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Many adverbs end with </a:t>
            </a:r>
            <a:r>
              <a:rPr b="1" lang="en-US" sz="2400" spc="-1" strike="noStrike">
                <a:solidFill>
                  <a:srgbClr val="000000"/>
                </a:solidFill>
                <a:latin typeface="Lucida Calligraphy"/>
              </a:rPr>
              <a:t>l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. You make these adverbs by adding</a:t>
            </a:r>
            <a:r>
              <a:rPr b="1" lang="en-US" sz="2400" spc="-1" strike="noStrike">
                <a:solidFill>
                  <a:srgbClr val="000000"/>
                </a:solidFill>
                <a:latin typeface="Lucida Calligraphy"/>
              </a:rPr>
              <a:t> ly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to adjectives</a:t>
            </a: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609480" y="2666880"/>
            <a:ext cx="78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Some words that end in </a:t>
            </a:r>
            <a:r>
              <a:rPr b="1" lang="en-US" sz="2400" spc="-1" strike="noStrike">
                <a:solidFill>
                  <a:srgbClr val="000000"/>
                </a:solidFill>
                <a:latin typeface="Lucida Calligraphy"/>
              </a:rPr>
              <a:t>l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 are not adverbs. Some adjectives end in </a:t>
            </a:r>
            <a:r>
              <a:rPr b="1" lang="en-US" sz="2400" spc="-1" strike="noStrike">
                <a:solidFill>
                  <a:srgbClr val="000000"/>
                </a:solidFill>
                <a:latin typeface="Lucida Calligraphy"/>
              </a:rPr>
              <a:t>l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 too. For Example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1.Sam was feeling very lone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2.She was wearing a lovely dr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3.It was a very lively pa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4"/>
          <p:cNvSpPr/>
          <p:nvPr/>
        </p:nvSpPr>
        <p:spPr>
          <a:xfrm>
            <a:off x="838080" y="18288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alligraphy"/>
                <a:ea typeface="Arial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Monotype Corsiva"/>
              </a:rPr>
              <a:t>Kinds of Adverb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</a:rPr>
              <a:t>Mann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</a:rPr>
              <a:t>Plac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</a:rPr>
              <a:t>Frequenc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</a:rPr>
              <a:t>Purpose/Reas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</a:rPr>
              <a:t>It describes in which manner an action is don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</a:rPr>
              <a:t>It describes where an action is don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</a:rPr>
              <a:t>It describes when an action is don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</a:rPr>
              <a:t>It shows how many times an action is don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</a:rPr>
              <a:t>It describes the purpose or reason for the actio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1"/>
          <p:cNvSpPr/>
          <p:nvPr/>
        </p:nvSpPr>
        <p:spPr>
          <a:xfrm>
            <a:off x="0" y="219240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  <a:ea typeface="Arial"/>
              </a:rPr>
              <a:t>Quantity/Deg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  <a:ea typeface="Arial"/>
              </a:rPr>
              <a:t>Affirmation /Ne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"/>
          <p:cNvSpPr/>
          <p:nvPr/>
        </p:nvSpPr>
        <p:spPr>
          <a:xfrm>
            <a:off x="4038480" y="213372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  <a:ea typeface="Arial"/>
              </a:rPr>
              <a:t>It shows how much or in what degree or to what ext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  <a:ea typeface="Arial"/>
              </a:rPr>
              <a:t>Which says yes if it is yes and no if it is 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3"/>
          <p:cNvSpPr/>
          <p:nvPr/>
        </p:nvSpPr>
        <p:spPr>
          <a:xfrm>
            <a:off x="685800" y="914400"/>
            <a:ext cx="731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0f0"/>
                </a:solidFill>
                <a:latin typeface="Monotype Corsiva"/>
                <a:ea typeface="Arial"/>
              </a:rPr>
              <a:t>Kinds of Adverb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Box 1"/>
          <p:cNvSpPr/>
          <p:nvPr/>
        </p:nvSpPr>
        <p:spPr>
          <a:xfrm>
            <a:off x="1185840" y="289548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99"/>
                </a:solidFill>
                <a:latin typeface="Lucida Calligraphy"/>
                <a:ea typeface="Arial"/>
              </a:rPr>
              <a:t>Exampl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2"/>
          <p:cNvSpPr/>
          <p:nvPr/>
        </p:nvSpPr>
        <p:spPr>
          <a:xfrm>
            <a:off x="1600200" y="3581280"/>
            <a:ext cx="631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The boys are playing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upstairs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The dog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in the  garden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We’re going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to NewYork City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on our school tri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It’s very sunny but col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outside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6"/>
          <p:cNvSpPr/>
          <p:nvPr/>
        </p:nvSpPr>
        <p:spPr>
          <a:xfrm>
            <a:off x="1432440" y="762120"/>
            <a:ext cx="271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Lucida Calligraphy"/>
                <a:ea typeface="Arial"/>
              </a:rPr>
              <a:t>Adverbs of  Plac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7"/>
          <p:cNvSpPr/>
          <p:nvPr/>
        </p:nvSpPr>
        <p:spPr>
          <a:xfrm>
            <a:off x="1523880" y="1219320"/>
            <a:ext cx="678204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  <a:ea typeface="Arial"/>
              </a:rPr>
              <a:t>Some adverbs and adverb phrases answer the question “where?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  <a:ea typeface="Arial"/>
              </a:rPr>
              <a:t>They are called adverbs of pl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1"/>
          <p:cNvSpPr/>
          <p:nvPr/>
        </p:nvSpPr>
        <p:spPr>
          <a:xfrm>
            <a:off x="685800" y="0"/>
            <a:ext cx="8458200" cy="54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Lucida Calligraphy"/>
              </a:rPr>
              <a:t>             </a:t>
            </a:r>
            <a:r>
              <a:rPr b="0" lang="en-US" sz="4000" spc="-1" strike="noStrike">
                <a:solidFill>
                  <a:srgbClr val="ff0000"/>
                </a:solidFill>
                <a:latin typeface="Lucida Calligraphy"/>
              </a:rPr>
              <a:t>Adverb of places</a:t>
            </a:r>
            <a:r>
              <a:rPr b="0" lang="en-US" sz="3600" spc="-1" strike="noStrike">
                <a:solidFill>
                  <a:srgbClr val="d339bd"/>
                </a:solidFill>
                <a:latin typeface="Lucida Calligraph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I’ve lived</a:t>
            </a:r>
            <a:r>
              <a:rPr b="1" lang="en-US" sz="3200" spc="-1" strike="noStrike">
                <a:solidFill>
                  <a:srgbClr val="000000"/>
                </a:solidFill>
                <a:latin typeface="Lucida Calligraphy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here</a:t>
            </a:r>
            <a:r>
              <a:rPr b="1" lang="en-US" sz="3200" spc="-1" strike="noStrike">
                <a:solidFill>
                  <a:srgbClr val="000000"/>
                </a:solidFill>
                <a:latin typeface="Lucida Calligraphy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for about two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English and German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closely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 rel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Is mark</a:t>
            </a:r>
            <a:r>
              <a:rPr b="1" lang="en-US" sz="3200" spc="-1" strike="noStrike">
                <a:solidFill>
                  <a:srgbClr val="000000"/>
                </a:solidFill>
                <a:latin typeface="Lucida Calligraphy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still</a:t>
            </a:r>
            <a:r>
              <a:rPr b="1" lang="en-US" sz="3200" spc="-1" strike="noStrike">
                <a:solidFill>
                  <a:srgbClr val="000000"/>
                </a:solidFill>
                <a:latin typeface="Lucida Calligraphy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in b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His children go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everywhere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 with him</a:t>
            </a:r>
            <a:r>
              <a:rPr b="0" lang="en-US" sz="3600" spc="-1" strike="noStrike">
                <a:solidFill>
                  <a:srgbClr val="00b050"/>
                </a:solidFill>
                <a:latin typeface="Lucida Calligraphy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gareth</dc:creator>
  <dc:description/>
  <dc:language>en-US</dc:language>
  <cp:lastModifiedBy>RomaK</cp:lastModifiedBy>
  <dcterms:modified xsi:type="dcterms:W3CDTF">2015-09-02T09:30:51Z</dcterms:modified>
  <cp:revision>89</cp:revision>
  <dc:subject/>
  <dc:title>Adverbs                                  by your friends</dc:title>
</cp:coreProperties>
</file>