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7390-C7A2-425D-B57B-95E2883C5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irls answered all the question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driving careles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ne landed saf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mu plays guitar skill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Man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describe the way people do th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man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atched Care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lower was beautifully mad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seemed fai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m played wonderfu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how often an action is do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frequ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always go to school on the 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never make that mistake again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lean my bedroom ever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polishes his shoes twice a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n has already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moved into our new house last wee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avorite T.V. program starts at 6’o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going to my new school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n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w  begin to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alled here a few minute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spoken to him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omes here da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Guptha formerly liv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quantity or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shows how much,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oo care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rather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m fully prep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mangos are almost ri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verb which tells about a reason is called adverb of rea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hence unable to refute th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herefore left sch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affirmation and negatio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 don’t kn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urely you are mistaken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He certainly w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Adverbs:-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.She sings swee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2.He speaks quite clear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3.She shouts loud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4. She smiled cheerful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5.The  traffic was moving slow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6.She writes neatl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7.We waited patiently to see the doctor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examples of adverbs of different ki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rtoise walks  slowly (Mann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have our Semester exams on April 1st week(Tim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ident happened near the Highway(Pla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  twice a week I used to go for Temple(Frequenc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ll go for a picnic just for enjoyment(Purpos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a is very stormy(Degree /Quantit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ely you are mistaken(Affirmation/Negati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parts of speech adverb play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important role. 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Let us see what is it’s role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was dirty and he was dressed ----------------------.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Have you---------------- ---------------------- been in a plane?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She was so ill that she missed school -------------------------. 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I did some homework last night and finished it--------------------.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We went--------------------------------- to play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Dad takes the dog for a walk ------------------------------. (frequen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ally left her pencil case--------------------------------- 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Speak -----------------------------so everyone can hear you. (mann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It was a fine day and the children played in the garden ------.(du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 “Go and do your homework.” “I’ve------------------------done it.”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side        this morning        ever                   on the bus        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          in old clothes       for a week        already             every d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 exerci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l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we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:- Basically, most adverbs tell you how, where or when some thing is done. In other words, they describe the manner, place or time of a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ly adverbs are form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from adjectives. Some are below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adverbs end with ly. You make these adverbs by adding ly to adj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words that end in ly are not adverbs. Some adjectives end in ly too. For Example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Sam was feeling very lon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She was wearing a lovely 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It was a very lively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pose/Rea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in which manner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re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when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any times an action is d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escribes the purpose or reason for the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ntity/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irmation /N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shows how much or in what degree or to what ex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ays yes if it is yes and no if it i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Ad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are playing upst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g is in the  ga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NewYork City on our school tr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very sunny but cold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s of  Pla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dverbs and adverb phrases answer the question “where?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called adverb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erb of pla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ve lived here for about two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lish and German are closely re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ark still in b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children go everywhere with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A9C-9F8D-493F-8334-D34C9757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3C4-0C3C-4B3F-9206-7EEA66A0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255-B1FB-4E9D-8EFD-046EAECD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B79-61B8-4A5E-9DDE-21C30115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99B0-1377-4A4F-9F7C-A29D1472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DEAB-5526-46CE-97DA-4F84135B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A910-663F-4584-846C-027B74AB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697A-3B29-49FD-9CB4-6BAC1A22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F089-88B7-49F0-92EF-8781079E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6B7F-E5F0-4186-980D-CFC3DAFD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82F6-D41C-4FD2-B9A1-FFC3A350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23C1-F505-4A9D-A0DA-2B8D6676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C789-82EC-4320-B770-CEFB7BDF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320A-5009-4FC9-8E8A-F185A47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8A16-C3E5-437E-9182-9DFDD5E8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6E1F-6450-4F6E-9F8D-FAE4C494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0D97-9A7E-4E36-AC5F-86CF707E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D2370-BDEE-4F33-BCCA-F8656C37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47F2E-C115-4289-8FB1-B5ED9B68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30442-FB3A-4915-B48F-AF181799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BD272-4694-4B94-99B8-FCCD567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794E-0273-49B7-A4D8-E2987A68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EE3-009D-408F-B7EE-2E9A9343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E5A1-0DB4-449B-960D-44D2EC41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D1F53-AC9C-40CC-BEB1-D3A4A6B1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44613-2992-4A62-92E2-0B8B19ED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70A5A-6D6F-4EB0-ACCE-FED5599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C112B-D371-494A-9FF6-0CD1F9FB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5D489-78FE-4DF1-A2DA-2476CAB2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4204-D667-4A60-A924-704F9CE85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E255-AC6C-4F59-ADEE-61B155AB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64425-F8AB-4618-9637-64AE464F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4D297-D44D-4963-BF10-AAF834A7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AA9C-DEBB-4401-9011-9BA348B5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098D8-A042-4E33-8031-E241C383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21B5B-F959-48DB-AB87-2983559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78A76-D354-4260-9237-09209DB0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DBACE-656E-4412-A6EB-C567B2EC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8FDC6-1A76-4C8B-888D-C8FC9FEF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1CA43-A09A-4AA0-A4BC-52D580C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AAD8-3A62-4A08-BD0A-34DB8B40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C0F8-78F2-48EC-9232-EA52434AF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E5973-6A43-4808-B5C9-2076D7DC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7B11-9410-4ED4-9983-F70F3109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9FB-032C-4D7C-A5D0-A1E7FF18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60F2-9F5F-4883-89B1-E9811CFB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642-935B-4790-B12B-BFE0DACF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7CD1-788C-4CC7-A189-6236792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5D2F-F28A-4FB3-9FCB-112659E5C4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6212-D76A-4249-858E-1B8601EB1DF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8CC5-5FDA-4174-B1A9-98921BC0FFF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19B5-DE8F-4D17-91B9-BECFA80A08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0" y="1328760"/>
            <a:ext cx="8308800" cy="2712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Picture1.jpg"/>
          <p:cNvPicPr/>
          <p:nvPr/>
        </p:nvPicPr>
        <p:blipFill>
          <a:blip r:embed="rId2"/>
          <a:stretch/>
        </p:blipFill>
        <p:spPr>
          <a:xfrm>
            <a:off x="7518240" y="1600200"/>
            <a:ext cx="1625760" cy="2057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Picture1.jpg"/>
          <p:cNvPicPr/>
          <p:nvPr/>
        </p:nvPicPr>
        <p:blipFill>
          <a:blip r:embed="rId3"/>
          <a:stretch/>
        </p:blipFill>
        <p:spPr>
          <a:xfrm>
            <a:off x="0" y="4675320"/>
            <a:ext cx="16257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693080" y="3962520"/>
            <a:ext cx="69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girls answered all the ques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orrect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He was driv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careless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plane land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afe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Ramu plays guit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skillful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1066680" y="9144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Lucida Calligraphy"/>
                <a:ea typeface="Arial"/>
              </a:rPr>
              <a:t>Adverbs of Manne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1066680" y="1981080"/>
            <a:ext cx="78948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describe the way people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5"/>
          <a:stretch/>
        </p:blipFill>
        <p:spPr>
          <a:xfrm>
            <a:off x="6858000" y="4041720"/>
            <a:ext cx="2286000" cy="2560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Program Files\Microsoft Office\CLIPART\PUB60COR\AG00165_.GIF"/>
          <p:cNvPicPr/>
          <p:nvPr/>
        </p:nvPicPr>
        <p:blipFill>
          <a:blip r:embed="rId6"/>
          <a:stretch/>
        </p:blipFill>
        <p:spPr>
          <a:xfrm flipH="1" rot="21289200">
            <a:off x="5586120" y="5633640"/>
            <a:ext cx="1600200" cy="609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838080" y="304920"/>
            <a:ext cx="8305920" cy="59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         </a:t>
            </a:r>
            <a:r>
              <a:rPr b="0" lang="en-US" sz="4400" spc="-1" strike="noStrike">
                <a:solidFill>
                  <a:srgbClr val="ff0000"/>
                </a:solidFill>
                <a:latin typeface="Lucida Calligraphy"/>
              </a:rPr>
              <a:t>Adverb of manner</a:t>
            </a:r>
            <a:r>
              <a:rPr b="1" i="1" lang="en-US" sz="3200" spc="-1" strike="noStrike">
                <a:solidFill>
                  <a:srgbClr val="0070c0"/>
                </a:solidFill>
                <a:latin typeface="Lucida Calligraph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y watch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ar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flower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beauti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made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She seem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ai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team pla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wonder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1502640" y="68580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1447920" y="16765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how often an action is d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frequency</a:t>
            </a: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262160" y="388620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696680" y="4648320"/>
            <a:ext cx="672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childre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go to school on the 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l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make that mistake agai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 clean my bedro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Dad polishes his sho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wice a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"/>
          <p:cNvSpPr/>
          <p:nvPr/>
        </p:nvSpPr>
        <p:spPr>
          <a:xfrm>
            <a:off x="1414440" y="350532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2007000" y="4191120"/>
            <a:ext cx="668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train h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lread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le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 moved into our new ho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last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ur favorite T.V. program star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at 6’o cloc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’m going to my new schoo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morrow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1554120" y="7621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Adverbs of Tim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1295280" y="1523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n?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2"/>
          <p:cNvSpPr/>
          <p:nvPr/>
        </p:nvSpPr>
        <p:spPr>
          <a:xfrm>
            <a:off x="2414880" y="106668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2d050"/>
                </a:solidFill>
                <a:latin typeface="comic"/>
                <a:ea typeface="Arial Unicode MS"/>
              </a:rPr>
              <a:t>Adverbs Of 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838080" y="2286000"/>
            <a:ext cx="83059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d0d"/>
                </a:solidFill>
                <a:latin typeface="Maiandra GD"/>
                <a:ea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We shall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now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 begin to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alled here a 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ew minutes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ago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I have spoken to him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yesterda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He comes here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da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Mr. Guptha </a:t>
            </a:r>
            <a:r>
              <a:rPr b="0" i="1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formerly</a:t>
            </a:r>
            <a:r>
              <a:rPr b="0" lang="en-US" sz="3200" spc="-1" strike="noStrike" u="sng">
                <a:solidFill>
                  <a:srgbClr val="0d0d0d"/>
                </a:solidFill>
                <a:uFillTx/>
                <a:latin typeface="Lucida Calligraphy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0d0d0d"/>
                </a:solidFill>
                <a:latin typeface="Lucida Calligraphy"/>
                <a:ea typeface="Arial Unicode MS"/>
              </a:rPr>
              <a:t>lived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quantity or degre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t  shows how much, or in what degree or to what exten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w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to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careles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rather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bus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 am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ful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prepar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se mangos 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almos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rip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  <a:ea typeface="Tahoma"/>
              </a:rPr>
              <a:t>Adverbs of reas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aiandra GD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The adverb which tells about a reason is called adverb of reas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nc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unable to refute the charg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e </a:t>
            </a:r>
            <a:r>
              <a:rPr b="0" i="1" lang="en-US" sz="3200" spc="-1" strike="noStrike">
                <a:solidFill>
                  <a:srgbClr val="000000"/>
                </a:solidFill>
                <a:latin typeface="Lucida Calligraphy"/>
              </a:rPr>
              <a:t>t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for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left school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628560"/>
            <a:ext cx="8656560" cy="5851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3088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4"/>
          <p:cNvSpPr/>
          <p:nvPr/>
        </p:nvSpPr>
        <p:spPr>
          <a:xfrm>
            <a:off x="304920" y="1066680"/>
            <a:ext cx="81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Lucida Calligraphy"/>
              </a:rPr>
              <a:t>Some examples of adverbs of different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rtoise walks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(Mann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will have our Semester exams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April 1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Lucida Calligraphy"/>
              </a:rPr>
              <a:t>s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 week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accident happened near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Highwa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t least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twice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a week I used to go for Temple(Frequenc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We all go for a picnic just for 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njoyment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Purp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he sea is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torm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(Degree /Quant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</a:rPr>
              <a:t>Sure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you are mistaken(Affirmation/Neg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0" y="145080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609480" y="1143000"/>
            <a:ext cx="81536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His face was dirty and he was dressed ----------------------.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2. Have you---------------- ---------------------- been in a plane?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3. She was so ill that she missed school -------------------------. 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4. I did some homework last night and finished it--------------------.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5. We went--------------------------------- to play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6. Dad takes the dog for a walk ------------------------------. (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7. Sally left her pencil case--------------------------------- . (pl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8. Speak -----------------------------so everyone can hear you. (m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9. It was a fine day and the children played in the garden ------.(d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Calligraphy"/>
              </a:rPr>
              <a:t>10. “Go and do your homework.” “I’ve------------------------done it.” (tim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228600" y="579132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(outside        this morning        ever                   on the bus        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alligraphy"/>
                <a:ea typeface="Arial"/>
              </a:rPr>
              <a:t>all day          in old clothes       for a week        already             every da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207440" y="6858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Lucida Calligraphy"/>
                <a:ea typeface="Arial"/>
              </a:rPr>
              <a:t>Try this exercis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71500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in old clot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666880" y="1600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"/>
          <p:cNvSpPr/>
          <p:nvPr/>
        </p:nvSpPr>
        <p:spPr>
          <a:xfrm>
            <a:off x="548640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Lucida Calligraphy"/>
                <a:ea typeface="Arial"/>
              </a:rPr>
              <a:t>for a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6757560" y="2743200"/>
            <a:ext cx="14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this mo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2209680" y="32767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out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572000" y="358128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every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3"/>
          <p:cNvSpPr/>
          <p:nvPr/>
        </p:nvSpPr>
        <p:spPr>
          <a:xfrm>
            <a:off x="3886200" y="3809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Calligraphy"/>
                <a:ea typeface="Arial"/>
              </a:rPr>
              <a:t>on the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1752480" y="41148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clea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5"/>
          <p:cNvSpPr/>
          <p:nvPr/>
        </p:nvSpPr>
        <p:spPr>
          <a:xfrm>
            <a:off x="7772400" y="4343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l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6"/>
          <p:cNvSpPr/>
          <p:nvPr/>
        </p:nvSpPr>
        <p:spPr>
          <a:xfrm>
            <a:off x="5181480" y="49528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Lucida Calligraphy"/>
                <a:ea typeface="Arial"/>
              </a:rPr>
              <a:t>al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2"/>
          <p:cNvSpPr txBox="1"/>
          <p:nvPr/>
        </p:nvSpPr>
        <p:spPr>
          <a:xfrm>
            <a:off x="990720" y="2057400"/>
            <a:ext cx="6781680" cy="22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Berlin Sans FB Demi"/>
              </a:rPr>
              <a:t>THANK YOU!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Berlin Sans FB Demi"/>
              <a:ea typeface="Berlin Sans FB Dem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itle 1" descr=""/>
          <p:cNvPicPr/>
          <p:nvPr/>
        </p:nvPicPr>
        <p:blipFill>
          <a:blip r:embed="rId1"/>
          <a:stretch/>
        </p:blipFill>
        <p:spPr>
          <a:xfrm>
            <a:off x="317520" y="933480"/>
            <a:ext cx="86742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Title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540640" cy="394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1219320" y="2514600"/>
          <a:ext cx="6095880" cy="3774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onstantia"/>
                        </a:rPr>
                        <a:t>Adver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in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ppi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7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onder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u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23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d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6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autifu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9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ee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2"/>
          <p:cNvSpPr/>
          <p:nvPr/>
        </p:nvSpPr>
        <p:spPr>
          <a:xfrm>
            <a:off x="83808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Many adverbs end with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. You make these adverbs by adding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 l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to adjectives</a:t>
            </a:r>
            <a:r>
              <a:rPr b="0" lang="en-US" sz="3200" spc="-1" strike="noStrike">
                <a:solidFill>
                  <a:srgbClr val="000000"/>
                </a:solidFill>
                <a:latin typeface="Maiandra G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09480" y="2666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Some words that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are not adverbs. Some adjectives end in </a:t>
            </a:r>
            <a:r>
              <a:rPr b="1" lang="en-US" sz="2400" spc="-1" strike="noStrike">
                <a:solidFill>
                  <a:srgbClr val="000000"/>
                </a:solidFill>
                <a:latin typeface="Lucida Calligraphy"/>
              </a:rPr>
              <a:t>ly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too. For Exampl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1.Sam was feeling very lon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2.She was wearing a lovely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</a:rPr>
              <a:t>3.It was a very livel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838080" y="1828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alligraphy"/>
                <a:ea typeface="Arial"/>
              </a:rPr>
              <a:t>No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Monotype Corsiva"/>
              </a:rPr>
              <a:t>Kinds of Adverb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Purpose/Reaso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in which manner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re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when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shows how many times an action is d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</a:rPr>
              <a:t>It describes the purpose or reason for the actio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1924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Quantity/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Affirmation /N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038480" y="2133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It shows how much or in what degree or to what ex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Which says yes if it is yes and no if it is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685800" y="9144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b0f0"/>
                </a:solidFill>
                <a:latin typeface="Monotype Corsiva"/>
                <a:ea typeface="Arial"/>
              </a:rPr>
              <a:t>Kinds of Adverb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1"/>
          <p:cNvSpPr/>
          <p:nvPr/>
        </p:nvSpPr>
        <p:spPr>
          <a:xfrm>
            <a:off x="1185840" y="28954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Lucida Calligraphy"/>
                <a:ea typeface="Arial"/>
              </a:rPr>
              <a:t>Exampl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"/>
          <p:cNvSpPr/>
          <p:nvPr/>
        </p:nvSpPr>
        <p:spPr>
          <a:xfrm>
            <a:off x="1600200" y="3581280"/>
            <a:ext cx="631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boys are play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upstairs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 dog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in the  garden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We’re go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to NewYork City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on our school tr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It’s very sunny but col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Calligraphy"/>
                <a:ea typeface="Arial"/>
              </a:rPr>
              <a:t>outside</a:t>
            </a:r>
            <a:r>
              <a:rPr b="0" lang="en-US" sz="2400" spc="-1" strike="noStrike">
                <a:solidFill>
                  <a:srgbClr val="000000"/>
                </a:solidFill>
                <a:latin typeface="Lucida Calligraphy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432440" y="762120"/>
            <a:ext cx="271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Lucida Calligraphy"/>
                <a:ea typeface="Arial"/>
              </a:rPr>
              <a:t>Adverbs of  Plac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523880" y="1219320"/>
            <a:ext cx="67820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Some adverbs and adverb phrases answer the question “where?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alligraphy"/>
                <a:ea typeface="Arial"/>
              </a:rPr>
              <a:t>They are called adverbs of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685800" y="0"/>
            <a:ext cx="845820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             </a:t>
            </a:r>
            <a:r>
              <a:rPr b="0" lang="en-US" sz="4000" spc="-1" strike="noStrike">
                <a:solidFill>
                  <a:srgbClr val="ff0000"/>
                </a:solidFill>
                <a:latin typeface="Lucida Calligraphy"/>
              </a:rPr>
              <a:t>Adverb of places</a:t>
            </a:r>
            <a:r>
              <a:rPr b="0" lang="en-US" sz="3600" spc="-1" strike="noStrike">
                <a:solidFill>
                  <a:srgbClr val="d339bd"/>
                </a:solidFill>
                <a:latin typeface="Lucida Calligraph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’ve lived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here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for abou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English and German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closely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rel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s mark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still</a:t>
            </a:r>
            <a:r>
              <a:rPr b="1" lang="en-US" sz="3200" spc="-1" strike="noStrike">
                <a:solidFill>
                  <a:srgbClr val="000000"/>
                </a:solidFill>
                <a:latin typeface="Lucida Calligraphy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in b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alligraph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His children g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Calligraphy"/>
              </a:rPr>
              <a:t>everywhere</a:t>
            </a:r>
            <a:r>
              <a:rPr b="0" lang="en-US" sz="3200" spc="-1" strike="noStrike">
                <a:solidFill>
                  <a:srgbClr val="000000"/>
                </a:solidFill>
                <a:latin typeface="Lucida Calligraphy"/>
              </a:rPr>
              <a:t> with him</a:t>
            </a:r>
            <a:r>
              <a:rPr b="0" lang="en-US" sz="3600" spc="-1" strike="noStrike">
                <a:solidFill>
                  <a:srgbClr val="00b05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areth</dc:creator>
  <dc:description/>
  <dc:language>en-US</dc:language>
  <cp:lastModifiedBy>RomaK</cp:lastModifiedBy>
  <dcterms:modified xsi:type="dcterms:W3CDTF">2015-09-02T09:30:51Z</dcterms:modified>
  <cp:revision>89</cp:revision>
  <dc:subject/>
  <dc:title>Adverbs                                  by your friends</dc:title>
</cp:coreProperties>
</file>