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2586-9564-482A-8011-4DBB333BC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B59-43D5-4B7E-9F56-7E60E617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83E-7250-4CC6-B9F0-74FA34EB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B5F-2280-4EFC-981D-405287B7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975-2D42-43A0-832F-C60AB0CF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00E6-6A84-49A0-8BBE-DE1B0357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0B52-5A5C-4157-A1B8-29E80A43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9F85-4562-47D2-BB00-BD538457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B917-70C6-443D-A724-7B4BDFBB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DC3D-2883-49B8-B1CC-C4EC5EC0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95C4-BE28-4EED-8040-095BE63D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D209-B55E-48BF-B627-45C12E39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854-86E9-478E-AFB3-E01B136C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8533-F75F-4246-A91F-45FBA5C1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36DA-3B4D-4387-9A63-461E5EA9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CE91-F303-474C-9D19-CAD7F905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74FD-CF25-4015-889F-5B651B70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3115-951A-43BD-8717-69B3F54C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AFE22-0E4E-452F-B9AF-5C6B03BA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B0BC8-324A-4ABA-B789-CF7B7377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A0A1-A5A9-49D6-9368-72A641BF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1AFF-18E0-4EB6-8629-BC64C9F2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9926B-4B65-4817-944E-1B044E89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10A-AE8E-43C2-A7D3-6DE3202D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4032-E5E8-4F1B-AAF2-EF2B1820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B84A7-2C82-48F3-9324-08862CA9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2D809-8F3C-4BD8-BF95-6D1D5143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342E-D7CD-4C83-AF46-91FD1AA5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D97A3-7AE2-4F61-868E-9C1768B9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AC59B-69C1-41BD-8D8D-24F993D5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5CD85-BD88-4ECB-B877-DCD49DED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7032F-13FE-49BB-98A6-8E5A3B7B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5F34D-D784-4596-B08A-30D2E0C2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8DEC6-0C06-47BE-A4FE-6AD91CFE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AA6-84BB-4AEE-87AF-2CB147C4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B428-B9E3-4251-82C2-957B6ADA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CDB5A-CC82-4EF8-919B-BE8594B1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491EA-D7DD-404F-8BA6-6CA00133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B7AEC-0F8E-4DAA-9586-BF836F7B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229F-176A-43B6-B315-AFCABCC5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C67AB-86D6-4C72-99E3-E132AF2F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15795-F946-46B0-A01A-AAA60837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BA836-8FB4-45E5-ABF8-CE026E88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3D73-0FEB-49C6-A7F8-F3E0938F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060-E391-42E6-A73C-7710A203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60D-2E73-4702-9905-1C984D81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A59-4194-4347-BB43-DCF15F7E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FFA-FF5C-4778-B9C9-36753DED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EC6-8173-4F2A-84CB-C8CC441E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793A-1E55-4A4A-8F76-A1C213E74ED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E3EE-B83E-40EA-93AF-572610E3335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F133-AB1F-4386-B33A-09B6B757236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6B0F-216D-44A3-8948-C13C9D39A5A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0" y="1328760"/>
            <a:ext cx="8308800" cy="271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Picture1.jpg"/>
          <p:cNvPicPr/>
          <p:nvPr/>
        </p:nvPicPr>
        <p:blipFill>
          <a:blip r:embed="rId2"/>
          <a:stretch/>
        </p:blipFill>
        <p:spPr>
          <a:xfrm>
            <a:off x="7518240" y="1600200"/>
            <a:ext cx="162576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Picture1.jpg"/>
          <p:cNvPicPr/>
          <p:nvPr/>
        </p:nvPicPr>
        <p:blipFill>
          <a:blip r:embed="rId3"/>
          <a:stretch/>
        </p:blipFill>
        <p:spPr>
          <a:xfrm>
            <a:off x="0" y="4675320"/>
            <a:ext cx="16257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114300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1693080" y="3962520"/>
            <a:ext cx="69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girls answered all the ques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orrect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He was driv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areless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plane la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afe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Ramu plays guit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killful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066680" y="914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Lucida Calligraphy"/>
                <a:ea typeface="Arial"/>
              </a:rPr>
              <a:t>Adverbs of Mann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066680" y="1981080"/>
            <a:ext cx="7894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describe the way people do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5"/>
          <a:stretch/>
        </p:blipFill>
        <p:spPr>
          <a:xfrm>
            <a:off x="6858000" y="4041720"/>
            <a:ext cx="2286000" cy="256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Program Files\Microsoft Office\CLIPART\PUB60COR\AG00165_.GIF"/>
          <p:cNvPicPr/>
          <p:nvPr/>
        </p:nvPicPr>
        <p:blipFill>
          <a:blip r:embed="rId6"/>
          <a:stretch/>
        </p:blipFill>
        <p:spPr>
          <a:xfrm flipH="1" rot="21289200">
            <a:off x="5586120" y="563364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838080" y="304920"/>
            <a:ext cx="830592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         </a:t>
            </a: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Adverb of manner</a:t>
            </a:r>
            <a:r>
              <a:rPr b="1" i="1" lang="en-US" sz="3200" spc="-1" strike="noStrike">
                <a:solidFill>
                  <a:srgbClr val="0070c0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y watch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flower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beauti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mad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She seem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ai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team pla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wonder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02640" y="68580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1447920" y="1676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how often an action is d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frequency</a:t>
            </a: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1262160" y="38862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1696680" y="4648320"/>
            <a:ext cx="67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childr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go to school on the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make that mistake aga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 clean my bedro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Dad polishes his sho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wice a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1414440" y="3505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2007000" y="4191120"/>
            <a:ext cx="668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train h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read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 moved into our new ho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last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ur favorite T.V. program star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t 6’o cloc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m going to my new scho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554120" y="7621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Tim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295280" y="1523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n?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"/>
          <p:cNvSpPr/>
          <p:nvPr/>
        </p:nvSpPr>
        <p:spPr>
          <a:xfrm>
            <a:off x="2414880" y="10666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comic"/>
                <a:ea typeface="Arial Unicode MS"/>
              </a:rPr>
              <a:t>Adverbs Of 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838080" y="2286000"/>
            <a:ext cx="83059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Maiandra GD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We shall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now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 begin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alled here a 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ew minutes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ago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I have spoken to him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yesterda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omes here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Mr. Guptha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ormerl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lived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quantity or degre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t  shows how much, or in what degree or to what ext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w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areles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rather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bus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prepar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se mango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alm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rip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reas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adverb which tells about a reason is called adverb of reas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nc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unable to refute the charg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</a:t>
            </a:r>
            <a:r>
              <a:rPr b="0" i="1" lang="en-US" sz="3200" spc="-1" strike="noStrike">
                <a:solidFill>
                  <a:srgbClr val="000000"/>
                </a:solidFill>
                <a:latin typeface="Lucida Calligraphy"/>
              </a:rPr>
              <a:t>t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f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eft school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628560"/>
            <a:ext cx="8656560" cy="585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08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04920" y="106668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Lucida Calligraphy"/>
              </a:rPr>
              <a:t>Some examples of adverbs of different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rtoise walks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low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(Mann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will have our Semester exam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April 1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Lucida Calligraphy"/>
              </a:rPr>
              <a:t>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accident happened nea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Highw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l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t least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twice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 week I used to go for Temple(Frequenc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all go for a picnic just for 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njoyment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urp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Degree /Quant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ure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you are mistaken(Affirmation/Ne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0" y="145080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609480" y="1143000"/>
            <a:ext cx="81536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His face was dirty and he was dressed ----------------------.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2. Have you---------------- ---------------------- been in a plane?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3. She was so ill that she missed school -------------------------. 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4. I did some homework last night and finished it--------------------.(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5. We went--------------------------------- to play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6. Dad takes the dog for a walk ------------------------------.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7. Sally left her pencil case--------------------------------- 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8. Speak -----------------------------so everyone can hear you. 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9. It was a fine day and the children played in the garden ------.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10. “Go and do your homework.” “I’ve------------------------done it.” (tim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28600" y="57913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(outside        this morning        ever                   on the bus        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all day          in old clothes       for a week        already             every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207440" y="685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alligraphy"/>
                <a:ea typeface="Arial"/>
              </a:rPr>
              <a:t>Try this exercis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715000" y="1066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in old clo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2666880" y="1600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48640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for a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6757560" y="274320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this mo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2209680" y="3276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572000" y="35812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y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3886200" y="3809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lligraphy"/>
                <a:ea typeface="Arial"/>
              </a:rPr>
              <a:t>on th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1752480" y="4114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5"/>
          <p:cNvSpPr/>
          <p:nvPr/>
        </p:nvSpPr>
        <p:spPr>
          <a:xfrm>
            <a:off x="7772400" y="4343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l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5181480" y="4952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990720" y="2057400"/>
            <a:ext cx="678168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erlin Sans FB Demi"/>
              </a:rPr>
              <a:t>THANK YOU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317520" y="933480"/>
            <a:ext cx="8674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540640" cy="39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219320" y="2514600"/>
          <a:ext cx="6095880" cy="3774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83808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Many adverbs end with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. You make these adverbs by adding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 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 adjective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09480" y="2666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Some words that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are not adverbs. Some adjectives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too. For Exampl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1.Sam was feeling very lon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2.She was wearing a lovely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3.It was a very livel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838080" y="1828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Kinds of Adverb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Man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urpose/Rea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in which manner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re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n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shows how many times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the purpose or reason for the a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0" y="2192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Quantity/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Affirmation /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038480" y="2133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It shows how much or in what degree or to what ex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Which says yes if it is yes and no if it is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685800" y="9144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Monotype Corsiva"/>
                <a:ea typeface="Arial"/>
              </a:rPr>
              <a:t>Kinds of Ad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18584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600200" y="3581280"/>
            <a:ext cx="63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boys are play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upstair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dog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in the  garden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’re go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 NewYork Cit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n our school tr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t’s very sunny but c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32440" y="762120"/>
            <a:ext cx="27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Calligraphy"/>
                <a:ea typeface="Arial"/>
              </a:rPr>
              <a:t>Adverbs of  Pl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523880" y="1219320"/>
            <a:ext cx="67820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re?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685800" y="0"/>
            <a:ext cx="84582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Adverb of places</a:t>
            </a:r>
            <a:r>
              <a:rPr b="0" lang="en-US" sz="3600" spc="-1" strike="noStrike">
                <a:solidFill>
                  <a:srgbClr val="d339bd"/>
                </a:solidFill>
                <a:latin typeface="Lucida Calligraph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’ve lived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for about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nglish and German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lose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s mark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ill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n b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is children 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everywher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with him</a:t>
            </a:r>
            <a:r>
              <a:rPr b="0" lang="en-US" sz="3600" spc="-1" strike="noStrike">
                <a:solidFill>
                  <a:srgbClr val="00b05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areth</dc:creator>
  <dc:description/>
  <dc:language>en-US</dc:language>
  <cp:lastModifiedBy>RomaK</cp:lastModifiedBy>
  <dcterms:modified xsi:type="dcterms:W3CDTF">2015-09-02T09:30:51Z</dcterms:modified>
  <cp:revision>89</cp:revision>
  <dc:subject/>
  <dc:title>Adverbs                                  by your friends</dc:title>
</cp:coreProperties>
</file>