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lap.wav" ContentType="audio/x-wav"/>
  <Override PartName="/ppt/media/image3.wmf" ContentType="image/x-wmf"/>
  <Override PartName="/ppt/media/whoosh.wav" ContentType="audio/x-wav"/>
  <Override PartName="/ppt/media/image4.wmf" ContentType="image/x-wmf"/>
  <Override PartName="/ppt/media/camera.wav" ContentType="audio/x-wav"/>
  <Override PartName="/ppt/media/image5.wmf" ContentType="image/x-wmf"/>
  <Override PartName="/ppt/media/cashreg.wav" ContentType="audio/x-wav"/>
  <Override PartName="/ppt/media/driveby.wav" ContentType="audio/x-wav"/>
  <Override PartName="/ppt/media/projctor.wav" ContentType="audio/x-wav"/>
  <Override PartName="/ppt/media/chimes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595C-F626-4E47-B8C5-7339F09BA6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39A-0965-44B2-9EE2-1B91CB30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060-E219-42B0-885F-38FD1388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55D-45F6-4CE6-84F0-9D2A2E63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6FD-B740-40F2-BA7E-7E5542DD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5B6E-4CA5-41EB-A24B-277C9132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CFEC-7EE6-42A6-A2A3-888E6CFC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E2E9-C955-47F9-BEE2-FF06BE18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83F3-3A3C-44FC-B247-5A99E3E9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092E-DAB9-4AFE-9F1F-C1AEBAAC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EC76-C548-4211-85C3-EA9ED6B5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BFA4-4031-47F3-B3AB-6589FAFF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5C9-D742-4A68-877D-7DB2252D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9291-F27F-4CD1-B78A-84BB1189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BCF3-257B-4255-A2D4-1FF9465C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CD1E-C9BD-4D55-A473-9CF78DE2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2D45-C6B7-488E-B23E-71B7A51D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8C67-EDAC-4298-B3BB-1E124464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9F7-1D8E-4820-9353-C989CC1C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7EF-15B6-494E-B85C-94230667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22E-0F4B-4D01-B5DC-13CF0E86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2EF-EEF5-40FF-9922-A2AA2119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694-5F0E-4C9D-8C75-FE894988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C80-904D-41D2-8EE0-3D67C1AA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553-F4E2-4138-B57B-D0FC5E92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91CA-0A8C-4461-8043-417A90588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49ED-4E15-45F8-90FA-6E45774D3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4800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Picture 5" descr="pe03254_"/>
          <p:cNvPicPr/>
          <p:nvPr/>
        </p:nvPicPr>
        <p:blipFill>
          <a:blip r:embed="rId1"/>
          <a:stretch/>
        </p:blipFill>
        <p:spPr>
          <a:xfrm>
            <a:off x="3429000" y="838080"/>
            <a:ext cx="26845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you retu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runk being 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egative Adver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arce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ve my eyes. ( 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miliar Adverbs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o Kno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 &amp; ADVERBS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FINITION OF AN ADJECTIVE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ip was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gl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ssel. (what k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actory is mine. (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enjo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n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nner. (how many, 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tn00333_"/>
          <p:cNvPicPr/>
          <p:nvPr/>
        </p:nvPicPr>
        <p:blipFill>
          <a:blip r:embed="rId1"/>
          <a:stretch/>
        </p:blipFill>
        <p:spPr>
          <a:xfrm>
            <a:off x="4114800" y="2362320"/>
            <a:ext cx="11588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 ADVERB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YPES OF ADVERB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066680" y="533520"/>
          <a:ext cx="1219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33520"/>
                    <a:ext cx="1219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mov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e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Manner and tell h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ai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n hour. (Place and tell w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le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Time, tells wh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lled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Number, tells how m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s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ll. (Degree, tells how mu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errogative Adverb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3:16:01Z</dcterms:created>
  <dc:creator>Tim Williams</dc:creator>
  <dc:description/>
  <dc:language>en-US</dc:language>
  <cp:lastModifiedBy>RomaK</cp:lastModifiedBy>
  <dcterms:modified xsi:type="dcterms:W3CDTF">2015-09-02T09:30:39Z</dcterms:modified>
  <cp:revision>7</cp:revision>
  <dc:subject/>
  <dc:title>adjectives and adverbs</dc:title>
</cp:coreProperties>
</file>