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clap.wav" ContentType="audio/x-wav"/>
  <Override PartName="/ppt/media/image3.wmf" ContentType="image/x-wmf"/>
  <Override PartName="/ppt/media/whoosh.wav" ContentType="audio/x-wav"/>
  <Override PartName="/ppt/media/image4.wmf" ContentType="image/x-wmf"/>
  <Override PartName="/ppt/media/camera.wav" ContentType="audio/x-wav"/>
  <Override PartName="/ppt/media/image5.wmf" ContentType="image/x-wmf"/>
  <Override PartName="/ppt/media/cashreg.wav" ContentType="audio/x-wav"/>
  <Override PartName="/ppt/media/driveby.wav" ContentType="audio/x-wav"/>
  <Override PartName="/ppt/media/projctor.wav" ContentType="audio/x-wav"/>
  <Override PartName="/ppt/media/chimes.wav" ContentType="audio/x-wav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4F92-E770-4196-B50F-A271B4FD08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ill you retur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e trunk being s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ill you retur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e trunk being s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Adve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ies or contradicts a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, not , never, only, scarcely and hard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 two negative adverbs should not be us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Adve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ies or contradicts a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, not , never, only, scarcely and hard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 two negative adverbs should not be us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 can scarcely believe my eyes. ( corr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 haven’t no more sea shells. (incorr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 can scarcely believe my eyes. ( corr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 haven’t no more sea shells. (incorr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ar Adver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do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usual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tainly    hardl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te     so    usually    just  rathe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    rather     fairly    nearly     t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rcely    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ar Adver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do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usual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tainly    hardl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te     so    usually    just  rathe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    rather     fairly    nearly     t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rcely    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 &amp; ADVERB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S TO FO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 &amp; ADVERB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S TO FO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difies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difies 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difies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difies 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OF AN ADJECTI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ells what kind of person, place, or thing.  A noun or a pronoun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y also point out which one or how m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OF AN ADJECTI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ells what kind of person, place, or thing.  A noun or a pronoun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y also point out which one or how m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ip was an English vessel. (what ki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factory is mine. (which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eople enjoy the annual dinner. (how many, which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ip was an English vessel. (what ki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factory is mine. (which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eople enjoy the annual dinner. (how many, which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DVER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ifies an active verb or a verb phrase by expressing manner, place, time, degree, or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DVER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ifies an active verb or a verb phrase by expressing manner, place, time, degree, or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ADVERB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ADVERB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moved quietly. (Manner and tell h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aited there for an hour. (Place and tell whe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ay leave soon. (Time, tells wh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lled you once. (Number, tells how man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at very still. (Degree, tells how mu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moved quietly. (Manner and tell h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aited there for an hour. (Place and tell whe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ay leave soon. (Time, tells wh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lled you once. (Number, tells how man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at very still. (Degree, tells how mu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Adverb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s a sentence that asks a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, when, why and 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Adverb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s a sentence that asks a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, when, why and 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3982-7094-4A15-993B-36A4C03BA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7FC7-78E0-470B-B756-E92329F7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6239-F72E-4911-8E76-386F609A4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6FDE-7D49-426C-A2ED-276E273A7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840B-2163-4BF2-B6B8-F94C1021C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8D6A-4B90-4498-8AA5-73DD46C4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80C4-AA13-408C-A2BF-18BED3AA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A52B-12D7-42C1-B0F7-06166B46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E2A0-985E-45F3-9F32-6C5A0193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C89F-BA74-47D9-8155-822E02A3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AF5F-30C0-4412-A1ED-C19D8CCA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D979-0C6E-47DD-B5BD-04917BCF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A0C6-2864-47B7-88A0-5F8F9A88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4658-605E-4E2F-AE12-9310B817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AB33-E782-4AFC-806F-948B70B8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3FC3-4F31-46D8-90E8-35AABD05A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4FE9-6C63-41AB-9B88-5891744F1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DB14-5D74-4A60-80FA-F1582DFA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C81B-C2AE-4502-AE89-0A8FDFE7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AE50-64A5-4701-8F25-DE633892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328E-0C43-40F6-BD0B-BADE8A6E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735F-5E71-4123-B4B9-AED78BFF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2F00-A269-4BBE-97FE-00C10958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BB99-4704-490B-9FEC-0FA62DAB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7427-8167-414B-A653-8A3CB9165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DC0C-5458-42E1-80CB-EE6F94953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clap.wav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audio" Target="../media/driveby.wav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48002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8" name="Picture 5" descr="pe03254_"/>
          <p:cNvPicPr/>
          <p:nvPr/>
        </p:nvPicPr>
        <p:blipFill>
          <a:blip r:embed="rId1"/>
          <a:stretch/>
        </p:blipFill>
        <p:spPr>
          <a:xfrm>
            <a:off x="3429000" y="838080"/>
            <a:ext cx="268452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rogati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you retur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trunk being s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Negative Adverb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ies or contradicts a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, not , never, only, scarcely and hard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 two negative adverbs should not be used toge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ati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I c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carcel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ieve my eyes. ( corre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I haven’t no more sea shells. (incorre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amiliar Adverbs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o Know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mo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d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usual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rtainly    hardly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te     so    usually    just  rather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    rather     fairly    nearly     to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rcely    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" presetSubtype="8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DJECTIVES &amp; ADVERBS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236196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ies 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ies Pro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EFINITION OF AN ADJECTIVE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tells what kind of person, place, or thing.  A noun or a pronoun 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may also point out which one or how man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hip was 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nglis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essel. (what ki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actory is mine. (which 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n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enjoy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n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nner. (how many, which 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tn00333_"/>
          <p:cNvPicPr/>
          <p:nvPr/>
        </p:nvPicPr>
        <p:blipFill>
          <a:blip r:embed="rId1"/>
          <a:stretch/>
        </p:blipFill>
        <p:spPr>
          <a:xfrm>
            <a:off x="4114800" y="2362320"/>
            <a:ext cx="1158840" cy="16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N ADVERB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ies an active verb or a verb phrase by expressing manner, place, time, degree, or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YPES OF ADVERB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rogati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1066680" y="533520"/>
          <a:ext cx="121932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533520"/>
                    <a:ext cx="12193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 mov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iet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(Manner and tell h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ait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an hour. (Place and tell whe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ay lea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(Time, tells wh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called you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(Number, tells how man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s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e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ill. (Degree, tells how muc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terrogative Adverb 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es a sentence that asks a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, when, why and h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23:16:01Z</dcterms:created>
  <dc:creator>Tim Williams</dc:creator>
  <dc:description/>
  <dc:language>en-US</dc:language>
  <cp:lastModifiedBy>RomaK</cp:lastModifiedBy>
  <dcterms:modified xsi:type="dcterms:W3CDTF">2015-09-02T09:30:39Z</dcterms:modified>
  <cp:revision>7</cp:revision>
  <dc:subject/>
  <dc:title>adjectives and adverbs</dc:title>
</cp:coreProperties>
</file>