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lap.wav" ContentType="audio/x-wav"/>
  <Override PartName="/ppt/media/image3.wmf" ContentType="image/x-wmf"/>
  <Override PartName="/ppt/media/whoosh.wav" ContentType="audio/x-wav"/>
  <Override PartName="/ppt/media/image4.wmf" ContentType="image/x-wmf"/>
  <Override PartName="/ppt/media/camera.wav" ContentType="audio/x-wav"/>
  <Override PartName="/ppt/media/image5.wmf" ContentType="image/x-wmf"/>
  <Override PartName="/ppt/media/cashreg.wav" ContentType="audio/x-wav"/>
  <Override PartName="/ppt/media/driveby.wav" ContentType="audio/x-wav"/>
  <Override PartName="/ppt/media/projctor.wav" ContentType="audio/x-wav"/>
  <Override PartName="/ppt/media/chimes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C12D-D689-4951-BAFC-602902E3C65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ill you retu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trunk being 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ill you retu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trunk being 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Ad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Ad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can scarcely believe my eyes. ( 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can scarcely believe my eyes. ( 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ar 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ar 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 &amp; ADVER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 &amp; ADVER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N ADJEC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N ADJEC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ip was an English vessel. (what ki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actory is mine. (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enjoy the annual dinner. (how many, 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ip was an English vessel. (what ki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actory is mine. (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enjoy the annual dinner. (how many, 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ADVER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ADVER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moved quietly. (Manner and tell 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ited there for an hour. (Place and tell whe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leave soon. (Time, tells wh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lled you once. (Number, tells how m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t very still. (Degree, tells how mu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moved quietly. (Manner and tell 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ited there for an hour. (Place and tell whe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leave soon. (Time, tells wh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lled you once. (Number, tells how m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t very still. (Degree, tells how mu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Adverb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Adverb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285A-81EA-4BD1-9CED-4A338BC3F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E802-A9BC-469C-BEE1-DE48CC04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225D-155C-4978-95BD-5DB22EF82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02E4-6EC1-4289-A8C2-C41C6DFC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AA7D-C36C-4A07-9C66-54EE8BF41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E869-82F5-47FF-AD8A-BE7271BE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B885-0E34-47E2-A4E0-CD831B16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B91E-F5C1-4113-A216-D1C48679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74D96-EE45-4173-A49D-0808935A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339E-CA2C-4152-A485-B61E7F45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6FF2-0318-4EB6-8D69-2025ECEA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1A47-F8B6-4A52-8B91-A59BABF4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4DB5-8E9C-4075-A1D5-217B33AB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E1965-72FE-4DBC-BEE8-F6161421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1A89-F6B8-4525-BE21-A62C6243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3A37-D5DA-49AD-9DC4-21D340C20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44FB-9BFE-4D81-B66E-F49A02EB6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A1E5-2B39-4F50-A9F3-E5373199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3233-A0DC-4906-8E0A-0FBC93C8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9E61-943F-4EAE-A0B2-68F26D75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416B-FC55-47D7-A642-7EDB927D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655-D69B-40A0-B2ED-71D91440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D0E2-2E10-4269-BCDB-25CD07DF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C76A-AAEC-44D3-AEFC-187C4C4D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4ED6-4172-431E-B2CC-8F3B2B66D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8D0F-B9C3-4BE8-8131-834F4C90A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4800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Picture 5" descr="pe03254_"/>
          <p:cNvPicPr/>
          <p:nvPr/>
        </p:nvPicPr>
        <p:blipFill>
          <a:blip r:embed="rId1"/>
          <a:stretch/>
        </p:blipFill>
        <p:spPr>
          <a:xfrm>
            <a:off x="3429000" y="838080"/>
            <a:ext cx="26845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you retur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trunk being 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egative Adverb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arce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ieve my eyes. ( corr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miliar Adverbs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o Know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JECTIVES &amp; ADVERBS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23619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FINITION OF AN ADJECTIVE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ip was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gli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ssel. (what ki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actory is mine. (which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n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enjo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n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nner. (how many, which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tn00333_"/>
          <p:cNvPicPr/>
          <p:nvPr/>
        </p:nvPicPr>
        <p:blipFill>
          <a:blip r:embed="rId1"/>
          <a:stretch/>
        </p:blipFill>
        <p:spPr>
          <a:xfrm>
            <a:off x="4114800" y="2362320"/>
            <a:ext cx="11588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 ADVERB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YPES OF ADVERB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066680" y="533520"/>
          <a:ext cx="1219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33520"/>
                    <a:ext cx="1219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mov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ie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Manner and tell h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ai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n hour. (Place and tell wh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le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Time, tells wh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lled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Number, tells how m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s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ill. (Degree, tells how mu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terrogative Adverb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3:16:01Z</dcterms:created>
  <dc:creator>Tim Williams</dc:creator>
  <dc:description/>
  <dc:language>en-US</dc:language>
  <cp:lastModifiedBy>RomaK</cp:lastModifiedBy>
  <dcterms:modified xsi:type="dcterms:W3CDTF">2015-09-02T09:30:39Z</dcterms:modified>
  <cp:revision>7</cp:revision>
  <dc:subject/>
  <dc:title>adjectives and adverbs</dc:title>
</cp:coreProperties>
</file>