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carbrake.wav" ContentType="audio/x-wav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41BE5-CD1B-401A-9BE9-60FC5EA4FAD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ditional Marxism and crime and devi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rime is a product of pover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rime is brought about by capitalis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ditional Marxism and crime and dev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e is a product of pov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e is brought about by capita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RITICIS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 the one hand it suggests that working-class people are simply innocent people who are picked on by the polic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 the other hand it suggests that working class people who engage in crime are really engaged in political action by opposing the capitalist 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TICI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one hand it suggests that working-class people are simply innocent people who are picked on by the poli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other hand it suggests that working class people who engage in crime are really engaged in political action by opposing the capitalist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NIPULATION OF VALU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nipulation of the basic values and morality of a socie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ciety is dominated and controlled by those at the hel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trol is maintained via the socialisation process and thre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 OF VAL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 of the basic values and morality of a soci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ety is dominated and controlled by those at the hel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 is maintained via the socialisation process and thr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NIPULATION OF VALU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ALUES OF FREED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LF-INTERES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MPET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 OF VAL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LUES OF FREED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F-INTER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ET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AW CRE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unctionalists:  law reflects the will of the peop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rxists:  law is a reflection of the will of the powerfu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s economic power guarantees political and social power, the rich can manipulate the rest of us and pass laws that benefit th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‘set the agenda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 CRE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alists:  law reflects the will of the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xists:  law is a reflection of the will of the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economic power guarantees political and social power, the rich can manipulate the rest of us and pass laws that benefit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‘set the agenda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AW CRE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ublic Order and Criminal Justice Act (1994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akes away civil liberties from the majority and limits the powers of the protes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nce 9/11, a raft of Anti-Terror legislation has been enacted, limiting freedoms we once took for grant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ke the Prevention of Terrorism Act (designed to combat the IRA during the 1970s), it has been enforced against many others, criminalising  people engaged in simple acts of protest.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 CRE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c Order and Criminal Justice Act (199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s away civil liberties from the majority and limits the powers of the pro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9/11, a raft of Anti-Terror legislation has been enacted, limiting freedoms we once took for gran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the Prevention of Terrorism Act (designed to combat the IRA during the 1970s), it has been enforced against many others, criminalising  people engaged in simple acts of protest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AW ENFORC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eet crime’ is more likely to be pursued by police than ‘white collar’ cri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tensified policing and punishment of poorer individuals and communit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oor are filtered into the criminal justice system while the rich are filtered ou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 ENFORC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et crime’ is more likely to be pursued by police than ‘white collar’ cr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nsified policing and punishment of poorer individuals and commun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or are filtered into the criminal justice system while the rich are filtere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DIVIDUAL MOTIVATION FOR CRI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capitalist societies the cultural stress in on competition, not cooperation, and the acquisition of weal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sire for money can lead those who are blocked off from legitimate chances of gaining wealth to turn to criminal methods (anomie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eed is built into the capitalist 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 MOTIVATION FOR CR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capitalist societies the cultural stress in on competition, not cooperation, and the acquisition of weal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ire for money can lead those who are blocked off from legitimate chances of gaining wealth to turn to criminal methods (anomi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d is built into the capitalist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RITICIS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ft idealis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gnore the consequences for the victims of street cri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eet crime tends to be intra-class, not inter-cla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TICI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 idea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gnore the consequences for the victims of street cr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et crime tends to be intra-class, not inter-c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RITICIS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ems to suggest that the high rate of recorded crime among the working class, youth and blacks is solely the outcome of biased polic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 the same time they argue the laws are biased against the working class, forcing them into cri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 all laws are in the interests of the ruling-class on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TICI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ms to suggest that the high rate of recorded crime among the working class, youth and blacks is solely the outcome of biased poli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e same time they argue the laws are biased against the working class, forcing them into cr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ll laws are in the interests of the ruling-clas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F940-6E65-4353-B95F-3D111113F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95BC-8589-4DC3-BDE9-51AC93907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E4B7-0826-4CC9-A2EE-F357A36F4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0C10-317C-48B1-9377-C3FAE2090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B8ED3-EE53-4C6D-9828-AC8B9D13F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76323-D136-4ABC-BA4B-87704E99E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8E197-08B5-4CB1-BB42-2BA0CA2F7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18909-1BA2-44D6-AFD3-6E44B91A8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456B9-1EB0-4CE8-853A-9B1B0D6C7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ACD9A-063D-4719-B378-32E5763E6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7A57E-78CE-4817-A95A-519F27593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F019-D03D-4E35-BB7B-1A87BE479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7560A-1C64-4E80-8152-9C11FB517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623E0-6CCE-43EB-9CA1-B154D3292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1F614-09C0-492F-A42B-A620A5DCF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01CBB-8A4C-480D-86C8-7455544C3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C0318-4139-4017-924E-D58B8D342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7937-5EC4-44A2-9657-71D54BD60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0019-3565-4AE5-83E1-D7FB63D25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4F3B-2FAE-417D-88E4-186FC0DAF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8F95-25E2-4C52-B81B-325E75F7A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E7F8-5605-4885-8BAD-3E366B7EB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5AB8-6FF4-43F9-80C6-81A06355C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1315-7488-4FD1-8245-08013204A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863DA-0865-4BD6-BC2C-9B58D90EFAB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DB01D-75F3-4D85-95AD-CE7F92B0238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RADITIONAL MARXISM AND "/>
              </a:rPr>
              <a:t>Traditional Marxism and crime and devian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Crime is a product of </a:t>
            </a:r>
            <a:r>
              <a:rPr b="1" lang="en-GB" sz="3600" spc="-1" strike="noStrike">
                <a:solidFill>
                  <a:srgbClr val="ff0000"/>
                </a:solidFill>
                <a:latin typeface="Times New Roman"/>
              </a:rPr>
              <a:t>povert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Crime is brought about by </a:t>
            </a:r>
            <a:r>
              <a:rPr b="1" lang="en-GB" sz="3600" spc="-1" strike="noStrike">
                <a:solidFill>
                  <a:srgbClr val="ff0000"/>
                </a:solidFill>
                <a:latin typeface="Times New Roman"/>
              </a:rPr>
              <a:t>capitalis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6" descr="crime"/>
          <p:cNvPicPr/>
          <p:nvPr/>
        </p:nvPicPr>
        <p:blipFill>
          <a:blip r:embed="rId1"/>
          <a:stretch/>
        </p:blipFill>
        <p:spPr>
          <a:xfrm>
            <a:off x="685800" y="2003400"/>
            <a:ext cx="3809880" cy="37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CRITICISM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On the one hand it suggests that working-class people are simply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innocent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people who are picked on by the polic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On the other hand it suggests that working class people who engage in crime are really engaged in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political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action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by opposing the capitalist syst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6" descr="thumbs_down"/>
          <p:cNvPicPr/>
          <p:nvPr/>
        </p:nvPicPr>
        <p:blipFill>
          <a:blip r:embed="rId1"/>
          <a:stretch/>
        </p:blipFill>
        <p:spPr>
          <a:xfrm>
            <a:off x="685800" y="1719360"/>
            <a:ext cx="3809880" cy="42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MANIPULATION OF VAL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Manipulation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 of the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basic values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 and morality of a socie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Society is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dominated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 and controlled by those at the hel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Control is maintained via the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socialisation process 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and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thre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9" descr="hammock2"/>
          <p:cNvPicPr/>
          <p:nvPr/>
        </p:nvPicPr>
        <p:blipFill>
          <a:blip r:embed="rId1"/>
          <a:stretch/>
        </p:blipFill>
        <p:spPr>
          <a:xfrm>
            <a:off x="324000" y="2349360"/>
            <a:ext cx="4101840" cy="32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MANIPULATION OF VAL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VALUES OF FREED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SELF-INTERE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COMPET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Picture 11" descr="BigBrotherPoster"/>
          <p:cNvPicPr/>
          <p:nvPr/>
        </p:nvPicPr>
        <p:blipFill>
          <a:blip r:embed="rId1"/>
          <a:stretch/>
        </p:blipFill>
        <p:spPr>
          <a:xfrm>
            <a:off x="900000" y="1628640"/>
            <a:ext cx="3205440" cy="43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LAW CRE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Functionalists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:  law reflects the will of the peop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Marxists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:  law is a reflection of the will of the powerfu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As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economic power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guarantees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political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and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social power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, the rich can manipulate the rest of us and pass laws that benefit th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They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‘set the agenda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Picture 6" descr="law creation"/>
          <p:cNvPicPr/>
          <p:nvPr/>
        </p:nvPicPr>
        <p:blipFill>
          <a:blip r:embed="rId1"/>
          <a:stretch/>
        </p:blipFill>
        <p:spPr>
          <a:xfrm>
            <a:off x="851040" y="1641600"/>
            <a:ext cx="3479760" cy="44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LAW CRE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03640" y="1341000"/>
            <a:ext cx="38102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Public Order and Criminal Justice Act (1994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Takes away civil liberties from the majority and limits the powers of the prote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Since 9/11, a raft of Anti-Terror legislation has been enacted, limiting freedoms we once took for gran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Like the Prevention of Terrorism Act (designed to combat the IRA during the 1970s), it has been enforced against many others, criminalising  people engaged in simple acts of protest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Picture 10" descr="drummer"/>
          <p:cNvPicPr/>
          <p:nvPr/>
        </p:nvPicPr>
        <p:blipFill>
          <a:blip r:embed="rId1"/>
          <a:stretch/>
        </p:blipFill>
        <p:spPr>
          <a:xfrm>
            <a:off x="324000" y="2349360"/>
            <a:ext cx="4387680" cy="30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LAW ENFORCE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‘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Street crime’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is more likely to be pursued by police than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‘white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collar’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cr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Intensified policing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and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punishment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of poorer individuals and commun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The poor are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filtered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into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the criminal justice system while the rich are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filtered o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Picture 6" descr="LAW ENFORCEMENT"/>
          <p:cNvPicPr/>
          <p:nvPr/>
        </p:nvPicPr>
        <p:blipFill>
          <a:blip r:embed="rId1"/>
          <a:stretch/>
        </p:blipFill>
        <p:spPr>
          <a:xfrm>
            <a:off x="979560" y="1641600"/>
            <a:ext cx="3220920" cy="44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INDIVIDUAL MOTIVATION FOR CRIM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In capitalist societies the cultural stress in on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competition,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not cooperation, and the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acquisition of weal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Desire for money can lead those who are blocked off from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legitimate chances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of gaining wealth to turn to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criminal methods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(anomi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Greed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is built into the capitalist syst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Picture 11" descr="materialism"/>
          <p:cNvPicPr/>
          <p:nvPr/>
        </p:nvPicPr>
        <p:blipFill>
          <a:blip r:embed="rId1"/>
          <a:stretch/>
        </p:blipFill>
        <p:spPr>
          <a:xfrm>
            <a:off x="685800" y="2521080"/>
            <a:ext cx="3809880" cy="26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CRITICISM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Left ideal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Ignore the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consequences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 for the victims of street cr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Street crime tends to be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intra-class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, not inter-cla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6" descr="thumbs_down"/>
          <p:cNvPicPr/>
          <p:nvPr/>
        </p:nvPicPr>
        <p:blipFill>
          <a:blip r:embed="rId1"/>
          <a:stretch/>
        </p:blipFill>
        <p:spPr>
          <a:xfrm>
            <a:off x="685800" y="1719360"/>
            <a:ext cx="3809880" cy="42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CRITICISM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Seems to suggest that the high rate of recorded crime among the working class, youth and blacks is solely the outcome of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biased polic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At the same time they argue the laws are biased against the working class,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forcing them into cri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t all laws are in the interests of the ruling-class on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Picture 6" descr="thumbs_down"/>
          <p:cNvPicPr/>
          <p:nvPr/>
        </p:nvPicPr>
        <p:blipFill>
          <a:blip r:embed="rId1"/>
          <a:stretch/>
        </p:blipFill>
        <p:spPr>
          <a:xfrm>
            <a:off x="685800" y="1719360"/>
            <a:ext cx="3809880" cy="42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11:02:16Z</dcterms:created>
  <dc:creator>aileend</dc:creator>
  <dc:description/>
  <dc:language>en-US</dc:language>
  <cp:lastModifiedBy>RomaK</cp:lastModifiedBy>
  <dcterms:modified xsi:type="dcterms:W3CDTF">2015-09-02T09:55:38Z</dcterms:modified>
  <cp:revision>8</cp:revision>
  <dc:subject/>
  <dc:title>Traditional Marxism and crime and deviance</dc:title>
</cp:coreProperties>
</file>