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FCBB-6C92-4964-BBF8-75B17DEEB4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5BE-B9AF-4249-AE66-F71E03C6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9A4-D234-4E75-8386-26007728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D26-871B-444B-BFEC-9B6DA0B3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8D2-C048-4889-9C01-6FB0CFBE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81EF-5550-43CE-A603-845BCEC9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AA2D-3245-4A25-99ED-2542D531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2780-FA06-45C2-9214-B40275CD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2CC2-EAF6-4C66-A241-083959BA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C495-D7BA-4CD4-82EF-551D9AC6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D42D-D77A-4D6C-8ABC-057F5D3B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0601-7E36-4D1C-B093-5431AC29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2C4-34E3-452E-985E-41C47B10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5BC0-5925-49A5-898A-30024903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C6D9-5252-48E9-AFB0-8A022E16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7D26-9992-41E7-8585-33E27E00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3417-65BD-45CA-BCF3-5AE1A351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93FE-9341-4B1B-9563-9E8E5661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4E4-AC06-4336-9001-8D58CDAC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2F0-EBAF-400F-AF50-23A9DFAA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36A-101C-4C74-B2F4-75FDAB70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CC8-7247-47D6-8850-4D4B05D5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830-137C-4FEB-9EDE-3856A336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898-3B69-446F-8794-196ED518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A24-0289-49DD-B007-139E5C9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85D3-64B8-42B6-89B2-527144B10D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3063-84DA-4249-B420-19E591ABD8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ADITIONAL MARXISM AND "/>
              </a:rPr>
              <a:t>Traditional Marxism and 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a product of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brought about b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apit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rime"/>
          <p:cNvPicPr/>
          <p:nvPr/>
        </p:nvPicPr>
        <p:blipFill>
          <a:blip r:embed="rId1"/>
          <a:stretch/>
        </p:blipFill>
        <p:spPr>
          <a:xfrm>
            <a:off x="685800" y="2003400"/>
            <a:ext cx="3809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ne hand it suggests that working-class people are simpl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nocent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eople who are picked on by the pol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ther hand it suggests that working class people who engage in crime are really engaged i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tio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y opposing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anipul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asic val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morality of a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ety i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ominat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controlled by those at the he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ol is maintained via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ocialisation proces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hammock2"/>
          <p:cNvPicPr/>
          <p:nvPr/>
        </p:nvPicPr>
        <p:blipFill>
          <a:blip r:embed="rId1"/>
          <a:stretch/>
        </p:blipFill>
        <p:spPr>
          <a:xfrm>
            <a:off x="324000" y="2349360"/>
            <a:ext cx="41018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ALU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LF-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BigBrotherPoster"/>
          <p:cNvPicPr/>
          <p:nvPr/>
        </p:nvPicPr>
        <p:blipFill>
          <a:blip r:embed="rId1"/>
          <a:stretch/>
        </p:blipFill>
        <p:spPr>
          <a:xfrm>
            <a:off x="900000" y="1628640"/>
            <a:ext cx="3205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al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reflects the will of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x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is a reflection of the will of the power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conomic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guarante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 the rich can manipulate the rest of us and pass laws that benefi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set the agend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law creation"/>
          <p:cNvPicPr/>
          <p:nvPr/>
        </p:nvPicPr>
        <p:blipFill>
          <a:blip r:embed="rId1"/>
          <a:stretch/>
        </p:blipFill>
        <p:spPr>
          <a:xfrm>
            <a:off x="851040" y="1641600"/>
            <a:ext cx="3479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34100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ublic Order and Criminal Justice Act (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drummer"/>
          <p:cNvPicPr/>
          <p:nvPr/>
        </p:nvPicPr>
        <p:blipFill>
          <a:blip r:embed="rId1"/>
          <a:stretch/>
        </p:blipFill>
        <p:spPr>
          <a:xfrm>
            <a:off x="324000" y="2349360"/>
            <a:ext cx="43876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eet crime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more likely to be pursued by police tha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whit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llar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cr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ensified policing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poorer individuals and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poor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o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criminal justice system while the rich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LAW ENFORCEMENT"/>
          <p:cNvPicPr/>
          <p:nvPr/>
        </p:nvPicPr>
        <p:blipFill>
          <a:blip r:embed="rId1"/>
          <a:stretch/>
        </p:blipFill>
        <p:spPr>
          <a:xfrm>
            <a:off x="979560" y="1641600"/>
            <a:ext cx="3220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NDIVIDUAL MOTIVATION FOR CR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capitalist societies the cultural stress in o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petition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not cooperation, and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quisition of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sire for money can lead those who are blocked off fro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te chan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gaining wealth to turn t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riminal method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ano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e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built into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1" descr="materialism"/>
          <p:cNvPicPr/>
          <p:nvPr/>
        </p:nvPicPr>
        <p:blipFill>
          <a:blip r:embed="rId1"/>
          <a:stretch/>
        </p:blipFill>
        <p:spPr>
          <a:xfrm>
            <a:off x="685800" y="2521080"/>
            <a:ext cx="3809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Left ide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gnore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onsequenc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for the victims of street cr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eet crime tends to b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ra-clas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, not inter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ems to suggest that the high rate of recorded crime among the working class, youth and blacks is solely the outcome of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iased poli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t the same time they argue the laws are biased against the working class,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orcing them into c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 all laws are in the interests of the ruling-cla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02:16Z</dcterms:created>
  <dc:creator>aileend</dc:creator>
  <dc:description/>
  <dc:language>en-US</dc:language>
  <cp:lastModifiedBy>RomaK</cp:lastModifiedBy>
  <dcterms:modified xsi:type="dcterms:W3CDTF">2015-09-02T09:55:38Z</dcterms:modified>
  <cp:revision>8</cp:revision>
  <dc:subject/>
  <dc:title>Traditional Marxism and crime and deviance</dc:title>
</cp:coreProperties>
</file>