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14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99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B4206-828C-434C-A42F-2D42D3C9273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 Patrick was born in Scotland in 385 A.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 Patrick was born in Scotland in 385 A.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day Americans march in parade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Americans march in parade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nce the Irish Jig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ce the Irish Jig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ye rivers green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ye rivers green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of course, many people drink lots of bee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f course, many people drink lots of be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ople wear green in memory of Irel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wear green in memory of Irel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lso wear Clover/Shamroc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lso wear Clover/Shamroc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find a four-leaf clover you will have good lu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find a four-leaf clover you will have good lu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ppy Saint Patrick’s Day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y Saint Patrick’s Da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became a pri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became a pri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ent to Ireland to teach people about G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to Ireland to teach people about G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say he drove all the snakes out of Irel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ay he drove all the snakes out of Ire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s say he used shamrocks to teach about the Tri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s say he used shamrocks to teach about the Tri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died March 17 in 461 A.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ied March 17 in 461 A.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prechauns are unfriendly and possess a pot of go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prechauns are unfriendly and possess a pot of g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find a Leprechaun, you can trick him into showing you his go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find a Leprechaun, you can trick him into showing you his g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if you don’t watch the leprechaun very carefully, he and the gold will disappea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if you don’t watch the leprechaun very carefully, he and the gold will disappea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076A-8471-4DE4-980E-44D8F2E84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9988-BE4E-4241-B2D2-3E807CCFF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0B11-6E3F-4937-9049-09EA59B35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26DF-656B-40E7-869D-809E88E08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1D54-43D8-4A72-A1FB-4B62FFA87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2810-9959-4372-B3CE-F64927FD3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3036-1AC8-4278-82CB-0F2030F67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7552-9A8D-4723-A986-B595383B0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A050-4FF5-48FF-8A38-134C66DDB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325A-595B-44C2-9871-B64F3DF0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CB21-7180-4EC4-8154-CBE01563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788A-3B5B-4E0E-BBD8-4CF919A9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99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99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99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cc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99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ccff9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99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99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99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CE6B5-2BCA-4DCD-BF56-FFC44473E6EE}" type="slidenum">
              <a:rPr b="0" lang="en-US" sz="1400" spc="-1" strike="noStrike">
                <a:solidFill>
                  <a:srgbClr val="ccff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St Patrick was born in Scotland in 385 A.D.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52" name="Picture 5" descr="scotland"/>
          <p:cNvPicPr/>
          <p:nvPr/>
        </p:nvPicPr>
        <p:blipFill>
          <a:blip r:embed="rId1"/>
          <a:stretch/>
        </p:blipFill>
        <p:spPr>
          <a:xfrm>
            <a:off x="1393920" y="2093760"/>
            <a:ext cx="6362640" cy="47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Today Americans march in parades…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97" name="Picture 5" descr="HATS%20200%20St"/>
          <p:cNvPicPr/>
          <p:nvPr/>
        </p:nvPicPr>
        <p:blipFill>
          <a:blip r:embed="rId1"/>
          <a:stretch/>
        </p:blipFill>
        <p:spPr>
          <a:xfrm>
            <a:off x="2124000" y="2660760"/>
            <a:ext cx="517860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15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99"/>
                </a:solidFill>
                <a:latin typeface="Tahoma"/>
              </a:rPr>
              <a:t>Dance the Irish Jig…</a:t>
            </a: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102" name="Picture 5" descr="jig"/>
          <p:cNvPicPr/>
          <p:nvPr/>
        </p:nvPicPr>
        <p:blipFill>
          <a:blip r:embed="rId1"/>
          <a:stretch/>
        </p:blipFill>
        <p:spPr>
          <a:xfrm>
            <a:off x="1979640" y="1857240"/>
            <a:ext cx="45054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99"/>
                </a:solidFill>
                <a:latin typeface="Tahoma"/>
              </a:rPr>
              <a:t>Dye rivers green…</a:t>
            </a: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106" name="Picture 7" descr="Chicago-StPatricks-Day17"/>
          <p:cNvPicPr/>
          <p:nvPr/>
        </p:nvPicPr>
        <p:blipFill>
          <a:blip r:embed="rId1"/>
          <a:stretch/>
        </p:blipFill>
        <p:spPr>
          <a:xfrm>
            <a:off x="915840" y="2006640"/>
            <a:ext cx="7275600" cy="46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And of course, many people drink lots of beer!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111" name="Picture 5" descr="Too_much_beer_already_Neil"/>
          <p:cNvPicPr/>
          <p:nvPr/>
        </p:nvPicPr>
        <p:blipFill>
          <a:blip r:embed="rId1"/>
          <a:stretch/>
        </p:blipFill>
        <p:spPr>
          <a:xfrm>
            <a:off x="1119240" y="1704960"/>
            <a:ext cx="651996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People wear green in memory of Ireland 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116" name="Picture 5" descr="C2624-05"/>
          <p:cNvPicPr/>
          <p:nvPr/>
        </p:nvPicPr>
        <p:blipFill>
          <a:blip r:embed="rId1"/>
          <a:stretch/>
        </p:blipFill>
        <p:spPr>
          <a:xfrm>
            <a:off x="3497400" y="2368440"/>
            <a:ext cx="2314440" cy="3419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C2624-07"/>
          <p:cNvPicPr/>
          <p:nvPr/>
        </p:nvPicPr>
        <p:blipFill>
          <a:blip r:embed="rId2"/>
          <a:stretch/>
        </p:blipFill>
        <p:spPr>
          <a:xfrm>
            <a:off x="6056280" y="2332080"/>
            <a:ext cx="2343240" cy="3457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C2342-18"/>
          <p:cNvPicPr/>
          <p:nvPr/>
        </p:nvPicPr>
        <p:blipFill>
          <a:blip r:embed="rId3"/>
          <a:stretch/>
        </p:blipFill>
        <p:spPr>
          <a:xfrm>
            <a:off x="934920" y="2386080"/>
            <a:ext cx="232416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Some also wear Clover/Shamrocks.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123" name="Picture 5" descr="clover-big"/>
          <p:cNvPicPr/>
          <p:nvPr/>
        </p:nvPicPr>
        <p:blipFill>
          <a:blip r:embed="rId1"/>
          <a:stretch/>
        </p:blipFill>
        <p:spPr>
          <a:xfrm>
            <a:off x="1138320" y="1438200"/>
            <a:ext cx="72295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If you find a four-leaf clover you will have good luck.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128" name="Picture 7" descr="four-leaf-clover"/>
          <p:cNvPicPr/>
          <p:nvPr/>
        </p:nvPicPr>
        <p:blipFill>
          <a:blip r:embed="rId1"/>
          <a:stretch/>
        </p:blipFill>
        <p:spPr>
          <a:xfrm>
            <a:off x="1357200" y="16747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ff99"/>
                </a:solidFill>
                <a:latin typeface="Tahoma"/>
              </a:rPr>
              <a:t>Happy Saint Patrick’s Day!</a:t>
            </a:r>
            <a:endParaRPr b="1" lang="en-US" sz="96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99"/>
                </a:solidFill>
                <a:latin typeface="Tahoma"/>
              </a:rPr>
              <a:t>He became a priest</a:t>
            </a: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57" name="Picture 5" descr="stpatrick2"/>
          <p:cNvPicPr/>
          <p:nvPr/>
        </p:nvPicPr>
        <p:blipFill>
          <a:blip r:embed="rId1"/>
          <a:stretch/>
        </p:blipFill>
        <p:spPr>
          <a:xfrm>
            <a:off x="3203640" y="2147760"/>
            <a:ext cx="267012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He went to Ireland to teach people about God.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62" name="Picture 5" descr="UK"/>
          <p:cNvPicPr/>
          <p:nvPr/>
        </p:nvPicPr>
        <p:blipFill>
          <a:blip r:embed="rId1"/>
          <a:stretch/>
        </p:blipFill>
        <p:spPr>
          <a:xfrm>
            <a:off x="2674800" y="1765440"/>
            <a:ext cx="3935520" cy="50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Some say he drove all the snakes out of Ireland.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67" name="Picture 5" descr="snakes"/>
          <p:cNvPicPr/>
          <p:nvPr/>
        </p:nvPicPr>
        <p:blipFill>
          <a:blip r:embed="rId1"/>
          <a:stretch/>
        </p:blipFill>
        <p:spPr>
          <a:xfrm>
            <a:off x="1595520" y="2459160"/>
            <a:ext cx="564516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Others say he used shamrocks to teach about the Trinity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72" name="Picture 5" descr="patrick"/>
          <p:cNvPicPr/>
          <p:nvPr/>
        </p:nvPicPr>
        <p:blipFill>
          <a:blip r:embed="rId1"/>
          <a:stretch/>
        </p:blipFill>
        <p:spPr>
          <a:xfrm>
            <a:off x="1265400" y="2075040"/>
            <a:ext cx="2199960" cy="3762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shamrocks"/>
          <p:cNvPicPr/>
          <p:nvPr/>
        </p:nvPicPr>
        <p:blipFill>
          <a:blip r:embed="rId2"/>
          <a:stretch/>
        </p:blipFill>
        <p:spPr>
          <a:xfrm>
            <a:off x="3952800" y="2862360"/>
            <a:ext cx="29354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99"/>
                </a:solidFill>
                <a:latin typeface="Tahoma"/>
              </a:rPr>
              <a:t>He died March 17 in 461 A.D.</a:t>
            </a: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78" name="Picture 5" descr="0011_st_patrick"/>
          <p:cNvPicPr/>
          <p:nvPr/>
        </p:nvPicPr>
        <p:blipFill>
          <a:blip r:embed="rId1"/>
          <a:stretch/>
        </p:blipFill>
        <p:spPr>
          <a:xfrm>
            <a:off x="2270160" y="1438200"/>
            <a:ext cx="406728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Leprechauns are unfriendly and possess a pot of gold.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82" name="Picture 13" descr="leprechaun"/>
          <p:cNvPicPr/>
          <p:nvPr/>
        </p:nvPicPr>
        <p:blipFill>
          <a:blip r:embed="rId1"/>
          <a:stretch/>
        </p:blipFill>
        <p:spPr>
          <a:xfrm>
            <a:off x="2292480" y="1789200"/>
            <a:ext cx="4667040" cy="47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Місце для дати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Місце для нижнього колонтитула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If you find a Leprechaun, you can trick him into showing you his gold.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86" name="Picture 4" descr="leprechaun"/>
          <p:cNvPicPr/>
          <p:nvPr/>
        </p:nvPicPr>
        <p:blipFill>
          <a:blip r:embed="rId1"/>
          <a:stretch/>
        </p:blipFill>
        <p:spPr>
          <a:xfrm>
            <a:off x="882720" y="1706400"/>
            <a:ext cx="3251160" cy="4699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41%20Pot%20O%20Gold%2010'%20x%2010'"/>
          <p:cNvPicPr/>
          <p:nvPr/>
        </p:nvPicPr>
        <p:blipFill>
          <a:blip r:embed="rId2"/>
          <a:stretch/>
        </p:blipFill>
        <p:spPr>
          <a:xfrm>
            <a:off x="4556160" y="1819440"/>
            <a:ext cx="390204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But if you don’t watch the leprechaun very carefully, he and the gold will disappear!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92" name="Picture 5" descr="ll83"/>
          <p:cNvPicPr/>
          <p:nvPr/>
        </p:nvPicPr>
        <p:blipFill>
          <a:blip r:embed="rId1"/>
          <a:stretch/>
        </p:blipFill>
        <p:spPr>
          <a:xfrm>
            <a:off x="1341360" y="2149560"/>
            <a:ext cx="626580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8T21:33:35Z</dcterms:created>
  <dc:creator>Laura Bergells</dc:creator>
  <dc:description>Free Saint Patrick's Day PowerPoint!</dc:description>
  <cp:keywords>March Saint Patrick St. Patrick's Day</cp:keywords>
  <dc:language>en-US</dc:language>
  <cp:lastModifiedBy>RomaK</cp:lastModifiedBy>
  <dcterms:modified xsi:type="dcterms:W3CDTF">2015-09-02T09:55:32Z</dcterms:modified>
  <cp:revision>15</cp:revision>
  <dc:subject>St. Patrick's Day</dc:subject>
  <dc:title>Saint Patrick's Day PowerPoint Template</dc:title>
</cp:coreProperties>
</file>