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move the slide</a:t>
            </a:r>
            <a:endParaRPr b="0" lang="en-US" sz="4400" spc="-1" strike="noStrike">
              <a:solidFill>
                <a:srgbClr val="b2b2b2"/>
              </a:solidFill>
              <a:latin typeface="Arial"/>
            </a:endParaRPr>
          </a:p>
        </p:txBody>
      </p:sp>
      <p:sp>
        <p:nvSpPr>
          <p:cNvPr id="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7E7DE-8FCF-49CA-946F-323EE84B3BA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are the intentions behind this idea? What was it trying to d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ly, can you give a good working definition of the term ‘political correctness?’ What does it mean to you? Where and how did you come into contact with this particular defin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intentions behind this idea? What was it trying to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what ways should people approach such subjects? Can you think of descriptive words that define how we might begin to open up and talk honestly about these subjects that concern us 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Political correctness – in its modern us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term ‘political correctness’ is said t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ave emerged in the 1960s. It was initia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aken seriously as an idea by the Radical Lef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ut its meaning mutated to the extent that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ecame a means of self-criticism 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lf-sati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Political correctness – in its modern us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term ‘political correctness’ is sai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ve emerged in the 1960s. It was initi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aken seriously as an idea by the Radical Lef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ut its meaning mutated to the extent tha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ecame a means of self-criticism an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sat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as the term took on a different mean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became a means of self-satire, a guar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gainst orthodoxy in progressive social movemen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instance in Feminism’s criticisms of the ant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rnography movement. (E. Will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as the term took on a different mea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became a means of self-satire, a gu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gainst orthodoxy in progressive social move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instance in Feminism’s criticisms of the ant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rnography movement. (E. Will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 write done a list of emotions that might be experienced were you to be the subject of an insult that homes in on your race, sexuality, gender, disability. Why do these words have such an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question of Prince Harry’s (and subsequently Prince Charles – heirs to the throne both), do you believe the response  to their comments was disproportionate? Can such terms be seen as affectionate ‘nickna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journalist Riazitt Butt reflects 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is experiences growing up in the UK 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1970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other words, terms such as ‘Paki’ are not inoffensive terms of affection. They are often the prelude to vicious racist attack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journalist Riazitt Butt reflect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is experiences growing up in the UK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1970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other words, terms such as ‘Paki’ are not inoffensive terms of affection. They are often the prelude to vicious racist attack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kind of society accustoms itself to perceiving women as ‘sluts,’ ‘dogs,’ ‘bitches,’ and regards such words as ‘only a bit of f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rds are simply the thin end of the wedge; headlines lik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one opposite serve simply to soften up public opin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o that the groups targeted feel powerless and alone, whi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est of us feel under no obligation to offer support 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ympathy.  Why should we? They are taking our jobs an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ringing crime to our street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kind of society accustoms itself to perceiving women as ‘sluts,’ ‘dogs,’ ‘bitches,’ and regards such words as ‘only a bit of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terms originate as unambiguously pejorative. 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cess of dehumanisation has been used to justify slavery and the Jewish Holocaust. Words work. They lay the groundwork and offer licence to real, political bigo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ds are simply the thin end of the wedge; headlines li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one opposite serve simply to soften up public opin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o that the groups targeted feel powerless and alone, wh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est of us feel under no obligation to offer support 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ympathy.  Why should we? They are taking our job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ringing crime to our stree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 language be reclaimed? Many black males call one another ‘nigger,’ a powerful word infused with racist meanin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y men and women have also attempted to reconfigure the meanings of ‘queer’ and ‘dy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language be reclaimed? Many black males call one another ‘nigger,’ a powerful word infused with racist mea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y men and women have also attempted to reconfigure the meanings of ‘queer’ and ‘dy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r>
              <a:rPr b="0" lang="en-US" sz="1200" spc="-1" strike="noStrike">
                <a:solidFill>
                  <a:srgbClr val="ffffff"/>
                </a:solidFill>
                <a:latin typeface="Arial"/>
              </a:rPr>
              <a:t>The ugliest forms of political correctness occur when there is a war on. Then you’d better watch what you say.’ (D.William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itical correctness’: Thou Shalt Not Question Anyth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fact it is often the political Right who seek to police our thoughts and language, and from far more sinister motives than the empowering of marginalised social group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The ugliest forms of political correctness occur when there is a war on. Then you’d better watch what you say.’ (D.Willi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olitical correctness’: Thou Shalt Not Question Any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cism and Langu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cism and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Pac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Private Eye magazine, similar stories, all without factual basis, have run in the British press since first appearing in The Sun in 198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2B16B-4F33-4A3F-87D2-3889343D42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22D66-6842-4567-B477-2018BAF404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026441-37DA-4039-87D9-3CE0A4178B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13370-7D44-4E16-BF6B-9464B05947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6A30B-068E-4CF4-9F73-B67FD69152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2EB26C-0847-4FA7-BEA9-5E645DC13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C21C3-B569-4E13-B998-5A44437FF3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94B025-75C8-4841-86B9-36D9BEA837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A80610-E179-4B63-8DF1-48F8B4B79E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42E424-DFC0-4EDD-B412-29E8CE298D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2034C8-669D-4990-B882-4BFB1F3BF6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EB0841-7035-41A1-8599-C74CF277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6C700-D4D5-499A-BB90-B0D6289DC7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B70CC-7743-465F-9B2D-4F218A7C60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1C5F68-B501-457A-A055-F6631C3E9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32F9CA-7C4C-4EE6-9C13-E381A4B547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06F0012-7031-48C9-9B36-04752BE648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FECC67-10BA-40BF-9346-4282E989E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9D7CF-6652-403B-8943-942AC6745B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7C258B-1969-41AB-BA8E-5B2DDCC0FB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9A29CE-083F-44D8-A126-01E29C25EC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C9146-DD43-4319-B177-FFA5DD9B6D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727580-E14F-4050-B100-A862F6CF72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7632F4-5121-4C72-94AB-57ED9DC817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0" y="3902040"/>
            <a:ext cx="3400560" cy="2949480"/>
            <a:chOff x="0" y="3902040"/>
            <a:chExt cx="3400560" cy="2949480"/>
          </a:xfrm>
        </p:grpSpPr>
        <p:sp>
          <p:nvSpPr>
            <p:cNvPr id="1"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EF28F-D82F-4B11-8E99-AF8F084669CC}"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Group 2"/>
          <p:cNvGrpSpPr/>
          <p:nvPr/>
        </p:nvGrpSpPr>
        <p:grpSpPr>
          <a:xfrm>
            <a:off x="0" y="3902040"/>
            <a:ext cx="3400560" cy="2949480"/>
            <a:chOff x="0" y="3902040"/>
            <a:chExt cx="3400560" cy="2949480"/>
          </a:xfrm>
        </p:grpSpPr>
        <p:sp>
          <p:nvSpPr>
            <p:cNvPr id="50" name="Freeform 3"/>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Freeform 4"/>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5"/>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6"/>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Oval 7"/>
            <p:cNvSpPr/>
            <p:nvPr/>
          </p:nvSpPr>
          <p:spPr>
            <a:xfrm>
              <a:off x="331920" y="4419720"/>
              <a:ext cx="136440" cy="13644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Oval 8"/>
            <p:cNvSpPr/>
            <p:nvPr/>
          </p:nvSpPr>
          <p:spPr>
            <a:xfrm>
              <a:off x="2438280" y="6165720"/>
              <a:ext cx="146160" cy="146160"/>
            </a:xfrm>
            <a:prstGeom prst="ellipse">
              <a:avLst/>
            </a:prstGeom>
            <a:gradFill rotWithShape="0">
              <a:gsLst>
                <a:gs pos="0">
                  <a:srgbClr val="010199"/>
                </a:gs>
                <a:gs pos="100000">
                  <a:srgbClr val="000000"/>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Oval 9"/>
            <p:cNvSpPr/>
            <p:nvPr/>
          </p:nvSpPr>
          <p:spPr>
            <a:xfrm>
              <a:off x="1255680" y="4322880"/>
              <a:ext cx="192240" cy="191880"/>
            </a:xfrm>
            <a:prstGeom prst="ellipse">
              <a:avLst/>
            </a:prstGeom>
            <a:gradFill rotWithShape="0">
              <a:gsLst>
                <a:gs pos="0">
                  <a:srgbClr val="010199"/>
                </a:gs>
                <a:gs pos="100000">
                  <a:srgbClr val="000000"/>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58"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F82FE-A6B2-4051-9BB8-59C94E712502}"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upload.wikimedia.org/wikipedia/commons/d/d6/No_Political_Correctness.svg" TargetMode="Externa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en.wikipedia.org/wiki/Private_Eye_(magazine)" TargetMode="External"/><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11280" y="-100080"/>
            <a:ext cx="7772400" cy="155592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b2b2b2"/>
                </a:solidFill>
                <a:latin typeface="Arial"/>
              </a:rPr>
              <a:t>Racism and Language</a:t>
            </a:r>
            <a:endParaRPr b="0" lang="en-US" sz="4800" spc="-1" strike="noStrike">
              <a:solidFill>
                <a:srgbClr val="b2b2b2"/>
              </a:solidFill>
              <a:latin typeface="Arial"/>
            </a:endParaRPr>
          </a:p>
        </p:txBody>
      </p:sp>
      <p:sp>
        <p:nvSpPr>
          <p:cNvPr id="106" name="PlaceHolder 2"/>
          <p:cNvSpPr>
            <a:spLocks noGrp="1"/>
          </p:cNvSpPr>
          <p:nvPr>
            <p:ph type="subTitle"/>
          </p:nvPr>
        </p:nvSpPr>
        <p:spPr>
          <a:xfrm>
            <a:off x="1042920" y="1267920"/>
            <a:ext cx="6400800" cy="1752840"/>
          </a:xfrm>
          <a:prstGeom prst="rect">
            <a:avLst/>
          </a:prstGeom>
          <a:noFill/>
          <a:ln w="0">
            <a:noFill/>
          </a:ln>
        </p:spPr>
        <p:txBody>
          <a:bodyPr anchor="t">
            <a:noAutofit/>
          </a:bodyPr>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e often hear people complain about how ‘political correctness’ has ‘gotten out of hand.’ It is said by some that it is impossible to know what words are offensive and inoffensive to others. The implication is that society has become far too sensitive about identity. </a:t>
            </a:r>
            <a:endParaRPr b="0" lang="en-US" sz="1600" spc="-1" strike="noStrike">
              <a:solidFill>
                <a:srgbClr val="ffffff"/>
              </a:solidFill>
              <a:latin typeface="Arial"/>
            </a:endParaRPr>
          </a:p>
          <a:p>
            <a:pPr marL="30492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irstly, can you give a good working definition of the term ‘political correctness?’ What does it mean to you? Where and how did you come into contact with this particular definition? </a:t>
            </a:r>
            <a:endParaRPr b="0" lang="en-US" sz="1600" spc="-1" strike="noStrike">
              <a:solidFill>
                <a:srgbClr val="ffffff"/>
              </a:solidFill>
              <a:latin typeface="Arial"/>
            </a:endParaRPr>
          </a:p>
          <a:p>
            <a:pPr marL="304920" indent="-304920" algn="ctr">
              <a:lnSpc>
                <a:spcPct val="80000"/>
              </a:lnSpc>
              <a:spcBef>
                <a:spcPts val="400"/>
              </a:spcBef>
              <a:buClr>
                <a:srgbClr val="ffffcc"/>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are the intentions behind this idea? What was it trying to do?</a:t>
            </a:r>
            <a:endParaRPr b="0" lang="en-US" sz="1600" spc="-1" strike="noStrike">
              <a:solidFill>
                <a:srgbClr val="ffffff"/>
              </a:solidFill>
              <a:latin typeface="Arial"/>
            </a:endParaRPr>
          </a:p>
          <a:p>
            <a:pPr marL="30492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07" name="Picture 5" descr="File:No Political Correctness.svg">
            <a:hlinkClick r:id="rId1"/>
          </p:cNvPr>
          <p:cNvPicPr/>
          <p:nvPr/>
        </p:nvPicPr>
        <p:blipFill>
          <a:blip r:embed="rId2"/>
          <a:stretch/>
        </p:blipFill>
        <p:spPr>
          <a:xfrm>
            <a:off x="2916360" y="4076640"/>
            <a:ext cx="2641320" cy="264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3" name="PlaceHolder 2"/>
          <p:cNvSpPr>
            <a:spLocks noGrp="1"/>
          </p:cNvSpPr>
          <p:nvPr>
            <p:ph/>
          </p:nvPr>
        </p:nvSpPr>
        <p:spPr>
          <a:xfrm>
            <a:off x="468360" y="836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o, language and our use of words clearly have an impact. They can be used to unite and find common identities and values, or they can be used to drive a wedge between people from diverse social groups. They can confirm or they can diminish an individual’s humanity and individuality.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the controversy remains: we should of course be able to talk to each other about any issue at all. This is how people come to understand one another. By talking we can identify common values. ‘Political correctness’ or whatever you wish to call it, should not be about a simple censorship of words. There are words and phrases which are designed to offend and intimidate. But that should not stop us from discussing the subjects they often refer to: gender, sexuality, race, ethnicity, class.</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ffff"/>
                </a:solidFill>
                <a:latin typeface="Arial"/>
              </a:rPr>
              <a:t>In what ways should people approach such subjects? Can you think of descriptive words that define how we might begin to open up and talk honestly about these subjects that concern us all?</a:t>
            </a:r>
            <a:endParaRPr b="0" lang="en-US" sz="1600" spc="-1" strike="noStrike">
              <a:solidFill>
                <a:srgbClr val="ffffff"/>
              </a:solidFill>
              <a:latin typeface="Arial"/>
            </a:endParaRPr>
          </a:p>
        </p:txBody>
      </p:sp>
      <p:pic>
        <p:nvPicPr>
          <p:cNvPr id="134" name="Picture 5" descr="cooperation"/>
          <p:cNvPicPr/>
          <p:nvPr/>
        </p:nvPicPr>
        <p:blipFill>
          <a:blip r:embed="rId1"/>
          <a:stretch/>
        </p:blipFill>
        <p:spPr>
          <a:xfrm>
            <a:off x="2771640" y="4508640"/>
            <a:ext cx="2992680" cy="2208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09" name="PlaceHolder 2"/>
          <p:cNvSpPr>
            <a:spLocks noGrp="1"/>
          </p:cNvSpPr>
          <p:nvPr>
            <p:ph/>
          </p:nvPr>
        </p:nvSpPr>
        <p:spPr>
          <a:xfrm>
            <a:off x="179280" y="184428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3. Now list as many words or terms that you know are perceived as insulting, or belittling to different social groups (see Wikipedia for a full rundown of ‘ethnic slurs’). Do you know the provenance of any of these terms? Where did they originate and in what context are they used?</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4. </a:t>
            </a:r>
            <a:r>
              <a:rPr b="1" lang="en-GB" sz="1600" spc="-1" strike="noStrike" u="sng">
                <a:solidFill>
                  <a:srgbClr val="ffffff"/>
                </a:solidFill>
                <a:uFillTx/>
                <a:latin typeface="Arial"/>
              </a:rPr>
              <a:t>Political correctness</a:t>
            </a:r>
            <a:r>
              <a:rPr b="1" lang="en-GB" sz="1600" spc="-1" strike="noStrike">
                <a:solidFill>
                  <a:srgbClr val="ffffff"/>
                </a:solidFill>
                <a:latin typeface="Arial"/>
              </a:rPr>
              <a:t> – in its modern usage,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term ‘political correctness’ is said to</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ave emerged in the 1960s. It was initially</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aken seriously as an idea by the Radical Lef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ut its meaning mutated to the extent that it</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ecame a means of self-criticism and </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elf-satire. </a:t>
            </a:r>
            <a:endParaRPr b="0" lang="en-US" sz="1600" spc="-1" strike="noStrike">
              <a:solidFill>
                <a:srgbClr val="ffffff"/>
              </a:solidFill>
              <a:latin typeface="Arial"/>
            </a:endParaRPr>
          </a:p>
        </p:txBody>
      </p:sp>
      <p:pic>
        <p:nvPicPr>
          <p:cNvPr id="110" name="Picture 7" descr="racism"/>
          <p:cNvPicPr/>
          <p:nvPr/>
        </p:nvPicPr>
        <p:blipFill>
          <a:blip r:embed="rId1"/>
          <a:stretch/>
        </p:blipFill>
        <p:spPr>
          <a:xfrm>
            <a:off x="5985000" y="2852640"/>
            <a:ext cx="2981160" cy="3854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2" name="PlaceHolder 2"/>
          <p:cNvSpPr>
            <a:spLocks noGrp="1"/>
          </p:cNvSpPr>
          <p:nvPr>
            <p:ph/>
          </p:nvPr>
        </p:nvSpPr>
        <p:spPr>
          <a:xfrm>
            <a:off x="108000" y="1412640"/>
            <a:ext cx="8229600" cy="4530600"/>
          </a:xfrm>
          <a:prstGeom prst="rect">
            <a:avLst/>
          </a:prstGeom>
          <a:noFill/>
          <a:ln w="0">
            <a:noFill/>
          </a:ln>
        </p:spPr>
        <p:txBody>
          <a:bodyPr anchor="t">
            <a:normAutofit fontScale="89000"/>
          </a:bodyPr>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For instance, T.Bambara’s ‘The Black Woman’ argued that ‘a man cannot be politically correct and a male chauvinist too.’ At this stage the term is taken seriously. Personal behaviour was under scrutiny, and was expected to reflect the individual's professed politics. Fair enough you might say. Pulling out ‘Penthouse’ and expecting your partner to get the household chores completed, whilst simultaneously defining yourself as a Feminist was not particularly consistent!</a:t>
            </a: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3052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as the term took on a different meaning</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t became a means of self-satire, a guard</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against orthodoxy in progressive social movement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for instance in Feminism’s criticisms of the anti-</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rnography movement. (E. Willis)</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52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endParaRPr b="0" lang="en-US" sz="1600" spc="-1" strike="noStrike">
              <a:solidFill>
                <a:srgbClr val="ffffff"/>
              </a:solidFill>
              <a:latin typeface="Arial"/>
            </a:endParaRPr>
          </a:p>
        </p:txBody>
      </p:sp>
      <p:pic>
        <p:nvPicPr>
          <p:cNvPr id="113" name="Picture 5" descr="AfricanSlaveTradePoster"/>
          <p:cNvPicPr/>
          <p:nvPr/>
        </p:nvPicPr>
        <p:blipFill>
          <a:blip r:embed="rId1"/>
          <a:stretch/>
        </p:blipFill>
        <p:spPr>
          <a:xfrm>
            <a:off x="5940360" y="2997360"/>
            <a:ext cx="3044880" cy="3743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5" name="PlaceHolder 2"/>
          <p:cNvSpPr>
            <a:spLocks noGrp="1"/>
          </p:cNvSpPr>
          <p:nvPr>
            <p:ph/>
          </p:nvPr>
        </p:nvSpPr>
        <p:spPr>
          <a:xfrm>
            <a:off x="108000" y="1196640"/>
            <a:ext cx="8229600" cy="453060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owever, before elements of Political Correctness began to reflect on the power of language, it was routine to hear racist, sexist, homophobic and xenophobic language on a daily basis, from buses and street corners to comedians, journalists and politician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u="sng">
                <a:solidFill>
                  <a:srgbClr val="ffffff"/>
                </a:solidFill>
                <a:uFillTx/>
                <a:latin typeface="Arial"/>
              </a:rPr>
              <a:t>Question</a:t>
            </a:r>
            <a:r>
              <a:rPr b="1" lang="en-GB" sz="1600" spc="-1" strike="noStrike">
                <a:solidFill>
                  <a:srgbClr val="ffffff"/>
                </a:solidFill>
                <a:latin typeface="Arial"/>
              </a:rPr>
              <a:t> – write done a list of emotions that might be experienced were you to be the subject of an insult that homes in on your race, sexuality, gender, disability. Why do these words have such an impact?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On the question of Prince Harry’s (and subsequently Prince Charles – heirs to the throne both), do you believe the response  to their comments was disproportionate? Can such terms be seen as affectionate ‘nickname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6" name="Picture 5" descr="prince-harry-paki-2"/>
          <p:cNvPicPr/>
          <p:nvPr/>
        </p:nvPicPr>
        <p:blipFill>
          <a:blip r:embed="rId1"/>
          <a:stretch/>
        </p:blipFill>
        <p:spPr>
          <a:xfrm>
            <a:off x="2124000" y="4005360"/>
            <a:ext cx="4800600" cy="26953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18" name="PlaceHolder 2"/>
          <p:cNvSpPr>
            <a:spLocks noGrp="1"/>
          </p:cNvSpPr>
          <p:nvPr>
            <p:ph/>
          </p:nvPr>
        </p:nvSpPr>
        <p:spPr>
          <a:xfrm>
            <a:off x="0" y="2060280"/>
            <a:ext cx="8229600" cy="453060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journalist Riazitt Butt reflects o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his experiences growing up in the UK in</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1970s;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Growing up in the late 70s and 80s it was something that I often heard in the playground. It was something my dad heard at the factory he worked in. And there was never any reply. What do you say to someone who, in two syllables, has judged you to be second-class, dirty and disgusting?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aki is the reason someone threw an egg at my brothers and sisters and me as we walked to school. I can't forget the shock, thinking someone had chucked a glass bottle at us. An egg, thrown from a moving car, really hurts. And what can you do when you're halfway between home and school with yolk running down the side of your face? You wipe it off with your sleeve and keep walking. It's a word that takes me back to my childhood, a time of fear and prejudice, when people could get away with racial abuse because it wasn't seen as racial abuse but as an acceptable term for a minority that looked funny and smelled funny.’ </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In other words, terms such as ‘Paki’ are not inoffensive terms of affection. They are often the prelude to vicious racist attacks.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19" name="Picture 5" descr="_1619668_graffiti300"/>
          <p:cNvPicPr/>
          <p:nvPr/>
        </p:nvPicPr>
        <p:blipFill>
          <a:blip r:embed="rId1"/>
          <a:stretch/>
        </p:blipFill>
        <p:spPr>
          <a:xfrm>
            <a:off x="5435640" y="1197000"/>
            <a:ext cx="2857320" cy="1714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68360" y="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1" name="PlaceHolder 2"/>
          <p:cNvSpPr>
            <a:spLocks noGrp="1"/>
          </p:cNvSpPr>
          <p:nvPr>
            <p:ph/>
          </p:nvPr>
        </p:nvSpPr>
        <p:spPr>
          <a:xfrm>
            <a:off x="250920" y="981000"/>
            <a:ext cx="8229600" cy="4530960"/>
          </a:xfrm>
          <a:prstGeom prst="rect">
            <a:avLst/>
          </a:prstGeom>
          <a:noFill/>
          <a:ln w="0">
            <a:noFill/>
          </a:ln>
        </p:spPr>
        <p:txBody>
          <a:bodyPr anchor="t">
            <a:normAutofit fontScale="86000"/>
          </a:bodyPr>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hat kind of society accustoms itself to perceiving women as ‘sluts,’ ‘dogs,’ ‘bitches,’ and regards such words as ‘only a bit of fun?’</a:t>
            </a: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Such terms originate as unambiguously </a:t>
            </a:r>
            <a:r>
              <a:rPr b="1" i="1" lang="en-GB" sz="1600" spc="-1" strike="noStrike">
                <a:solidFill>
                  <a:srgbClr val="ffffff"/>
                </a:solidFill>
                <a:latin typeface="Arial"/>
              </a:rPr>
              <a:t>pejorative. </a:t>
            </a:r>
            <a:r>
              <a:rPr b="1" lang="en-GB" sz="1600" spc="-1" strike="noStrike">
                <a:solidFill>
                  <a:srgbClr val="ffffff"/>
                </a:solidFill>
                <a:latin typeface="Arial"/>
              </a:rPr>
              <a:t>They are intended, without irony or humour, to undermine and dehumanise the individual. Suddenly, with the trigger of a single phrase, the individual is reduced to a ‘thing;’ a sum total of stereotypes and caricatures. S/he no longer has to be confronted as a human being, but as ‘culturally backward,’ ‘criminal,’ or ‘less than human’, and thereby less deriving of the rights others take for granted.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The process of </a:t>
            </a:r>
            <a:r>
              <a:rPr b="1" i="1" lang="en-GB" sz="1600" spc="-1" strike="noStrike">
                <a:solidFill>
                  <a:srgbClr val="ffffff"/>
                </a:solidFill>
                <a:latin typeface="Arial"/>
              </a:rPr>
              <a:t>dehumanisation</a:t>
            </a:r>
            <a:r>
              <a:rPr b="1" lang="en-GB" sz="1600" spc="-1" strike="noStrike">
                <a:solidFill>
                  <a:srgbClr val="ffffff"/>
                </a:solidFill>
                <a:latin typeface="Arial"/>
              </a:rPr>
              <a:t> has been used to justify slavery and the Jewish Holocaust. Words work. They lay the groundwork and offer licence to real, political bigots. </a:t>
            </a:r>
            <a:endParaRPr b="0" lang="en-US" sz="1600" spc="-1" strike="noStrike">
              <a:solidFill>
                <a:srgbClr val="ffffff"/>
              </a:solidFill>
              <a:latin typeface="Arial"/>
            </a:endParaRPr>
          </a:p>
          <a:p>
            <a:pPr marL="2948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29484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Words are simply the thin end of the wedge; headlines like  </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one opposite serve simply to soften up public opinion</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o that the groups targeted feel powerless and alone, while</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the rest of us feel under no obligation to offer support or</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sympathy.  Why should we? They are taking our jobs and</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bringing crime to our streets.</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22" name="Picture 7" descr="e1670308-785329"/>
          <p:cNvPicPr/>
          <p:nvPr/>
        </p:nvPicPr>
        <p:blipFill>
          <a:blip r:embed="rId1"/>
          <a:stretch/>
        </p:blipFill>
        <p:spPr>
          <a:xfrm>
            <a:off x="6659640" y="4076640"/>
            <a:ext cx="2068560" cy="2641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68360" y="-17136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an language be reclaimed? Many black males call one another ‘nigger,’ a powerful word infused with racist meaning.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Hip hop music in particular is littered with its usage. But many black people are uncomfortable about this attempt to diffuse a term previously burdened with racist baggage. Use of the word is now banned from stages around New York.</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Gay men and women have also attempted to reconfigure the meanings of ‘queer’ and ‘dyke.’</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But for Riazat Butt: ‘There is always talk when incidents like these occur of the power that can be derived from reclaiming a word. But I never associated ‘Paki’ with anything positive. Nobody could or should try to reclaim it.’</a:t>
            </a:r>
            <a:endParaRPr b="0" lang="en-US" sz="1600" spc="-1" strike="noStrike">
              <a:solidFill>
                <a:srgbClr val="ffffff"/>
              </a:solidFill>
              <a:latin typeface="Arial"/>
            </a:endParaRPr>
          </a:p>
        </p:txBody>
      </p:sp>
      <p:pic>
        <p:nvPicPr>
          <p:cNvPr id="125" name="Picture 17" descr="leunig-ban-the-business-burqa-cartoon"/>
          <p:cNvPicPr/>
          <p:nvPr/>
        </p:nvPicPr>
        <p:blipFill>
          <a:blip r:embed="rId1"/>
          <a:stretch/>
        </p:blipFill>
        <p:spPr>
          <a:xfrm>
            <a:off x="2484360" y="3645000"/>
            <a:ext cx="4473720" cy="3085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27" name="PlaceHolder 2"/>
          <p:cNvSpPr>
            <a:spLocks noGrp="1"/>
          </p:cNvSpPr>
          <p:nvPr>
            <p:ph/>
          </p:nvPr>
        </p:nvSpPr>
        <p:spPr>
          <a:xfrm>
            <a:off x="395280" y="1341360"/>
            <a:ext cx="8229600" cy="4530960"/>
          </a:xfrm>
          <a:prstGeom prst="rect">
            <a:avLst/>
          </a:prstGeom>
          <a:noFill/>
          <a:ln w="0">
            <a:noFill/>
          </a:ln>
        </p:spPr>
        <p:txBody>
          <a:bodyPr anchor="t">
            <a:normAutofit/>
          </a:bodyPr>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fact it is often the political Right who seek to police our thoughts and language, and from far more sinister motives than the empowering of marginalised social groups. </a:t>
            </a: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a:t>
            </a:r>
            <a:r>
              <a:rPr b="1" lang="en-GB" sz="1600" spc="-1" strike="noStrike">
                <a:solidFill>
                  <a:srgbClr val="ffffff"/>
                </a:solidFill>
                <a:latin typeface="Arial"/>
              </a:rPr>
              <a:t>The ugliest forms of political correctness occur when there is a war on. Then you’d better watch what you say.’ (D.Williams)</a:t>
            </a:r>
            <a:endParaRPr b="0" lang="en-US" sz="16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In the aftermath of 9/11,  any US citizen seeking to question the strategy of their government left them vulnerable to attacks from powerful voices.  Dissenting ideas were labelled as ‘treasonous’ by shock-jocks such as Bill O’Reilly. A mood of fear and loathing overtook both the printed and visual media. They became besotted with their own version of</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      ‘</a:t>
            </a:r>
            <a:r>
              <a:rPr b="1" lang="en-GB" sz="1600" spc="-1" strike="noStrike">
                <a:solidFill>
                  <a:srgbClr val="ffffff"/>
                </a:solidFill>
                <a:latin typeface="Arial"/>
              </a:rPr>
              <a:t>political correctness’: </a:t>
            </a:r>
            <a:r>
              <a:rPr b="1" i="1" lang="en-GB" sz="1600" spc="-1" strike="noStrike">
                <a:solidFill>
                  <a:srgbClr val="ffffff"/>
                </a:solidFill>
                <a:latin typeface="Arial"/>
              </a:rPr>
              <a:t>Thou Shalt Not Question Anything.</a:t>
            </a:r>
            <a:endParaRPr b="0" lang="en-US" sz="1600" spc="-1" strike="noStrike">
              <a:solidFill>
                <a:srgbClr val="ffffff"/>
              </a:solidFill>
              <a:latin typeface="Arial"/>
            </a:endParaRPr>
          </a:p>
        </p:txBody>
      </p:sp>
      <p:pic>
        <p:nvPicPr>
          <p:cNvPr id="128" name="Picture 5" descr="patriotism"/>
          <p:cNvPicPr/>
          <p:nvPr/>
        </p:nvPicPr>
        <p:blipFill>
          <a:blip r:embed="rId1"/>
          <a:stretch/>
        </p:blipFill>
        <p:spPr>
          <a:xfrm>
            <a:off x="6877080" y="4221000"/>
            <a:ext cx="1511280" cy="250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68360" y="-24300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b2b2b2"/>
                </a:solidFill>
                <a:latin typeface="Arial"/>
              </a:rPr>
              <a:t>Racism and Language</a:t>
            </a:r>
            <a:endParaRPr b="0" lang="en-US" sz="4400" spc="-1" strike="noStrike">
              <a:solidFill>
                <a:srgbClr val="b2b2b2"/>
              </a:solidFill>
              <a:latin typeface="Arial"/>
            </a:endParaRPr>
          </a:p>
        </p:txBody>
      </p:sp>
      <p:sp>
        <p:nvSpPr>
          <p:cNvPr id="130" name="PlaceHolder 2"/>
          <p:cNvSpPr>
            <a:spLocks noGrp="1"/>
          </p:cNvSpPr>
          <p:nvPr>
            <p:ph/>
          </p:nvPr>
        </p:nvSpPr>
        <p:spPr>
          <a:xfrm>
            <a:off x="395280" y="907920"/>
            <a:ext cx="8229600" cy="4530960"/>
          </a:xfrm>
          <a:prstGeom prst="rect">
            <a:avLst/>
          </a:prstGeom>
          <a:noFill/>
          <a:ln w="0">
            <a:noFill/>
          </a:ln>
        </p:spPr>
        <p:txBody>
          <a:bodyPr anchor="t">
            <a:normAutofit/>
          </a:bodyPr>
          <a:p>
            <a:pPr marL="343080" indent="-343080">
              <a:lnSpc>
                <a:spcPct val="80000"/>
              </a:lnSpc>
              <a:spcBef>
                <a:spcPts val="400"/>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Critics of political correctness have been accused of showing the same sensitivity to words as those they claim to be opposing, and of perceiving a political agenda where none exists. For example,  during the 1980s, a number of news outlets claimed that a school altered the nursery rhyme "Baa Baa Black Sheep" to read "Baa Baa Rainbow Sheep." In fact, the nursery, run by Parents and Children Together (</a:t>
            </a:r>
            <a:r>
              <a:rPr b="1" i="1" lang="en-GB" sz="1600" spc="-1" strike="noStrike">
                <a:solidFill>
                  <a:srgbClr val="ffffff"/>
                </a:solidFill>
                <a:latin typeface="Arial"/>
              </a:rPr>
              <a:t>Pact</a:t>
            </a:r>
            <a:r>
              <a:rPr b="1" lang="en-GB" sz="1600" spc="-1" strike="noStrike">
                <a:solidFill>
                  <a:srgbClr val="ffffff"/>
                </a:solidFill>
                <a:latin typeface="Arial"/>
              </a:rPr>
              <a:t>), simply had the kids "turn the song into an action rhyme. ... They sing happy, sad, bouncing, hopping, pink, blue, black and white sheep etc." The spurious claim about the nursery rhyme was widely circulated and later amplified into a suggestion that similar bans applied to the terms "black coffee" and "blackboard." According to </a:t>
            </a:r>
            <a:r>
              <a:rPr b="0" lang="en-GB" sz="1600" spc="-1" strike="noStrike" u="sng">
                <a:solidFill>
                  <a:srgbClr val="ffffcc"/>
                </a:solidFill>
                <a:uFillTx/>
                <a:latin typeface="Arial"/>
                <a:hlinkClick r:id="rId1"/>
              </a:rPr>
              <a:t>Private Eye</a:t>
            </a:r>
            <a:r>
              <a:rPr b="1" lang="en-GB" sz="1600" spc="-1" strike="noStrike">
                <a:solidFill>
                  <a:srgbClr val="ffffff"/>
                </a:solidFill>
                <a:latin typeface="Arial"/>
              </a:rPr>
              <a:t> magazine, similar stories, all without factual basis, have run in the British press since first appearing in The Sun in 1986. </a:t>
            </a:r>
            <a:endParaRPr b="0" lang="en-US" sz="1600" spc="-1" strike="noStrike">
              <a:solidFill>
                <a:srgbClr val="ffffff"/>
              </a:solidFill>
              <a:latin typeface="Arial"/>
            </a:endParaRPr>
          </a:p>
        </p:txBody>
      </p:sp>
      <p:pic>
        <p:nvPicPr>
          <p:cNvPr id="131" name="Picture 5" descr="131432023_5bedd3116a"/>
          <p:cNvPicPr/>
          <p:nvPr/>
        </p:nvPicPr>
        <p:blipFill>
          <a:blip r:embed="rId2"/>
          <a:stretch/>
        </p:blipFill>
        <p:spPr>
          <a:xfrm>
            <a:off x="2627280" y="3789360"/>
            <a:ext cx="3384720" cy="2709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5T17:42:09Z</dcterms:created>
  <dc:creator>mikeco</dc:creator>
  <dc:description/>
  <dc:language>en-US</dc:language>
  <cp:lastModifiedBy>RomaK</cp:lastModifiedBy>
  <dcterms:modified xsi:type="dcterms:W3CDTF">2015-09-02T09:55:18Z</dcterms:modified>
  <cp:revision>7</cp:revision>
  <dc:subject/>
  <dc:title>Racism and Language</dc:title>
</cp:coreProperties>
</file>