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667FF-8F0E-4987-9405-CB82A55DA2A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 Music and Mov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p Music and Mov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 Music and Mov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ussion point – do the people below justify the fame, money and status they enjo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some deserv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than oth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p Music and Mov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point – do the people below justify the fame, money and status they enjo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some deserv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than other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 Music and Mov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Should there be a maximu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ge, for instance, for everyone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stars includ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 Do all such stars have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uine talent that no-one 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p Music and Mov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Should there be a maximum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ge, for instance, for everyon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g stars includ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 Do all such stars have th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uine talent that no-one el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 Stars and Mov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uld stars li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be left alone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joy their nigh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have they, b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oming famou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up the right to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vacy that you 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take for grant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if they know th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in the publ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ye, should they be aware of how their behaviour might influence fa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p Stars and Mov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ould stars lik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be left alone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joy their nigh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 have they, b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coming famous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iven up the right to th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ivacy that you and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 take for grant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if they know th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are in the publ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ye, should they be aware of how their behaviour might influence fan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 Stars and Mov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 movie ratings? Can you name the 5 different ratings films must be given before they can be shown to the general public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movie is given one of these categories, what does it mean is contained within the fil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p Stars and Mov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bout movie ratings? Can you name the 5 different ratings films must be given before they can be shown to the general public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a movie is given one of these categories, what does it mean is contained within the film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 Stars and Mov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uld people be allowed, in a democracy, to watch any movie they feel like, regardless of age? What restrictions would you make, if any, were someone to give you the authority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p Stars and Mov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ould people be allowed, in a democracy, to watch any movie they feel like, regardless of age? What restrictions would you make, if any, were someone to give you the authority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EEFC-FD90-4BE6-951E-616ED8D58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159E-7CC5-4046-BCB7-B48529B36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A8F2-450A-4416-ACC9-16DAA2131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847A-5D6C-44CF-8331-F8F78FE67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0924-1FB3-4E77-A0D8-8CB05659B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8E7D-0B50-427B-B644-F4F206C79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3D77-B2EA-4BA8-B5DD-E41E35DEA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B99F-8A61-49AC-8B14-5BF592648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4BED-52AC-44ED-AF52-F7D49DF9F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6B7F-F726-41A7-AAC6-203CF726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7A8D-4BE0-4457-99B3-746F4F97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964C-1F6B-4172-93BD-88A4F4F6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D50EF-D8ED-46B0-A7D2-994A177C3180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-316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7e7ff"/>
                </a:solidFill>
                <a:latin typeface="Arial"/>
              </a:rPr>
              <a:t>Pop Music and Movies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5" descr="pmrlogo"/>
          <p:cNvPicPr/>
          <p:nvPr/>
        </p:nvPicPr>
        <p:blipFill>
          <a:blip r:embed="rId1"/>
          <a:stretch/>
        </p:blipFill>
        <p:spPr>
          <a:xfrm>
            <a:off x="1403280" y="1413000"/>
            <a:ext cx="662472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7e7ff"/>
                </a:solidFill>
                <a:latin typeface="Arial"/>
              </a:rPr>
              <a:t>Pop Music and Movies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Discussion point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– do the people below justify the fame, money and status they enjo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o some deser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ore than other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5" descr="michael_jackson"/>
          <p:cNvPicPr/>
          <p:nvPr/>
        </p:nvPicPr>
        <p:blipFill>
          <a:blip r:embed="rId1"/>
          <a:stretch/>
        </p:blipFill>
        <p:spPr>
          <a:xfrm>
            <a:off x="6659640" y="5013360"/>
            <a:ext cx="2225520" cy="1663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Beyonce%20Knowles_19"/>
          <p:cNvPicPr/>
          <p:nvPr/>
        </p:nvPicPr>
        <p:blipFill>
          <a:blip r:embed="rId2"/>
          <a:stretch/>
        </p:blipFill>
        <p:spPr>
          <a:xfrm>
            <a:off x="2987640" y="4221000"/>
            <a:ext cx="3311640" cy="2482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christina_aguilera_300x400"/>
          <p:cNvPicPr/>
          <p:nvPr/>
        </p:nvPicPr>
        <p:blipFill>
          <a:blip r:embed="rId3"/>
          <a:stretch/>
        </p:blipFill>
        <p:spPr>
          <a:xfrm>
            <a:off x="7020000" y="2924280"/>
            <a:ext cx="1428840" cy="1904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nirvana"/>
          <p:cNvPicPr/>
          <p:nvPr/>
        </p:nvPicPr>
        <p:blipFill>
          <a:blip r:embed="rId4"/>
          <a:stretch/>
        </p:blipFill>
        <p:spPr>
          <a:xfrm>
            <a:off x="539640" y="3860640"/>
            <a:ext cx="2173320" cy="2821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e_arcticmonkeys_wideweb__470x352,2"/>
          <p:cNvPicPr/>
          <p:nvPr/>
        </p:nvPicPr>
        <p:blipFill>
          <a:blip r:embed="rId5"/>
          <a:stretch/>
        </p:blipFill>
        <p:spPr>
          <a:xfrm>
            <a:off x="3492360" y="2205000"/>
            <a:ext cx="244800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7e7ff"/>
                </a:solidFill>
                <a:latin typeface="Arial"/>
              </a:rPr>
              <a:t>Pop Music and Movies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ould there be a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maximum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wage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, for instance, for everyon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ig stars includ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* Do all such stars have t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enuine talent that no-one el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a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5" descr="PiratesCaribbean2_322x200"/>
          <p:cNvPicPr/>
          <p:nvPr/>
        </p:nvPicPr>
        <p:blipFill>
          <a:blip r:embed="rId1"/>
          <a:stretch/>
        </p:blipFill>
        <p:spPr>
          <a:xfrm>
            <a:off x="4716360" y="4508640"/>
            <a:ext cx="3598920" cy="2235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aol-free-movies"/>
          <p:cNvPicPr/>
          <p:nvPr/>
        </p:nvPicPr>
        <p:blipFill>
          <a:blip r:embed="rId2"/>
          <a:stretch/>
        </p:blipFill>
        <p:spPr>
          <a:xfrm>
            <a:off x="324000" y="1557360"/>
            <a:ext cx="343836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7e7ff"/>
                </a:solidFill>
                <a:latin typeface="Arial"/>
              </a:rPr>
              <a:t>Pop Stars and Movies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-252360" y="169992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ould stars li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se be left alone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joy their nigh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r have they, b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ecoming famou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iven up the right to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ivacy that you 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 take for grant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d if they know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y are in the publ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ye, should they be aware of how their behaviour might influence fan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5" descr="_lll3"/>
          <p:cNvPicPr/>
          <p:nvPr/>
        </p:nvPicPr>
        <p:blipFill>
          <a:blip r:embed="rId1"/>
          <a:stretch/>
        </p:blipFill>
        <p:spPr>
          <a:xfrm>
            <a:off x="3708360" y="1484280"/>
            <a:ext cx="523872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7e7ff"/>
                </a:solidFill>
                <a:latin typeface="Arial"/>
              </a:rPr>
              <a:t>Pop Stars and Movies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at about movie ratings? Can you name the 5 different ratings films must be given before they can be shown to the general public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a movie is given one of these categories, what does it mean is contained within the fil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5" descr="happyfeet3"/>
          <p:cNvPicPr/>
          <p:nvPr/>
        </p:nvPicPr>
        <p:blipFill>
          <a:blip r:embed="rId1"/>
          <a:stretch/>
        </p:blipFill>
        <p:spPr>
          <a:xfrm>
            <a:off x="5435640" y="2997360"/>
            <a:ext cx="3543120" cy="1828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PGcert"/>
          <p:cNvPicPr/>
          <p:nvPr/>
        </p:nvPicPr>
        <p:blipFill>
          <a:blip r:embed="rId2"/>
          <a:stretch/>
        </p:blipFill>
        <p:spPr>
          <a:xfrm>
            <a:off x="3203640" y="3213000"/>
            <a:ext cx="2066760" cy="1495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cert_15large"/>
          <p:cNvPicPr/>
          <p:nvPr/>
        </p:nvPicPr>
        <p:blipFill>
          <a:blip r:embed="rId3"/>
          <a:stretch/>
        </p:blipFill>
        <p:spPr>
          <a:xfrm>
            <a:off x="6300720" y="551664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JasonComic1"/>
          <p:cNvPicPr/>
          <p:nvPr/>
        </p:nvPicPr>
        <p:blipFill>
          <a:blip r:embed="rId4"/>
          <a:stretch/>
        </p:blipFill>
        <p:spPr>
          <a:xfrm>
            <a:off x="1619280" y="2924280"/>
            <a:ext cx="1430280" cy="20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7e7ff"/>
                </a:solidFill>
                <a:latin typeface="Arial"/>
              </a:rPr>
              <a:t>Pop Stars and Movies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ould people be allowed, in a democracy, to watch any movie they feel like, regardless of age? What restrictions would you make, if any, were someone to give you the authority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5" descr="H_cert"/>
          <p:cNvPicPr/>
          <p:nvPr/>
        </p:nvPicPr>
        <p:blipFill>
          <a:blip r:embed="rId1"/>
          <a:stretch/>
        </p:blipFill>
        <p:spPr>
          <a:xfrm>
            <a:off x="2195640" y="2708280"/>
            <a:ext cx="51242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9T17:18:45Z</dcterms:created>
  <dc:creator>mikecowley</dc:creator>
  <dc:description/>
  <dc:language>en-US</dc:language>
  <cp:lastModifiedBy>RomaK</cp:lastModifiedBy>
  <dcterms:modified xsi:type="dcterms:W3CDTF">2015-09-02T09:55:09Z</dcterms:modified>
  <cp:revision>4</cp:revision>
  <dc:subject/>
  <dc:title>Pop Music and Movies</dc:title>
</cp:coreProperties>
</file>