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6855-2DE4-4550-A477-E0B6E53951A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s born Cassius Clay in 1942 in Louisiana, US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took up boxing after a police officer found him fuming at the loss of his stolen bike, and advised him to let off steam constructivel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won the gold medal at the 1960 Olympics in Rome, though after being refused entry to a whites-only restaurant, he is said to have thrown it into the Ohio riv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was born Cassius Clay in 1942 in Louisiana, US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ook up boxing after a police officer found him fuming at the loss of his stolen bike, and advised him to let off steam constructive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on the gold medal at the 1960 Olympics in Rome, though after being refused entry to a whites-only restaurant, he is said to have thrown it into the Ohio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f you dream of beating me, you better wake up and apologi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f you dream of beating me, you better wake up and apolog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64, Cassius Clay changed his name to Muhammad Ali. ‘Cassius Clay is a slave name. I didn’t choose it and I don’t want it. I am Muhammad Ali, a free ma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What’s my name, fool? What’s my name?’ Ali to Ernie Terrell during their 1967 fight. Terrell had refused to call him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joins the Nation of Islam, and in 1967, after only 21 minutes deliberation, Ali is found guilty of a serious felony for refusing to be conscripted into the US Army to fight the Vietnam War. Explaining his decision, Ali points out that, ‘I ain’t got no quarrel with them Vietcong. They never called me a nigg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64, Cassius Clay changed his name to Muhammad Ali. ‘Cassius Clay is a slave name. I didn’t choose it and I don’t want it. I am Muhammad Ali, a free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s my name, fool? What’s my name?’ Ali to Ernie Terrell during their 1967 fight. Terrell had refused to call him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joins the Nation of Islam, and in 1967, after only 21 minutes deliberation, Ali is found guilty of a serious felony for refusing to be conscripted into the US Army to fight the Vietnam War. Explaining his decision, Ali points out that, ‘I ain’t got no quarrel with them Vietcong. They never called me a nig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Hating people because of their colour is wrong, and it doesn’t matter which colour does the hating. It’s just plain wro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returned to boxing in 1970. The 70s were perhaps Ali’s most famous years. He fought Joe Frazier (‘Frazier is so ugly that when he cries, the tears turn around and go down the back of his head’) in the so-called ‘Fight of the Century’ in Madison Square Garden. Frazier won, though Ali was to beat him in two further bouts, one of which, the ‘Thrilla in Manila’, went 15 rounds. Afterwards, Ali was to say that he had experienced ‘what death feels 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most famous bout was however, the ‘Rumble in the Jungle’ against the mighty George Foreman. Again, no-one gave Ali a hope of winning. Foreman was feared throughout the boxing world; his previous 8 fights had not gone beyond the 2nd rou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ating people because of their colour is wrong, and it doesn’t matter which colour does the hating. It’s just plain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returned to boxing in 1970. The 70s were perhaps Ali’s most famous years. He fought Joe Frazier (‘Frazier is so ugly that when he cries, the tears turn around and go down the back of his head’) in the so-called ‘Fight of the Century’ in Madison Square Garden. Frazier won, though Ali was to beat him in two further bouts, one of which, the ‘Thrilla in Manila’, went 15 rounds. Afterwards, Ali was to say that he had experienced ‘what death feel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most famous bout was however, the ‘Rumble in the Jungle’ against the mighty George Foreman. Again, no-one gave Ali a hope of winning. Foreman was feared throughout the boxing world; his previous 8 fights had not gone beyond the 2nd 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Service to others is the rent you pay for your room here on ea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ervice to others is the rent you pay for your room here o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again ‘shook up the world,’ ‘dancing’ around Foreman until the champion was exhausted. Then Ali moved in and stopped Foreman for a sensational knock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s legendary status was now assured. He fought again, and retained the World Heavyweight Title more than any other champion in boxing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 again ‘shook up the world,’ ‘dancing’ around Foreman until the champion was exhausted. Then Ali moved in and stopped Foreman for a sensational knock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s legendary status was now assured. He fought again, and retained the World Heavyweight Title more than any other champion in boxing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hammad 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984, Ali was diagnosed with Parkinson’s disease. The symptoms include tremors, a tightening of the muscles, and slowness of movement and speec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watch these clips of him fighting, and see for yourselves what all the fuss was ab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4, Ali was diagnosed with Parkinson’s disease. The symptoms include tremors, a tightening of the muscles, and slowness of movement and spee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atch these clips of him fighting, and see for yourselves what all the fuss was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9093F6-D0EB-4F78-A816-7D232A75E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0472B-C9CC-4BB5-8BDA-9A1B0B498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5735A6-3C45-4110-A4F0-BB073DC44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D5438-77A2-4B14-8719-24FB22FE58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7CA83-EAE2-4427-9CAD-19BABCEEC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168B62-D45A-48B5-874C-5656B2325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02D83-0B36-4BD8-95E3-8D215DCF6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6BE305-D3B7-4105-AD1E-BD73FBAA1C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5D5C5-3FEC-4655-BB20-6F267953E0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230289-1A32-4C70-AF1E-553DA4AD1D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40ACF-DC9C-4384-9E68-8838ED94DD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B584D7-05D9-4915-92B6-B8E5BEDDA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8C22E5-CEB4-443B-8842-828587949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09EDA-C320-4B7B-96B9-38CDB14740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5AE38-85B1-424A-85A6-49C19EC4FD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F008C2-0B0A-486F-B9F1-F87710DED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E1E846-37B1-419B-8C19-D1E395C9A5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9CFE84-4A97-4707-8955-434E7F05C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A7D844-0FE3-4CE3-9E3B-497E4DDEF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4335E-FAB3-45C5-ACA1-0B18F8719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2DFC4-06A8-464A-A989-C21E0BDCA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DEF0B-BBE5-4D45-9441-378B3F928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30FFA-5682-464E-9D37-A3B0E9B6E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1E3D1-19DE-4E41-9A39-9B85A282A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D1C12-2081-40A5-85B9-BAE83815111C}"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308D6-8254-46F3-A3A4-F8C09FE1519E}"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88640"/>
            <a:ext cx="7772400" cy="15555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Muhammad Ali</a:t>
            </a:r>
            <a:endParaRPr b="0" lang="en-US" sz="4800" spc="-1" strike="noStrike">
              <a:solidFill>
                <a:srgbClr val="b2b2b2"/>
              </a:solidFill>
              <a:latin typeface="Arial"/>
            </a:endParaRPr>
          </a:p>
        </p:txBody>
      </p:sp>
      <p:sp>
        <p:nvSpPr>
          <p:cNvPr id="106" name="PlaceHolder 2"/>
          <p:cNvSpPr>
            <a:spLocks noGrp="1"/>
          </p:cNvSpPr>
          <p:nvPr>
            <p:ph type="subTitle"/>
          </p:nvPr>
        </p:nvSpPr>
        <p:spPr>
          <a:xfrm>
            <a:off x="0" y="1557360"/>
            <a:ext cx="6400800" cy="175248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uhammad Ali has been crowned the ‘Greatest Sportsman of the Century’ by the BBC and ‘Sports Illustrated’. So why is Ali so highly regarded by people all over the world?  Why do so many sports fans consider him the ‘greatest?’</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was born </a:t>
            </a:r>
            <a:r>
              <a:rPr b="1" i="1" lang="en-GB" sz="1800" spc="-1" strike="noStrike">
                <a:solidFill>
                  <a:srgbClr val="ffffff"/>
                </a:solidFill>
                <a:latin typeface="Arial"/>
              </a:rPr>
              <a:t>Cassius Clay</a:t>
            </a:r>
            <a:r>
              <a:rPr b="1" lang="en-GB" sz="1800" spc="-1" strike="noStrike">
                <a:solidFill>
                  <a:srgbClr val="ffffff"/>
                </a:solidFill>
                <a:latin typeface="Arial"/>
              </a:rPr>
              <a:t> in 1942 in Louisiana, USA.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took up boxing after a police officer found him fuming at the loss of his stolen bike, and advised him to let off steam constructively.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 won the gold medal at the 1960 Olympics in Rome, though after being refused entry to a whites-only restaurant, he is said to have thrown it into the Ohio river. </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07" name="Picture 5" descr="040_SP0052~Muhammad-Ali-Posters"/>
          <p:cNvPicPr/>
          <p:nvPr/>
        </p:nvPicPr>
        <p:blipFill>
          <a:blip r:embed="rId1"/>
          <a:stretch/>
        </p:blipFill>
        <p:spPr>
          <a:xfrm>
            <a:off x="6372360" y="1628640"/>
            <a:ext cx="2600280" cy="392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Arial"/>
              </a:rPr>
              <a:t>‘</a:t>
            </a:r>
            <a:r>
              <a:rPr b="1" i="1" lang="en-GB" sz="2000" spc="-1" strike="noStrike">
                <a:solidFill>
                  <a:srgbClr val="ffffff"/>
                </a:solidFill>
                <a:latin typeface="Arial"/>
              </a:rPr>
              <a:t>If you dream of beating me, you better wake up and apologise.’</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li’s first professional title fight was against Sonny Liston. No-one expected this young upstart to stay the distance with the formidable champion, but Ali knocked Liston out, and announced to the TV cameras, ‘I shook up the world!’</a:t>
            </a:r>
            <a:endParaRPr b="0" lang="en-US" sz="2000" spc="-1" strike="noStrike">
              <a:solidFill>
                <a:srgbClr val="ffffff"/>
              </a:solidFill>
              <a:latin typeface="Arial"/>
            </a:endParaRPr>
          </a:p>
        </p:txBody>
      </p:sp>
      <p:pic>
        <p:nvPicPr>
          <p:cNvPr id="110" name="Picture 5" descr="Muhammad-Ali-Boxing"/>
          <p:cNvPicPr/>
          <p:nvPr/>
        </p:nvPicPr>
        <p:blipFill>
          <a:blip r:embed="rId1"/>
          <a:stretch/>
        </p:blipFill>
        <p:spPr>
          <a:xfrm>
            <a:off x="2700360" y="3933720"/>
            <a:ext cx="3809880" cy="2762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12"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 1964, Cassius Clay changed his name to Muhammad Ali. </a:t>
            </a:r>
            <a:r>
              <a:rPr b="1" i="1" lang="en-GB" sz="1800" spc="-1" strike="noStrike">
                <a:solidFill>
                  <a:srgbClr val="ffffff"/>
                </a:solidFill>
                <a:latin typeface="Arial"/>
              </a:rPr>
              <a:t>‘Cassius Clay is a slave name. I didn’t choose it and I don’t want it. I am Muhammad Ali, a free man…’</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What’s my name, fool? What’s my name?’</a:t>
            </a:r>
            <a:r>
              <a:rPr b="1" lang="en-GB" sz="1800" spc="-1" strike="noStrike">
                <a:solidFill>
                  <a:srgbClr val="ffffff"/>
                </a:solidFill>
                <a:latin typeface="Arial"/>
              </a:rPr>
              <a:t> Ali to Ernie Terrell during their 1967 fight. Terrell had refused to call him Ali.</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joins the Nation of Islam, and in 1967, after only 21 minutes deliberation, Ali is found guilty of a serious felony for refusing to be conscripted into the US Army to fight the Vietnam War. Explaining his decision, Ali points out that, </a:t>
            </a:r>
            <a:r>
              <a:rPr b="1" i="1" lang="en-GB" sz="1800" spc="-1" strike="noStrike">
                <a:solidFill>
                  <a:srgbClr val="ffffff"/>
                </a:solidFill>
                <a:latin typeface="Arial"/>
              </a:rPr>
              <a:t>‘I ain’t got no quarrel with them Vietcong. They never called me a nigger.’</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3" name="Picture 5" descr="muhammed_ali"/>
          <p:cNvPicPr/>
          <p:nvPr/>
        </p:nvPicPr>
        <p:blipFill>
          <a:blip r:embed="rId1"/>
          <a:stretch/>
        </p:blipFill>
        <p:spPr>
          <a:xfrm>
            <a:off x="2771640" y="4076640"/>
            <a:ext cx="3591000" cy="2457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15" name="PlaceHolder 2"/>
          <p:cNvSpPr>
            <a:spLocks noGrp="1"/>
          </p:cNvSpPr>
          <p:nvPr>
            <p:ph/>
          </p:nvPr>
        </p:nvSpPr>
        <p:spPr>
          <a:xfrm>
            <a:off x="0" y="105228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Hating people because of their colour is wrong, and it doesn’t matter which colour does the hating. It’s just plain wrong.’</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returned to boxing in 1970. The 70s were perhaps Ali’s most famous years. He fought Joe Frazier </a:t>
            </a:r>
            <a:r>
              <a:rPr b="1" i="1" lang="en-GB" sz="1800" spc="-1" strike="noStrike">
                <a:solidFill>
                  <a:srgbClr val="ffffff"/>
                </a:solidFill>
                <a:latin typeface="Arial"/>
              </a:rPr>
              <a:t>(‘Frazier is so ugly that when he cries, the tears turn around and go down the back of his head’)</a:t>
            </a:r>
            <a:r>
              <a:rPr b="1" lang="en-GB" sz="1800" spc="-1" strike="noStrike">
                <a:solidFill>
                  <a:srgbClr val="ffffff"/>
                </a:solidFill>
                <a:latin typeface="Arial"/>
              </a:rPr>
              <a:t> in the so-called ‘Fight of the Century’ in Madison Square Garden. Frazier won, though Ali was to beat him in two further bouts, one of which, the ‘Thrilla in Manila’, went 15 rounds. Afterwards, Ali was to say that he had experienced ‘what death feels like.’</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s most famous bout was however, the ‘Rumble in the Jungle’ against the mighty George Foreman. Again, no-one gave Ali a hope of winning. Foreman was feared throughout the boxing world; his previous 8 fights had not gone beyond the 2</a:t>
            </a:r>
            <a:r>
              <a:rPr b="1" lang="en-GB" sz="1800" spc="-1" strike="noStrike" baseline="30000">
                <a:solidFill>
                  <a:srgbClr val="ffffff"/>
                </a:solidFill>
                <a:latin typeface="Arial"/>
              </a:rPr>
              <a:t>nd</a:t>
            </a:r>
            <a:r>
              <a:rPr b="1" lang="en-GB" sz="1800" spc="-1" strike="noStrike">
                <a:solidFill>
                  <a:srgbClr val="ffffff"/>
                </a:solidFill>
                <a:latin typeface="Arial"/>
              </a:rPr>
              <a:t> round!</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16" name="Picture 7" descr="_40466243_ali_foreman_2_300"/>
          <p:cNvPicPr/>
          <p:nvPr/>
        </p:nvPicPr>
        <p:blipFill>
          <a:blip r:embed="rId1"/>
          <a:stretch/>
        </p:blipFill>
        <p:spPr>
          <a:xfrm>
            <a:off x="4572000" y="5224320"/>
            <a:ext cx="1633680" cy="1633680"/>
          </a:xfrm>
          <a:prstGeom prst="rect">
            <a:avLst/>
          </a:prstGeom>
          <a:ln w="0">
            <a:noFill/>
          </a:ln>
        </p:spPr>
      </p:pic>
      <p:pic>
        <p:nvPicPr>
          <p:cNvPr id="117" name="Picture 9" descr="_40466243_ali_foreman_2_300"/>
          <p:cNvPicPr/>
          <p:nvPr/>
        </p:nvPicPr>
        <p:blipFill>
          <a:blip r:embed="rId2"/>
          <a:stretch/>
        </p:blipFill>
        <p:spPr>
          <a:xfrm>
            <a:off x="6443640" y="5176800"/>
            <a:ext cx="1681200" cy="1681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b2b2b2"/>
                </a:solidFill>
                <a:latin typeface="Arial"/>
              </a:rPr>
              <a:t>‘</a:t>
            </a:r>
            <a:r>
              <a:rPr b="1" i="1" lang="en-GB" sz="4000" spc="-1" strike="noStrike">
                <a:solidFill>
                  <a:srgbClr val="b2b2b2"/>
                </a:solidFill>
                <a:latin typeface="Arial"/>
              </a:rPr>
              <a:t>Service to others is the rent you pay for your room here on earth.’</a:t>
            </a:r>
            <a:endParaRPr b="0" lang="en-US" sz="4000" spc="-1" strike="noStrike">
              <a:solidFill>
                <a:srgbClr val="b2b2b2"/>
              </a:solidFill>
              <a:latin typeface="Arial"/>
            </a:endParaRPr>
          </a:p>
        </p:txBody>
      </p:sp>
      <p:pic>
        <p:nvPicPr>
          <p:cNvPr id="119" name="Picture 4" descr="zaire"/>
          <p:cNvPicPr/>
          <p:nvPr/>
        </p:nvPicPr>
        <p:blipFill>
          <a:blip r:embed="rId1"/>
          <a:stretch/>
        </p:blipFill>
        <p:spPr>
          <a:xfrm>
            <a:off x="2124000" y="1628640"/>
            <a:ext cx="5113440" cy="511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 again ‘shook up the world,’ ‘dancing’ around Foreman until the champion was exhausted. Then Ali moved in and stopped Foreman for a sensational knockout!</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i’s legendary status was now assured. He fought again, and retained the World Heavyweight Title more than any other champion in boxing histor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22" name="Picture 5" descr="ali-foreman"/>
          <p:cNvPicPr/>
          <p:nvPr/>
        </p:nvPicPr>
        <p:blipFill>
          <a:blip r:embed="rId1"/>
          <a:stretch/>
        </p:blipFill>
        <p:spPr>
          <a:xfrm>
            <a:off x="3132000" y="3645000"/>
            <a:ext cx="3024360" cy="2970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Muhammad Ali</a:t>
            </a:r>
            <a:endParaRPr b="0" lang="en-US" sz="4400" spc="-1" strike="noStrike">
              <a:solidFill>
                <a:srgbClr val="b2b2b2"/>
              </a:solidFill>
              <a:latin typeface="Arial"/>
            </a:endParaRPr>
          </a:p>
        </p:txBody>
      </p:sp>
      <p:sp>
        <p:nvSpPr>
          <p:cNvPr id="124" name="PlaceHolder 2"/>
          <p:cNvSpPr>
            <a:spLocks noGrp="1"/>
          </p:cNvSpPr>
          <p:nvPr>
            <p:ph/>
          </p:nvPr>
        </p:nvSpPr>
        <p:spPr>
          <a:xfrm>
            <a:off x="179280" y="1557000"/>
            <a:ext cx="8229600" cy="4530600"/>
          </a:xfrm>
          <a:prstGeom prst="rect">
            <a:avLst/>
          </a:prstGeom>
          <a:noFill/>
          <a:ln w="0">
            <a:noFill/>
          </a:ln>
        </p:spPr>
        <p:txBody>
          <a:bodyPr anchor="t">
            <a:normAutofit/>
          </a:bodyPr>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t>
            </a:r>
            <a:r>
              <a:rPr b="1" i="1" lang="en-GB" sz="1800" spc="-1" strike="noStrike">
                <a:solidFill>
                  <a:srgbClr val="ffffff"/>
                </a:solidFill>
                <a:latin typeface="Arial"/>
              </a:rPr>
              <a:t>I done wrestled with an  alligator, I done tussled with a whale; handcuffed lightning, thrown thunder in jail; only last week I murdered a rock, injured a stone, hospitalised a brick; I’m so mean I make medicine sick.’</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 1984, Ali was diagnosed with Parkinson’s disease. The symptoms include tremors, a tightening of the muscles, and slowness of movement and speech.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owever, Ali remains a public figure, praised around the globe for his mastery of the sport of boxing, for standing up for what he believes, and for his courage in fighting the disease that now afflicts him. His daughter also boxes, carrying on the Ali name within the ring.  </a:t>
            </a:r>
            <a:endParaRPr b="0" lang="en-US" sz="1800" spc="-1" strike="noStrike">
              <a:solidFill>
                <a:srgbClr val="ffffff"/>
              </a:solidFill>
              <a:latin typeface="Arial"/>
            </a:endParaRPr>
          </a:p>
          <a:p>
            <a:pPr marL="343080" indent="-343080">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ow watch these clips of him fighting, and see for yourselves what all the fuss was about!</a:t>
            </a:r>
            <a:endParaRPr b="0" lang="en-US" sz="1800" spc="-1" strike="noStrike">
              <a:solidFill>
                <a:srgbClr val="ffffff"/>
              </a:solidFill>
              <a:latin typeface="Arial"/>
            </a:endParaRPr>
          </a:p>
        </p:txBody>
      </p:sp>
      <p:pic>
        <p:nvPicPr>
          <p:cNvPr id="125" name="Picture 5" descr="ali_muhammad1"/>
          <p:cNvPicPr/>
          <p:nvPr/>
        </p:nvPicPr>
        <p:blipFill>
          <a:blip r:embed="rId1"/>
          <a:stretch/>
        </p:blipFill>
        <p:spPr>
          <a:xfrm>
            <a:off x="7667640" y="115920"/>
            <a:ext cx="1238400" cy="162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18T18:06:37Z</dcterms:created>
  <dc:creator>Telford</dc:creator>
  <dc:description/>
  <dc:language>en-US</dc:language>
  <cp:lastModifiedBy>RomaK</cp:lastModifiedBy>
  <dcterms:modified xsi:type="dcterms:W3CDTF">2015-09-02T09:55:04Z</dcterms:modified>
  <cp:revision>8</cp:revision>
  <dc:subject/>
  <dc:title>Muhammad Ali</dc:title>
</cp:coreProperties>
</file>