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B690-6A09-445A-AEF1-D8F8F7A4DD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empty spa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the number Z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when you just sit and be qui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spin (really fast) around the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whol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…DOES THI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 YOU REALLY WANT TO KNOW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FREA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PROMI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…DOES THIS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SPA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TY SPAC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MADE OF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D YOU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FREAK 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D YOU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HIS B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HEAD DOWN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mon…Try really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very still…can you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RUE BECAU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RUE BECAUS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ASSIGN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OME AND 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T QUIETLY FOR AT LEAST 15 MINUT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ASSIGN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NOT TO THINK OF ANYTHING…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IN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SOMETHING INTERESTING HAPPE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IT DOWN…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BACK AND TALK ABOUT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NOW YOU KNOW THA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IS REALLY NO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REALLY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NOW YOU KNOW T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CAN M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IMAGINE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YOU CAN M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F NO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anks t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and Tony for wanting to learn ab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thanks t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possible t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brain still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heart still bea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possible to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n’t you think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n’t you think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how do you get someth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, how do you get someth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nihi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atin word; it mea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 nihil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making somethin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about making something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YOU SAY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SSIBLE YOU SAY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AKE A LOOK AT THE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TAKE A LOOK AT THE AT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5C9-7D5D-4884-8504-856ED2B2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527-353C-4C25-ACAC-AC7F8E4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C01-F64E-4B7E-BE33-1815996C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CE5-1D31-4862-A012-611E639C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AB49B-52E0-44E9-A6C4-7DFDE76F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BF072-F280-48C0-A797-A4684254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DBDB1-D897-4728-B893-C24CE264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ABEFB-3B06-4A53-A260-45EE0C2B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7F22D-F924-42F8-92C6-FDB4FB32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F99F6-217B-4A62-8208-9266749B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AD8B8-5E67-48B7-ABED-72BF0439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D36-50F6-46AA-9C98-80232C1D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7DE5D-0CBD-45D3-B829-8C69733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8CCA5-798D-464F-AA32-95C58A2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F8292-BD4A-4A7A-8F80-45FCA8ED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72EBA-9CDC-4CD9-AECD-1BCA79B8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E670C-A6EE-48FA-B49E-10249F8D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B09-FD4D-4B90-B7AA-D51A6DD6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0AA-BFDB-4A5F-BF43-09AF80F8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641-38AA-45B6-A0D8-6E566C28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E27-B708-4852-BEDF-07760B8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D7A-0AC3-4039-A5D5-D79042A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034-7530-4853-AF12-C2AA3781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426-ABF8-426F-B2A7-4CE07FB0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622D-4ABC-40DE-8BDC-A13BB601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3D0-4A96-4E99-8E95-30FB52BA4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at is Nothing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made of teeny tiny particl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tons, neutrons, and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green and orange dots in the in the middle are calle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cle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tom"/>
          <p:cNvPicPr/>
          <p:nvPr/>
        </p:nvPicPr>
        <p:blipFill>
          <a:blip r:embed="rId1"/>
          <a:stretch/>
        </p:blipFill>
        <p:spPr>
          <a:xfrm>
            <a:off x="3429000" y="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ut this picture is not exactly how real atoms appear. We can imagine the atom a lot bigger to get an idea of what it actually looks like. 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atom"/>
          <p:cNvPicPr/>
          <p:nvPr/>
        </p:nvPicPr>
        <p:blipFill>
          <a:blip r:embed="rId1"/>
          <a:stretch/>
        </p:blipFill>
        <p:spPr>
          <a:xfrm>
            <a:off x="2743200" y="281952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hen the </a:t>
            </a: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whole atom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would be wider than the length of </a:t>
            </a:r>
            <a:r>
              <a:rPr b="1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fifteen football fields! </a:t>
            </a:r>
            <a:br>
              <a:rPr sz="28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no way…YES WAY!!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7" descr="atom"/>
          <p:cNvPicPr/>
          <p:nvPr/>
        </p:nvPicPr>
        <p:blipFill>
          <a:blip r:embed="rId1"/>
          <a:stretch/>
        </p:blipFill>
        <p:spPr>
          <a:xfrm>
            <a:off x="3363840" y="3265560"/>
            <a:ext cx="255276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 WHAT…DOES THIS MEAN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609480" y="990720"/>
            <a:ext cx="815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778120"/>
            <a:ext cx="94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Times New Roman"/>
              </a:rPr>
              <a:t>ARE YOU READY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IT MEANS THAT THE ATOM IS 99.9%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MPTY SPA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D YOU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NOW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IS TRUE BECAUSE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GETH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WHAT WE SEE AS SOLID OBJEC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etween electrons) ARE MADE SOMETHING IS CRE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Vinca"/>
          <p:cNvPicPr/>
          <p:nvPr/>
        </p:nvPicPr>
        <p:blipFill>
          <a:blip r:embed="rId1"/>
          <a:stretch/>
        </p:blipFill>
        <p:spPr>
          <a:xfrm>
            <a:off x="2743200" y="358128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ASSIGNMEN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 FIN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, NOW YOU KNOW THAT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YOU CAN MAK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y thanks t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 it possible to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n’t you thinking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thinker"/>
          <p:cNvPicPr/>
          <p:nvPr/>
        </p:nvPicPr>
        <p:blipFill>
          <a:blip r:embed="rId1"/>
          <a:stretch/>
        </p:blipFill>
        <p:spPr>
          <a:xfrm>
            <a:off x="5029200" y="1752480"/>
            <a:ext cx="26780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, how do you get something…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3e3ff"/>
                </a:solidFill>
                <a:uFillTx/>
                <a:latin typeface="Arial"/>
              </a:rPr>
              <a:t>Ex nihilo</a:t>
            </a: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3520" y="2684520"/>
            <a:ext cx="988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OUT OF NOTHING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ink about making something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IMPOSSIBLE YOU SAY?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 Narrow"/>
              </a:rPr>
              <a:t>LET’S TAKE A LOOK AT THE ATO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atom"/>
          <p:cNvPicPr/>
          <p:nvPr/>
        </p:nvPicPr>
        <p:blipFill>
          <a:blip r:embed="rId1"/>
          <a:stretch/>
        </p:blipFill>
        <p:spPr>
          <a:xfrm>
            <a:off x="228600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2292 0.05294 C 0.02986 0.03953 0.03698 0.02497 0.04392 0.00625 C 0.06285 -0.04715 0.06788 -0.09916 0.05399 -0.10702 C 0.03993 -0.1165 0.01285 -0.07905 -0.00608 -0.02565 C -0.01615 0.00232 -0.02205 0.0289 -0.02413 0.04901 C -0.02708 0.06496 -0.02812 0.08091 -0.02812 0.09963 C -0.02812 0.15951 -0.0151 0.20897 0 0.20897 C 0.01493 0.20897 0.02795 0.15951 0.02795 0.09963 C 0.02795 0.07166 0.025 0.04485 0.01997 0.02636 C 0.01788 0.01018 0.01285 -0.00716 0.00694 -0.0245 C -0.01302 -0.07905 -0.0401 -0.1165 -0.05417 -0.10702 C -0.06806 -0.09778 -0.06302 -0.04715 -0.04306 0.00763 C -0.03507 0.03283 -0.02413 0.05433 -0.01302 0.06889 C -0.00503 0.0823 0.00399 0.09432 0.01597 0.10634 C 0.05191 0.14494 0.08785 0.16228 0.09792 0.14633 C 0.10694 0.13038 0.08698 0.08623 0.05087 0.04901 C 0.03594 0.03283 0.01997 0.02104 0.00694 0.01295 C -0.00503 0.00486 -0.02014 -0.00184 -0.03611 -0.00577 C -0.08003 -0.01895 -0.11806 -0.01502 -0.12101 0.00625 C -0.125 0.02636 -0.09201 0.05294 -0.04809 0.06635 C -0.02812 0.07166 -0.00903 0.07421 0.0059 0.07305 C 0.01892 0.07305 0.03299 0.07028 0.04792 0.06635 C 0.09184 0.05294 0.125 0.02497 0.12083 0.00486 C 0.11788 -0.01502 0.07986 -0.02034 0.03594 -0.00716 C 0.01493 -0.00046 -0.00417 0.00902 -0.01701 0.01965 C -0.02812 0.02751 -0.03906 0.03699 -0.05104 0.04901 C -0.08611 0.08761 -0.10712 0.13038 -0.09705 0.14633 C -0.08802 0.16228 -0.05104 0.14494 -0.01615 0.10773 C 0.000869999999999999 0.089 0.01493 0.07028 0.02292 0.05294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2T09:54:58Z</dcterms:modified>
  <cp:revision>20</cp:revision>
  <dc:subject/>
  <dc:title>PowerPoint Presentation</dc:title>
</cp:coreProperties>
</file>