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793C2-EC73-465B-8DB0-C248F5F7D1C5}"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commemorate Nelson Mandela’s 90th birthday, we are going to take a look at why he became such a globally recognised fig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many of you were born before February 11th 1990? If you were, you would have been around when Mandela was released from a South African Prison, after spending 27 years of his life there, longer than all of you have been aliv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dela was born on the 18th of July 1918 (I was about 10). He studies to be come a lawyer, but soon became involved in the struggle against a system called ‘Apartheid’ that was introduced in his country in 1948. Do any of you know anything about what this system meant for black South African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mmemorate Nelson Mandela’s 90th birthday, we are going to take a look at why he became such a globally recognised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of you were born before February 11th 1990? If you were, you would have been around when Mandela was released from a South African Prison, after spending 27 years of his life there, longer than all of you have been al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dela was born on the 18th of July 1918 (I was about 10). He studies to be come a lawyer, but soon became involved in the struggle against a system called ‘Apartheid’ that was introduced in his country in 1948. Do any of you know anything about what this system meant for black South Afric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Apartheid’ means ‘separateness.’ It was introduced by Dutch colonial settlers in 1948.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ally, it reduced the native population of South Africa to little more than slaves within their own country.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ws were introduced to legalize racial separation. Each child who was born in Apartheid South Africa was given a racial classification on their birth certificate, either Black, White, Coloured or Asian.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ack people were not permitted to travel where they liked (and were constantly stopped by police and asked to provide identific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ack people could not live where they liked, but we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stead herded into areas called ‘Bantustans,’ often th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east desirable parts of their own countr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partheid’ means ‘separateness.’ It was introduced by Dutch colonial settlers in 194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ally, it reduced the native population of South Africa to little more than slaves within their own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ws were introduced to legalize racial separation. Each child who was born in Apartheid South Africa was given a racial classification on their birth certificate, either Black, White, Coloured or Asi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people were not permitted to travel where they liked (and were constantly stopped by police and asked to provide iden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people could not live where they liked, but w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stead herded into areas called ‘Bantustans,’ often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ast desirable parts of their own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test was outlawed. Anyone caught organising a demonstration, reading banned newspapers or speaking against the Apartheid system was in danger of being detained without trial, tortured, imprisoned, even sometimes murdered.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Mandela’s group, the African National Congress committed itself to using non-violent means to protest against this syste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at is, until the Sharpeville Massacre in 1960.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st was outlawed. Anyone caught organising a demonstration, reading banned newspapers or speaking against the Apartheid system was in danger of being detained without trial, tortured, imprisoned, even sometimes murde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andela’s group, the African National Congress committed itself to using non-violent means to protest against this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is, until the Sharpeville Massacre in 196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harpeville Massacre took place on March 21st, 1960. Police opened fire on blacks demonstrating against the policies of the National Party governmen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9 people were killed simply for expressing an opinion.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event was credited by Mandela as forcing the hand of his ANC organisation. They soon resorted to violent methods themselves. Though never targeting civilians, they began to blow up railway lines and other economic target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er, the Soweto Massacre was to have a similar effect on public opinion around the wor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arpeville Massacre took place on March 21st, 1960. Police opened fire on blacks demonstrating against the policies of the National Party gover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people were killed simply for expressing an opin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vent was credited by Mandela as forcing the hand of his ANC organisation. They soon resorted to violent methods themselves. Though never targeting civilians, they began to blow up railway lines and other economic targ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the Soweto Massacre was to have a similar effect on public opinion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oweto Uprisin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ng people had been forced to learn Afrikaans in school, the language of the Dutch settler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were not allowed to speak or learn in their own languag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March 21st 1976, school-children protesting the right to be taught in their own language were shot by police. 69 school-kids died. The day is now commemorated in South Africa as Youth Da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ople around the world were outraged. But it was to be almost 20 years until the Apartheid system collapsed.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the time, Nelson Mandela was serving his time in prison for what the government called ‘terrorist’ activitie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weto Upri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ng people had been forced to learn Afrikaans in school, the language of the Dutch settl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were not allowed to speak or learn in their own langu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March 21st 1976, school-children protesting the right to be taught in their own language were shot by police. 69 school-kids died. The day is now commemorated in South Africa as Youth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around the world were outraged. But it was to be almost 20 years until the Apartheid system collap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time, Nelson Mandela was serving his time in prison for what the government called ‘terrorist’ activ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During my lifetime I have dedicated myself to the struggle of the African people. I have fought against white domination, and I have fought against black domination. I have cherished the ideal of a democratic and free society in which all persons live together in harmony and with equal opportunities. It is an ideal which I hope to live for and to achieve. But if needs be, it is an ideal for which I am prepared to di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lson Mandela’s speech from the dock, Pretoria Courthouse, 1964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uring my lifetime I have dedicated myself to the struggle of the African people. I have fought against white domination, and I have fought against black domination. I have cherished the ideal of a democratic and free society in which all persons live together in harmony and with equal opportunities. It is an ideal which I hope to live for and to achieve. But if needs be, it is an ideal for which I am prepared to d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son Mandela’s speech from the dock, Pretoria Courthouse, 196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being released in 1994, Mandela has received over 100 awards in recognition of the efforts he has made to bring peace and reconciliation to South Africa, and around the wor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nk about some of the following question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would you respond if someone came to your town and removed all your rights, told you where you could travel, where you could work, what schools you could go to and which language you were permitted to speak?</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could not even have relationships with who you chos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being released in 1994, Mandela has received over 100 awards in recognition of the efforts he has made to bring peace and reconciliation to South Africa, and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some of the following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ould you respond if someone came to your town and removed all your rights, told you where you could travel, where you could work, what schools you could go to and which language you were permitted to spe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not even have relationships with who you ch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C9A139C-ACFF-4538-A6C7-7FA4E9C344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ED3B384-47F8-41FF-81EE-057907783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6B28C2D-AD00-48D6-822C-05FD9D8A74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FC9CBE0-55B5-4C00-91DF-9240EFC0BD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1E7ED9-4B7C-407D-A45B-A1B96E449B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646D4D-CB48-4E0C-B17F-B3FB9E02C3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597414-0E0E-48E3-9996-9BE42E26D8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4C653C-5CD6-4974-A9D9-711C9AE56E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EEA98D-7FAB-4EBB-A0BD-EEBDA85DD6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2BD6E1-0013-4BF5-8B74-169C4D85E0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132D6E-9693-4B4A-968A-46A253620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8410B7C-53CF-436A-9579-491EBEA0A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7BED8-82EF-48F6-B98E-1C2DE82F4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48957-BE47-46C1-A3B5-E535AECAB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87DB9C-0CA4-4130-A6A7-9E9F54F7E0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EB8B0B-3716-4E52-AA52-C391141CE5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ED6285-E8FF-450D-A036-5381F7BC7E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347BF2D-21F7-4381-9FF8-5530EF2F2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23F8F58-B647-4D86-8E79-3357A3BCA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13EA7AE-EE9B-4FF1-971E-32D60FAC8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83097F4-5A1F-418C-AE6A-535787C3F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405DB0F-96A5-435A-8A0F-E18257077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8535BB0-5D2C-479E-A932-8C1BD9BFD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0B6B0D2-AD7F-4FFA-ACE7-E4191D9C4A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BD220-2B11-4DE5-9ACF-CEFAC2746075}"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2BB09-A24A-4938-AA78-F0106C0D0D79}"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26920" y="-24300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08" name="PlaceHolder 2"/>
          <p:cNvSpPr>
            <a:spLocks noGrp="1"/>
          </p:cNvSpPr>
          <p:nvPr>
            <p:ph type="subTitle"/>
          </p:nvPr>
        </p:nvSpPr>
        <p:spPr>
          <a:xfrm>
            <a:off x="2627280" y="1699920"/>
            <a:ext cx="6400800" cy="45370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To commemorate Nelson Mandela’s 90</a:t>
            </a:r>
            <a:r>
              <a:rPr b="1" lang="en-GB" sz="1800" spc="-1" strike="noStrike" baseline="30000">
                <a:solidFill>
                  <a:srgbClr val="ffffff"/>
                </a:solidFill>
                <a:latin typeface="Garamond"/>
              </a:rPr>
              <a:t>th</a:t>
            </a:r>
            <a:r>
              <a:rPr b="1" lang="en-GB" sz="1800" spc="-1" strike="noStrike">
                <a:solidFill>
                  <a:srgbClr val="ffffff"/>
                </a:solidFill>
                <a:latin typeface="Garamond"/>
              </a:rPr>
              <a:t> birthday, we are going to take a look at why he became such a globally recognised figure.</a:t>
            </a:r>
            <a:endParaRPr b="0" lang="en-US" sz="1800" spc="-1" strike="noStrike">
              <a:solidFill>
                <a:srgbClr val="ffff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How many of you were born before February 11</a:t>
            </a:r>
            <a:r>
              <a:rPr b="1" lang="en-GB" sz="1800" spc="-1" strike="noStrike" baseline="30000">
                <a:solidFill>
                  <a:srgbClr val="ffffff"/>
                </a:solidFill>
                <a:latin typeface="Garamond"/>
              </a:rPr>
              <a:t>th</a:t>
            </a:r>
            <a:r>
              <a:rPr b="1" lang="en-GB" sz="1800" spc="-1" strike="noStrike">
                <a:solidFill>
                  <a:srgbClr val="ffffff"/>
                </a:solidFill>
                <a:latin typeface="Garamond"/>
              </a:rPr>
              <a:t> 1990? If you were, you would have been around when Mandela was released from a South African Prison, after spending 27 years of his life there, longer than all of you have been alive!</a:t>
            </a:r>
            <a:endParaRPr b="0" lang="en-US" sz="1800" spc="-1" strike="noStrike">
              <a:solidFill>
                <a:srgbClr val="ffff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Mandela was born on the 18</a:t>
            </a:r>
            <a:r>
              <a:rPr b="1" lang="en-GB" sz="1800" spc="-1" strike="noStrike" baseline="30000">
                <a:solidFill>
                  <a:srgbClr val="ffffff"/>
                </a:solidFill>
                <a:latin typeface="Garamond"/>
              </a:rPr>
              <a:t>th</a:t>
            </a:r>
            <a:r>
              <a:rPr b="1" lang="en-GB" sz="1800" spc="-1" strike="noStrike">
                <a:solidFill>
                  <a:srgbClr val="ffffff"/>
                </a:solidFill>
                <a:latin typeface="Garamond"/>
              </a:rPr>
              <a:t> of July 1918 (I was about 10). He studies to be come a lawyer, but soon became involved in the struggle against a system called ‘Apartheid’ that was introduced in his country in 1948. Do any of you know anything about what this system meant for black South Africans?</a:t>
            </a:r>
            <a:endParaRPr b="0" lang="en-US" sz="1800" spc="-1" strike="noStrike">
              <a:solidFill>
                <a:srgbClr val="ffffff"/>
              </a:solidFill>
              <a:latin typeface="Garamond"/>
            </a:endParaRPr>
          </a:p>
        </p:txBody>
      </p:sp>
      <p:pic>
        <p:nvPicPr>
          <p:cNvPr id="109" name="Picture 5" descr="SPL3163~Nelson-Mandela-Freed-Posters"/>
          <p:cNvPicPr/>
          <p:nvPr/>
        </p:nvPicPr>
        <p:blipFill>
          <a:blip r:embed="rId1"/>
          <a:stretch/>
        </p:blipFill>
        <p:spPr>
          <a:xfrm>
            <a:off x="179280" y="2133720"/>
            <a:ext cx="2394000" cy="3206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11" name="PlaceHolder 2"/>
          <p:cNvSpPr>
            <a:spLocks noGrp="1"/>
          </p:cNvSpPr>
          <p:nvPr>
            <p:ph/>
          </p:nvPr>
        </p:nvSpPr>
        <p:spPr>
          <a:xfrm>
            <a:off x="0" y="1341360"/>
            <a:ext cx="8229600" cy="4525920"/>
          </a:xfrm>
          <a:prstGeom prst="rect">
            <a:avLst/>
          </a:prstGeom>
          <a:noFill/>
          <a:ln w="0">
            <a:noFill/>
          </a:ln>
        </p:spPr>
        <p:txBody>
          <a:bodyPr anchor="t">
            <a:normAutofit fontScale="87000"/>
          </a:bodyPr>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a:t>
            </a:r>
            <a:r>
              <a:rPr b="1" lang="en-GB" sz="2000" spc="-1" strike="noStrike">
                <a:solidFill>
                  <a:srgbClr val="ffffff"/>
                </a:solidFill>
                <a:latin typeface="Garamond"/>
              </a:rPr>
              <a:t>Apartheid’ means ‘separateness.’ It was introduced by Dutch colonial settlers in 1948. </a:t>
            </a:r>
            <a:endParaRPr b="0" lang="en-US" sz="2000" spc="-1" strike="noStrike">
              <a:solidFill>
                <a:srgbClr val="ffffff"/>
              </a:solidFill>
              <a:latin typeface="Garamond"/>
            </a:endParaRPr>
          </a:p>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Basically, it reduced the native population of South Africa to little more than slaves within their own country. </a:t>
            </a:r>
            <a:endParaRPr b="0" lang="en-US" sz="2000" spc="-1" strike="noStrike">
              <a:solidFill>
                <a:srgbClr val="ffffff"/>
              </a:solidFill>
              <a:latin typeface="Garamond"/>
            </a:endParaRPr>
          </a:p>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Laws were introduced to legalize racial separation. Each child who was born in Apartheid South Africa was given a racial classification on their birth certificate, either Black, White, Coloured or Asian. </a:t>
            </a:r>
            <a:endParaRPr b="0" lang="en-US" sz="2000" spc="-1" strike="noStrike">
              <a:solidFill>
                <a:srgbClr val="ffffff"/>
              </a:solidFill>
              <a:latin typeface="Garamond"/>
            </a:endParaRPr>
          </a:p>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Black people were not permitted to travel where they liked (and were constantly stopped by police and asked to provide identification).</a:t>
            </a:r>
            <a:endParaRPr b="0" lang="en-US" sz="2000" spc="-1" strike="noStrike">
              <a:solidFill>
                <a:srgbClr val="ffffff"/>
              </a:solidFill>
              <a:latin typeface="Garamond"/>
            </a:endParaRPr>
          </a:p>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Black people could not live where they liked, but were</a:t>
            </a:r>
            <a:endParaRPr b="0" lang="en-US" sz="2000" spc="-1" strike="noStrike">
              <a:solidFill>
                <a:srgbClr val="ffffff"/>
              </a:solidFill>
              <a:latin typeface="Garamond"/>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r>
              <a:rPr b="1" lang="en-GB" sz="2000" spc="-1" strike="noStrike">
                <a:solidFill>
                  <a:srgbClr val="ffffff"/>
                </a:solidFill>
                <a:latin typeface="Garamond"/>
              </a:rPr>
              <a:t>instead herded into areas called ‘Bantustans,’ often the </a:t>
            </a:r>
            <a:endParaRPr b="0" lang="en-US" sz="2000" spc="-1" strike="noStrike">
              <a:solidFill>
                <a:srgbClr val="ffffff"/>
              </a:solidFill>
              <a:latin typeface="Garamond"/>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r>
              <a:rPr b="1" lang="en-GB" sz="2000" spc="-1" strike="noStrike">
                <a:solidFill>
                  <a:srgbClr val="ffffff"/>
                </a:solidFill>
                <a:latin typeface="Garamond"/>
              </a:rPr>
              <a:t>least desirable parts of their own country.</a:t>
            </a:r>
            <a:endParaRPr b="0" lang="en-US" sz="2000" spc="-1" strike="noStrike">
              <a:solidFill>
                <a:srgbClr val="ffffff"/>
              </a:solidFill>
              <a:latin typeface="Garamond"/>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endParaRPr b="0" lang="en-US" sz="2000" spc="-1" strike="noStrike">
              <a:solidFill>
                <a:srgbClr val="ffffff"/>
              </a:solidFill>
              <a:latin typeface="Garamond"/>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endParaRPr b="0" lang="en-US" sz="2000" spc="-1" strike="noStrike">
              <a:solidFill>
                <a:srgbClr val="ffffff"/>
              </a:solidFill>
              <a:latin typeface="Garamond"/>
            </a:endParaRPr>
          </a:p>
        </p:txBody>
      </p:sp>
      <p:pic>
        <p:nvPicPr>
          <p:cNvPr id="112" name="Picture 5" descr="310px-Apartheid_Schëld"/>
          <p:cNvPicPr/>
          <p:nvPr/>
        </p:nvPicPr>
        <p:blipFill>
          <a:blip r:embed="rId1"/>
          <a:stretch/>
        </p:blipFill>
        <p:spPr>
          <a:xfrm>
            <a:off x="6443640" y="4400640"/>
            <a:ext cx="2521080" cy="2309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Protest was outlawed. Anyone caught organising a demonstration, reading banned newspapers or speaking against the Apartheid system was in danger of being detained without trial, tortured, imprisoned, even sometimes murdered.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However, Mandela’s group, the African National Congress committed itself to using non-violent means to protest against this system</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hat is, until the Sharpeville Massacre in 1960. </a:t>
            </a:r>
            <a:endParaRPr b="0" lang="en-US" sz="2000" spc="-1" strike="noStrike">
              <a:solidFill>
                <a:srgbClr val="ffffff"/>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15" name="Picture 5" descr="Apartheid sign"/>
          <p:cNvPicPr/>
          <p:nvPr/>
        </p:nvPicPr>
        <p:blipFill>
          <a:blip r:embed="rId1"/>
          <a:stretch/>
        </p:blipFill>
        <p:spPr>
          <a:xfrm>
            <a:off x="2987640" y="4076640"/>
            <a:ext cx="3456000" cy="259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17" name="PlaceHolder 2"/>
          <p:cNvSpPr>
            <a:spLocks noGrp="1"/>
          </p:cNvSpPr>
          <p:nvPr>
            <p:ph/>
          </p:nvPr>
        </p:nvSpPr>
        <p:spPr>
          <a:xfrm>
            <a:off x="468360" y="1052640"/>
            <a:ext cx="82296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Garamond"/>
              </a:rPr>
              <a:t>The Sharpeville Massacre</a:t>
            </a:r>
            <a:r>
              <a:rPr b="1" lang="en-GB" sz="2000" spc="-1" strike="noStrike">
                <a:solidFill>
                  <a:srgbClr val="ffffff"/>
                </a:solidFill>
                <a:latin typeface="Garamond"/>
              </a:rPr>
              <a:t> took place on March 21</a:t>
            </a:r>
            <a:r>
              <a:rPr b="1" lang="en-GB" sz="2000" spc="-1" strike="noStrike" baseline="30000">
                <a:solidFill>
                  <a:srgbClr val="ffffff"/>
                </a:solidFill>
                <a:latin typeface="Garamond"/>
              </a:rPr>
              <a:t>st</a:t>
            </a:r>
            <a:r>
              <a:rPr b="1" lang="en-GB" sz="2000" spc="-1" strike="noStrike">
                <a:solidFill>
                  <a:srgbClr val="ffffff"/>
                </a:solidFill>
                <a:latin typeface="Garamond"/>
              </a:rPr>
              <a:t>, 1960. Police opened fire on blacks demonstrating against the policies of the National Party government.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69 people were killed simply for expressing an opinion.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his event was credited by Mandela as forcing the hand of his ANC organisation. They soon resorted to violent methods themselves. Though never targeting civilians, they began to blow up railway lines and other economic targets.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Later, the </a:t>
            </a:r>
            <a:r>
              <a:rPr b="1" lang="en-GB" sz="2000" spc="-1" strike="noStrike" u="sng">
                <a:solidFill>
                  <a:srgbClr val="ffffff"/>
                </a:solidFill>
                <a:uFillTx/>
                <a:latin typeface="Garamond"/>
              </a:rPr>
              <a:t>Soweto Massacre</a:t>
            </a:r>
            <a:r>
              <a:rPr b="1" lang="en-GB" sz="2000" spc="-1" strike="noStrike">
                <a:solidFill>
                  <a:srgbClr val="ffffff"/>
                </a:solidFill>
                <a:latin typeface="Garamond"/>
              </a:rPr>
              <a:t> was to have a similar effect on public opinion around the world….</a:t>
            </a:r>
            <a:endParaRPr b="0" lang="en-US" sz="2000" spc="-1" strike="noStrike">
              <a:solidFill>
                <a:srgbClr val="ffffff"/>
              </a:solidFill>
              <a:latin typeface="Garamond"/>
            </a:endParaRPr>
          </a:p>
        </p:txBody>
      </p:sp>
      <p:pic>
        <p:nvPicPr>
          <p:cNvPr id="118" name="Picture 5" descr="305px-Soweto_Riots"/>
          <p:cNvPicPr/>
          <p:nvPr/>
        </p:nvPicPr>
        <p:blipFill>
          <a:blip r:embed="rId1"/>
          <a:stretch/>
        </p:blipFill>
        <p:spPr>
          <a:xfrm>
            <a:off x="6006960" y="4221000"/>
            <a:ext cx="1901880" cy="245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The Soweto Uprising</a:t>
            </a:r>
            <a:endParaRPr b="1" lang="en-US" sz="4400" spc="-1" strike="noStrike">
              <a:solidFill>
                <a:srgbClr val="e5e5ff"/>
              </a:solidFill>
              <a:latin typeface="Garamond"/>
            </a:endParaRPr>
          </a:p>
        </p:txBody>
      </p:sp>
      <p:sp>
        <p:nvSpPr>
          <p:cNvPr id="120" name="PlaceHolder 2"/>
          <p:cNvSpPr>
            <a:spLocks noGrp="1"/>
          </p:cNvSpPr>
          <p:nvPr>
            <p:ph/>
          </p:nvPr>
        </p:nvSpPr>
        <p:spPr>
          <a:xfrm>
            <a:off x="468360" y="1125000"/>
            <a:ext cx="8229600" cy="452628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Young people had been forced to learn Afrikaans in school, the language of the Dutch settlers.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hey were not allowed to speak or learn in their own language.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On March 21</a:t>
            </a:r>
            <a:r>
              <a:rPr b="1" lang="en-GB" sz="2000" spc="-1" strike="noStrike" baseline="30000">
                <a:solidFill>
                  <a:srgbClr val="ffffff"/>
                </a:solidFill>
                <a:latin typeface="Garamond"/>
              </a:rPr>
              <a:t>st</a:t>
            </a:r>
            <a:r>
              <a:rPr b="1" lang="en-GB" sz="2000" spc="-1" strike="noStrike">
                <a:solidFill>
                  <a:srgbClr val="ffffff"/>
                </a:solidFill>
                <a:latin typeface="Garamond"/>
              </a:rPr>
              <a:t> 1976, school-children protesting the right to be taught in their own language were shot by police. 69 school-kids died. The day is now commemorated in South Africa as Youth Day.</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People around the world were outraged. But it was to be almost 20 years until the Apartheid system collapsed.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At the time, Nelson Mandela was serving his time in prison for what the government called ‘terrorist’ activities. </a:t>
            </a:r>
            <a:endParaRPr b="0" lang="en-US" sz="2000" spc="-1" strike="noStrike">
              <a:solidFill>
                <a:srgbClr val="ffffff"/>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21" name="Picture 5" descr="sharpeville"/>
          <p:cNvPicPr/>
          <p:nvPr/>
        </p:nvPicPr>
        <p:blipFill>
          <a:blip r:embed="rId1"/>
          <a:stretch/>
        </p:blipFill>
        <p:spPr>
          <a:xfrm>
            <a:off x="2771640" y="4581360"/>
            <a:ext cx="3672000" cy="2157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Garamond"/>
              </a:rPr>
              <a:t>“</a:t>
            </a:r>
            <a:r>
              <a:rPr b="1" i="1" lang="en-GB" sz="2000" spc="-1" strike="noStrike">
                <a:solidFill>
                  <a:srgbClr val="ffffff"/>
                </a:solidFill>
                <a:latin typeface="Garamond"/>
              </a:rPr>
              <a:t>During my lifetime I have dedicated myself to the struggle of the African people. I have fought against white domination, and I have fought against black domination. I have cherished the ideal of a democratic and free society in which all persons live together in harmony and with equal opportunities. It is an ideal which I hope to live for and to achieve. But if needs be, it is an ideal for which I am prepared to die.”</a:t>
            </a:r>
            <a:endParaRPr b="0" lang="en-US" sz="2000" spc="-1" strike="noStrike">
              <a:solidFill>
                <a:srgbClr val="ffffff"/>
              </a:solidFill>
              <a:latin typeface="Garamond"/>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Nelson Mandela’s speech from the dock, Pretoria Courthouse, 1964 </a:t>
            </a:r>
            <a:endParaRPr b="0" lang="en-US" sz="2000" spc="-1" strike="noStrike">
              <a:solidFill>
                <a:srgbClr val="ffffff"/>
              </a:solidFill>
              <a:latin typeface="Garamond"/>
            </a:endParaRPr>
          </a:p>
        </p:txBody>
      </p:sp>
      <p:pic>
        <p:nvPicPr>
          <p:cNvPr id="124" name="Picture 5" descr="114933-Nelson-Mandela-s-Cell-1"/>
          <p:cNvPicPr/>
          <p:nvPr/>
        </p:nvPicPr>
        <p:blipFill>
          <a:blip r:embed="rId1"/>
          <a:stretch/>
        </p:blipFill>
        <p:spPr>
          <a:xfrm>
            <a:off x="4284720" y="4076640"/>
            <a:ext cx="1886040" cy="2516400"/>
          </a:xfrm>
          <a:prstGeom prst="rect">
            <a:avLst/>
          </a:prstGeom>
          <a:ln w="0">
            <a:noFill/>
          </a:ln>
        </p:spPr>
      </p:pic>
      <p:pic>
        <p:nvPicPr>
          <p:cNvPr id="125" name="Picture 7" descr="nelson_mandela_narrowweb__300x378,0"/>
          <p:cNvPicPr/>
          <p:nvPr/>
        </p:nvPicPr>
        <p:blipFill>
          <a:blip r:embed="rId2"/>
          <a:stretch/>
        </p:blipFill>
        <p:spPr>
          <a:xfrm>
            <a:off x="1258920" y="4149720"/>
            <a:ext cx="1942920" cy="244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Since being released in 1994, Mandela has received over 100 awards in recognition of the efforts he has made to bring peace and reconciliation to South Africa, and around the world.</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hink about some of the following questions;</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Garamond"/>
              </a:rPr>
              <a:t>How would you respond if someone came to your town and removed all your rights, told you where you could travel, where you could work, what schools you could go to and which language you were permitted to speak?</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You could not even have relationships with who you chose!</a:t>
            </a:r>
            <a:endParaRPr b="0" lang="en-US" sz="2000" spc="-1" strike="noStrike">
              <a:solidFill>
                <a:srgbClr val="ffffff"/>
              </a:solidFill>
              <a:latin typeface="Garamond"/>
            </a:endParaRPr>
          </a:p>
        </p:txBody>
      </p:sp>
      <p:pic>
        <p:nvPicPr>
          <p:cNvPr id="128" name="Picture 5" descr="49IMAGE1"/>
          <p:cNvPicPr/>
          <p:nvPr/>
        </p:nvPicPr>
        <p:blipFill>
          <a:blip r:embed="rId1"/>
          <a:stretch/>
        </p:blipFill>
        <p:spPr>
          <a:xfrm>
            <a:off x="3492360" y="4653000"/>
            <a:ext cx="2067120" cy="20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9T10:40:21Z</dcterms:created>
  <dc:creator>Telford</dc:creator>
  <dc:description/>
  <dc:language>en-US</dc:language>
  <cp:lastModifiedBy>RomaK</cp:lastModifiedBy>
  <dcterms:modified xsi:type="dcterms:W3CDTF">2015-09-02T09:54:30Z</dcterms:modified>
  <cp:revision>6</cp:revision>
  <dc:subject/>
  <dc:title>Human Rights - Nelson Mandela</dc:title>
</cp:coreProperties>
</file>