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A58D-AF8C-4771-AFFB-CFC2FB37392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mmemorate Nelson Mandela’s 90th birthday, we are going to take a look at why he became such a globally recognised fig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emorate Nelson Mandela’s 90th birthday, we are going to take a look at why he became such a globally recognised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partheid’ means ‘separateness.’ It was introduced by Dutch colonial settlers in 1948.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ally, it reduced the native population of South Africa to little more than slaves within their own count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were not permitted to travel where they liked (and were constantly stopped by police and asked to provide identific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could not live where they liked, but we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stead herded into areas called ‘Bantustans,’ often th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st desirable parts of their own count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artheid’ means ‘separateness.’ It was introduced by Dutch colonial settlers in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reduced the native population of South Africa to little more than slaves with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were not permitted to travel where they liked (and were constantly stopped by police and asked to provide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could not live where they liked, but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ead herded into areas called ‘Bantustans,’ often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st desirable parts of their own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Mandela’s group, the African National Congress committed itself to using non-violent means to protest against this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is, until the Sharpeville Massacre in 1960.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ndela’s group, the African National Congress committed itself to using non-violent means to protest against thi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until the Sharpeville Massacre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rpeville Massacre took place on March 21st, 1960. Police opened fire on blacks demonstrating against the policies of the National Party governmen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 people were killed simply for expressing an opini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the Soweto Massacre was to have a similar effect on public opinion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eville Massacre took place on March 21st, 1960. Police opened fire on blacks demonstrating against the policies of the National Party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people were killed simply for expressing an opi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Soweto Massacre was to have a similar effect on public opinion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oweto Upris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people had been forced to learn Afrikaans in school, the language of the Dutch settler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not allowed to speak or learn in their own languag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around the world were outraged. But it was to be almost 20 years until the Apartheid system collaps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ime, Nelson Mandela was serving his time in prison for what the government called ‘terrorist’ activitie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weto Up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had been forced to learn Afrikaans in school, the language of the Dutch sett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not allowed to speak or learn in their ow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ound the world were outraged. But it was to be almost 20 years until the Apartheid system collap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Nelson Mandela was serving his time in prison for what the government called ‘terroris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lson Mandela’s speech from the dock, Pretoria Courthouse, 1964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Mandela’s speech from the dock, Pretoria Courthouse, 19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about some of the following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ould not even have relationships with who you ch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some of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not even have relationships with who you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462FFE2-5F99-44CB-9134-8E1449D9E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465E9F6-8A64-4431-B774-2F2A30AB6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EDD2667-8E08-4402-B05D-CAD1B63E1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38F6C32-E989-4E66-B3B7-EEBBC3A22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085BE-208D-4FE5-9B8D-2F56F0F32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0C400-7C78-4F19-AB11-59A80CEB5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9E7F2-D92B-4ECE-92CF-85793F3E2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D7EDB-6480-4D7B-9331-B6F496EC0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5549B-AC16-4CB1-B42F-5A9B830E9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3B6D1-3973-4E21-912F-1D610578F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65D46-DEFA-4B11-8BBF-C12AF22BC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103D13-81D8-49E4-8441-6B6C0E982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1B23D-1E84-4535-8E66-9DA594C42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0B4F9-940B-4955-AF17-4BE489008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27465-FA29-46E4-8F99-E1DCBB7DD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E8A0E-66CF-4DCE-8D60-47809C567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4B483-0CA2-4C49-AD10-53231DE92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B78C1BD-E504-470A-ACBF-9C10E3AEC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209CF4-4E3F-44C9-8D0B-E1EDC3847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DB72E14-314E-4189-B953-15D7FC477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5C44B7-6C5F-4A81-BA87-9C0F31736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0161CC0-92F8-4B78-90DD-0B641FB74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4DD745-4040-4470-9758-33D5C6B7F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328CA0-D300-431A-ACBD-7ABABB66A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A442-7A85-4E38-8B5D-FB5248AE24BD}"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BE09-082B-4628-83EE-F09BE2101B6A}"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243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08" name="PlaceHolder 2"/>
          <p:cNvSpPr>
            <a:spLocks noGrp="1"/>
          </p:cNvSpPr>
          <p:nvPr>
            <p:ph type="subTitle"/>
          </p:nvPr>
        </p:nvSpPr>
        <p:spPr>
          <a:xfrm>
            <a:off x="2627280" y="1699920"/>
            <a:ext cx="6400800" cy="453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 commemorate Nelson Mandela’s 90</a:t>
            </a:r>
            <a:r>
              <a:rPr b="1" lang="en-GB" sz="1800" spc="-1" strike="noStrike" baseline="30000">
                <a:solidFill>
                  <a:srgbClr val="ffffff"/>
                </a:solidFill>
                <a:latin typeface="Garamond"/>
              </a:rPr>
              <a:t>th</a:t>
            </a:r>
            <a:r>
              <a:rPr b="1" lang="en-GB" sz="1800" spc="-1" strike="noStrike">
                <a:solidFill>
                  <a:srgbClr val="ffffff"/>
                </a:solidFill>
                <a:latin typeface="Garamond"/>
              </a:rPr>
              <a:t> birthday, we are going to take a look at why he became such a globally recognised figur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ow many of you were born before February 11</a:t>
            </a:r>
            <a:r>
              <a:rPr b="1" lang="en-GB" sz="1800" spc="-1" strike="noStrike" baseline="30000">
                <a:solidFill>
                  <a:srgbClr val="ffffff"/>
                </a:solidFill>
                <a:latin typeface="Garamond"/>
              </a:rPr>
              <a:t>th</a:t>
            </a:r>
            <a:r>
              <a:rPr b="1" lang="en-GB" sz="1800" spc="-1" strike="noStrike">
                <a:solidFill>
                  <a:srgbClr val="ffffff"/>
                </a:solidFill>
                <a:latin typeface="Garamond"/>
              </a:rPr>
              <a:t> 1990? If you were, you would have been around when Mandela was released from a South African Prison, after spending 27 years of his life there, longer than all of you have been aliv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dela was born on the 18</a:t>
            </a:r>
            <a:r>
              <a:rPr b="1" lang="en-GB" sz="1800" spc="-1" strike="noStrike" baseline="30000">
                <a:solidFill>
                  <a:srgbClr val="ffffff"/>
                </a:solidFill>
                <a:latin typeface="Garamond"/>
              </a:rPr>
              <a:t>th</a:t>
            </a:r>
            <a:r>
              <a:rPr b="1" lang="en-GB" sz="1800" spc="-1" strike="noStrike">
                <a:solidFill>
                  <a:srgbClr val="ffffff"/>
                </a:solidFill>
                <a:latin typeface="Garamond"/>
              </a:rPr>
              <a:t>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800" spc="-1" strike="noStrike">
              <a:solidFill>
                <a:srgbClr val="ffffff"/>
              </a:solidFill>
              <a:latin typeface="Garamond"/>
            </a:endParaRPr>
          </a:p>
        </p:txBody>
      </p:sp>
      <p:pic>
        <p:nvPicPr>
          <p:cNvPr id="109" name="Picture 5" descr="SPL3163~Nelson-Mandela-Freed-Posters"/>
          <p:cNvPicPr/>
          <p:nvPr/>
        </p:nvPicPr>
        <p:blipFill>
          <a:blip r:embed="rId1"/>
          <a:stretch/>
        </p:blipFill>
        <p:spPr>
          <a:xfrm>
            <a:off x="179280" y="2133720"/>
            <a:ext cx="2394000" cy="320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1" name="PlaceHolder 2"/>
          <p:cNvSpPr>
            <a:spLocks noGrp="1"/>
          </p:cNvSpPr>
          <p:nvPr>
            <p:ph/>
          </p:nvPr>
        </p:nvSpPr>
        <p:spPr>
          <a:xfrm>
            <a:off x="0" y="1341360"/>
            <a:ext cx="8229600" cy="4525920"/>
          </a:xfrm>
          <a:prstGeom prst="rect">
            <a:avLst/>
          </a:prstGeom>
          <a:noFill/>
          <a:ln w="0">
            <a:noFill/>
          </a:ln>
        </p:spPr>
        <p:txBody>
          <a:bodyPr anchor="t">
            <a:normAutofit fontScale="87000"/>
          </a:bodyPr>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Apartheid’ means ‘separateness.’ It was introduced by Dutch colonial settlers in 1948.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asically, it reduced the native population of South Africa to little more than slaves within their own country.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ws were introduced to legalize racial separation. Each child who was born in Apartheid South Africa was given a racial classification on their birth certificate, either Black, White, Coloured or Asian.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were not permitted to travel where they liked (and were constantly stopped by police and asked to provide identification).</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could not live where they liked, but were</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nstead herded into areas called ‘Bantustans,’ often the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least desirable parts of their own country.</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12" name="Picture 5" descr="310px-Apartheid_Schëld"/>
          <p:cNvPicPr/>
          <p:nvPr/>
        </p:nvPicPr>
        <p:blipFill>
          <a:blip r:embed="rId1"/>
          <a:stretch/>
        </p:blipFill>
        <p:spPr>
          <a:xfrm>
            <a:off x="6443640" y="4400640"/>
            <a:ext cx="2521080" cy="23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test was outlawed. Anyone caught organising a demonstration, reading banned newspapers or speaking against the Apartheid system was in danger of being detained without trial, tortured, imprisoned, even sometimes murder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However, Mandela’s group, the African National Congress committed itself to using non-violent means to protest against this system</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at is, until the Sharpeville Massacre in 1960.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5" name="Picture 5" descr="Apartheid sign"/>
          <p:cNvPicPr/>
          <p:nvPr/>
        </p:nvPicPr>
        <p:blipFill>
          <a:blip r:embed="rId1"/>
          <a:stretch/>
        </p:blipFill>
        <p:spPr>
          <a:xfrm>
            <a:off x="2987640" y="4076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7" name="PlaceHolder 2"/>
          <p:cNvSpPr>
            <a:spLocks noGrp="1"/>
          </p:cNvSpPr>
          <p:nvPr>
            <p:ph/>
          </p:nvPr>
        </p:nvSpPr>
        <p:spPr>
          <a:xfrm>
            <a:off x="468360" y="105264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Garamond"/>
              </a:rPr>
              <a:t>The Sharpeville Massacre</a:t>
            </a:r>
            <a:r>
              <a:rPr b="1" lang="en-GB" sz="2000" spc="-1" strike="noStrike">
                <a:solidFill>
                  <a:srgbClr val="ffffff"/>
                </a:solidFill>
                <a:latin typeface="Garamond"/>
              </a:rPr>
              <a:t> took place 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60. Police opened fire on blacks demonstrating against the policies of the National Party governme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9 people were killed simply for expressing an opinion.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s event was credited by Mandela as forcing the hand of his ANC organisation. They soon resorted to violent methods themselves. Though never targeting civilians, they began to blow up railway lines and other economic target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ter, the </a:t>
            </a:r>
            <a:r>
              <a:rPr b="1" lang="en-GB" sz="2000" spc="-1" strike="noStrike" u="sng">
                <a:solidFill>
                  <a:srgbClr val="ffffff"/>
                </a:solidFill>
                <a:uFillTx/>
                <a:latin typeface="Garamond"/>
              </a:rPr>
              <a:t>Soweto Massacre</a:t>
            </a:r>
            <a:r>
              <a:rPr b="1" lang="en-GB" sz="2000" spc="-1" strike="noStrike">
                <a:solidFill>
                  <a:srgbClr val="ffffff"/>
                </a:solidFill>
                <a:latin typeface="Garamond"/>
              </a:rPr>
              <a:t> was to have a similar effect on public opinion around the world….</a:t>
            </a:r>
            <a:endParaRPr b="0" lang="en-US" sz="2000" spc="-1" strike="noStrike">
              <a:solidFill>
                <a:srgbClr val="ffffff"/>
              </a:solidFill>
              <a:latin typeface="Garamond"/>
            </a:endParaRPr>
          </a:p>
        </p:txBody>
      </p:sp>
      <p:pic>
        <p:nvPicPr>
          <p:cNvPr id="118" name="Picture 5" descr="305px-Soweto_Riots"/>
          <p:cNvPicPr/>
          <p:nvPr/>
        </p:nvPicPr>
        <p:blipFill>
          <a:blip r:embed="rId1"/>
          <a:stretch/>
        </p:blipFill>
        <p:spPr>
          <a:xfrm>
            <a:off x="6006960" y="4221000"/>
            <a:ext cx="1901880" cy="24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Soweto Uprising</a:t>
            </a:r>
            <a:endParaRPr b="1" lang="en-US" sz="4400" spc="-1" strike="noStrike">
              <a:solidFill>
                <a:srgbClr val="e5e5ff"/>
              </a:solidFill>
              <a:latin typeface="Garamond"/>
            </a:endParaRPr>
          </a:p>
        </p:txBody>
      </p:sp>
      <p:sp>
        <p:nvSpPr>
          <p:cNvPr id="120"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ng people had been forced to learn Afrikaans in school, the language of the Dutch settler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y were not allowed to speak or learn in their own language.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76, school-children protesting the right to be taught in their own language were shot by police. 69 school-kids died. The day is now commemorated in South Africa as Youth Day.</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eople around the world were outraged. But it was to be almost 20 years until the Apartheid system collaps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the time, Nelson Mandela was serving his time in prison for what the government called ‘terrorist’ activities.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5" descr="sharpeville"/>
          <p:cNvPicPr/>
          <p:nvPr/>
        </p:nvPicPr>
        <p:blipFill>
          <a:blip r:embed="rId1"/>
          <a:stretch/>
        </p:blipFill>
        <p:spPr>
          <a:xfrm>
            <a:off x="2771640" y="4581360"/>
            <a:ext cx="3672000" cy="21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a:t>
            </a:r>
            <a:r>
              <a:rPr b="1" i="1" lang="en-GB" sz="2000" spc="-1" strike="noStrike">
                <a:solidFill>
                  <a:srgbClr val="ffffff"/>
                </a:solidFill>
                <a:latin typeface="Garamond"/>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lson Mandela’s speech from the dock, Pretoria Courthouse, 1964 </a:t>
            </a:r>
            <a:endParaRPr b="0" lang="en-US" sz="2000" spc="-1" strike="noStrike">
              <a:solidFill>
                <a:srgbClr val="ffffff"/>
              </a:solidFill>
              <a:latin typeface="Garamond"/>
            </a:endParaRPr>
          </a:p>
        </p:txBody>
      </p:sp>
      <p:pic>
        <p:nvPicPr>
          <p:cNvPr id="124" name="Picture 5" descr="114933-Nelson-Mandela-s-Cell-1"/>
          <p:cNvPicPr/>
          <p:nvPr/>
        </p:nvPicPr>
        <p:blipFill>
          <a:blip r:embed="rId1"/>
          <a:stretch/>
        </p:blipFill>
        <p:spPr>
          <a:xfrm>
            <a:off x="4284720" y="4076640"/>
            <a:ext cx="1886040" cy="2516400"/>
          </a:xfrm>
          <a:prstGeom prst="rect">
            <a:avLst/>
          </a:prstGeom>
          <a:ln w="0">
            <a:noFill/>
          </a:ln>
        </p:spPr>
      </p:pic>
      <p:pic>
        <p:nvPicPr>
          <p:cNvPr id="125" name="Picture 7" descr="nelson_mandela_narrowweb__300x378,0"/>
          <p:cNvPicPr/>
          <p:nvPr/>
        </p:nvPicPr>
        <p:blipFill>
          <a:blip r:embed="rId2"/>
          <a:stretch/>
        </p:blipFill>
        <p:spPr>
          <a:xfrm>
            <a:off x="1258920" y="4149720"/>
            <a:ext cx="194292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ince being released in 1994, Mandela has received over 100 awards in recognition of the efforts he has made to bring peace and reconciliation to South Africa, and around the world.</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nk about some of the following question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How would you respond if someone came to your town and removed all your rights, told you where you could travel, where you could work, what schools you could go to and which language you were permitted to spea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 could not even have relationships with who you chose!</a:t>
            </a:r>
            <a:endParaRPr b="0" lang="en-US" sz="2000" spc="-1" strike="noStrike">
              <a:solidFill>
                <a:srgbClr val="ffffff"/>
              </a:solidFill>
              <a:latin typeface="Garamond"/>
            </a:endParaRPr>
          </a:p>
        </p:txBody>
      </p:sp>
      <p:pic>
        <p:nvPicPr>
          <p:cNvPr id="128" name="Picture 5" descr="49IMAGE1"/>
          <p:cNvPicPr/>
          <p:nvPr/>
        </p:nvPicPr>
        <p:blipFill>
          <a:blip r:embed="rId1"/>
          <a:stretch/>
        </p:blipFill>
        <p:spPr>
          <a:xfrm>
            <a:off x="3492360" y="4653000"/>
            <a:ext cx="206712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0:40:21Z</dcterms:created>
  <dc:creator>Telford</dc:creator>
  <dc:description/>
  <dc:language>en-US</dc:language>
  <cp:lastModifiedBy>RomaK</cp:lastModifiedBy>
  <dcterms:modified xsi:type="dcterms:W3CDTF">2015-09-02T09:54:30Z</dcterms:modified>
  <cp:revision>6</cp:revision>
  <dc:subject/>
  <dc:title>Human Rights - Nelson Mandela</dc:title>
</cp:coreProperties>
</file>