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8758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875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39840" y="657000"/>
            <a:ext cx="4378320" cy="32842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160520"/>
            <a:ext cx="5486400" cy="3941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319600"/>
            <a:ext cx="2971800" cy="43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319600"/>
            <a:ext cx="2971800" cy="438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63745-E578-44AE-9E7B-48F14CD34B2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Studies at NSG</a:t>
            </a:r>
            <a:br>
              <a:rPr sz="1200"/>
            </a:br>
            <a:br>
              <a:rPr sz="1200"/>
            </a:br>
            <a:br>
              <a:rPr sz="1200"/>
            </a:br>
            <a:br>
              <a:rPr sz="1200"/>
            </a:br>
            <a:br>
              <a:rPr sz="1200"/>
            </a:br>
            <a:br>
              <a:rPr sz="1200"/>
            </a:br>
            <a:br>
              <a:rPr sz="1200"/>
            </a:br>
            <a:r>
              <a:rPr b="0" lang="en-US" sz="1200" spc="-1" strike="noStrike">
                <a:solidFill>
                  <a:srgbClr val="000000"/>
                </a:solidFill>
                <a:latin typeface="Times New Roman"/>
              </a:rPr>
              <a:t>Do we really need a govern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239840" y="657360"/>
            <a:ext cx="4378320" cy="3284280"/>
          </a:xfrm>
          <a:prstGeom prst="rect">
            <a:avLst/>
          </a:prstGeom>
          <a:ln w="0">
            <a:noFill/>
          </a:ln>
        </p:spPr>
      </p:sp>
      <p:sp>
        <p:nvSpPr>
          <p:cNvPr id="87"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Studies at NSG</a:t>
            </a:r>
            <a:br>
              <a:rPr sz="1200"/>
            </a:br>
            <a:br>
              <a:rPr sz="1200"/>
            </a:br>
            <a:br>
              <a:rPr sz="1200"/>
            </a:br>
            <a:br>
              <a:rPr sz="1200"/>
            </a:br>
            <a:br>
              <a:rPr sz="1200"/>
            </a:br>
            <a:br>
              <a:rPr sz="1200"/>
            </a:br>
            <a:br>
              <a:rPr sz="1200"/>
            </a:br>
            <a:r>
              <a:rPr b="0" lang="en-US" sz="1200" spc="-1" strike="noStrike">
                <a:solidFill>
                  <a:srgbClr val="000000"/>
                </a:solidFill>
                <a:latin typeface="Times New Roman"/>
              </a:rPr>
              <a:t>Do we really need a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conclu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is necessary i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ot to live in a state of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pursue individual happin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engage in industry and commer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sleep safely in their be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PlaceHolder 1"/>
          <p:cNvSpPr>
            <a:spLocks noGrp="1"/>
          </p:cNvSpPr>
          <p:nvPr>
            <p:ph type="sldImg"/>
          </p:nvPr>
        </p:nvSpPr>
        <p:spPr>
          <a:xfrm>
            <a:off x="1239840" y="657360"/>
            <a:ext cx="4378320" cy="3284280"/>
          </a:xfrm>
          <a:prstGeom prst="rect">
            <a:avLst/>
          </a:prstGeom>
          <a:ln w="0">
            <a:noFill/>
          </a:ln>
        </p:spPr>
      </p:sp>
      <p:sp>
        <p:nvSpPr>
          <p:cNvPr id="114"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is necessary i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ot to live in a state of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pursue individual happ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engage in industry and comme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sleep safely in their b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question: What are the origins of the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the development of private property there was no need for a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lived in cooperative groups in ‘primitive communis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Anthropological evidence seems to support Engels’ not Hobbes’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PlaceHolder 1"/>
          <p:cNvSpPr>
            <a:spLocks noGrp="1"/>
          </p:cNvSpPr>
          <p:nvPr>
            <p:ph type="sldImg"/>
          </p:nvPr>
        </p:nvSpPr>
        <p:spPr>
          <a:xfrm>
            <a:off x="1239840" y="657360"/>
            <a:ext cx="4378320" cy="3284280"/>
          </a:xfrm>
          <a:prstGeom prst="rect">
            <a:avLst/>
          </a:prstGeom>
          <a:ln w="0">
            <a:noFill/>
          </a:ln>
        </p:spPr>
      </p:sp>
      <p:sp>
        <p:nvSpPr>
          <p:cNvPr id="117"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question: What are the origins of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the development of private property there was no need for a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lived in cooperative groups in ‘primitive commu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Anthropological evidence seems to support Engels’ not Hobbes’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1820-95) on the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bbes, Engels’ views the state as necessary for social 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for Engels the state´s role is differ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reates social order by regulating conflict between competing cla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functions to benefit the whole of the ruling class by maintaining the status quo at the expense of the rul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PlaceHolder 1"/>
          <p:cNvSpPr>
            <a:spLocks noGrp="1"/>
          </p:cNvSpPr>
          <p:nvPr>
            <p:ph type="sldImg"/>
          </p:nvPr>
        </p:nvSpPr>
        <p:spPr>
          <a:xfrm>
            <a:off x="1239840" y="657360"/>
            <a:ext cx="4378320" cy="3284280"/>
          </a:xfrm>
          <a:prstGeom prst="rect">
            <a:avLst/>
          </a:prstGeom>
          <a:ln w="0">
            <a:noFill/>
          </a:ln>
        </p:spPr>
      </p:sp>
      <p:sp>
        <p:nvSpPr>
          <p:cNvPr id="120"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1820-95) on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bbes, Engels’ views the state as necessary for social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for Engels the state´s role is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reates social order by regulating conflict between competing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functions to benefit the whole of the ruling class by maintaining the status quo at the expense of the ru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arx and Engels define cla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es are by their relation to the means of 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ners and controllers of the means of production ( ‘bourgeoisi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owners of the means of production who have ‘nothing to sell but their labour power’ (‘proletari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PlaceHolder 1"/>
          <p:cNvSpPr>
            <a:spLocks noGrp="1"/>
          </p:cNvSpPr>
          <p:nvPr>
            <p:ph type="sldImg"/>
          </p:nvPr>
        </p:nvSpPr>
        <p:spPr>
          <a:xfrm>
            <a:off x="1239840" y="657360"/>
            <a:ext cx="4378320" cy="3284280"/>
          </a:xfrm>
          <a:prstGeom prst="rect">
            <a:avLst/>
          </a:prstGeom>
          <a:ln w="0">
            <a:noFill/>
          </a:ln>
        </p:spPr>
      </p:sp>
      <p:sp>
        <p:nvSpPr>
          <p:cNvPr id="123"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arx and Engels defin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es are by their relation to the means of 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ners and controllers of the means of production ( ‘bourgeois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owners of the means of production who have ‘nothing to sell but their labour power’ (‘proletari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state produces social 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represents the interests of the ruling the bourgeoisie as against the proletariat throug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ws, coercion, force, ideology, religion, education, mass media, social divi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dividualism, consumerism, compet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PlaceHolder 1"/>
          <p:cNvSpPr>
            <a:spLocks noGrp="1"/>
          </p:cNvSpPr>
          <p:nvPr>
            <p:ph type="sldImg"/>
          </p:nvPr>
        </p:nvSpPr>
        <p:spPr>
          <a:xfrm>
            <a:off x="1239840" y="657360"/>
            <a:ext cx="4378320" cy="3284280"/>
          </a:xfrm>
          <a:prstGeom prst="rect">
            <a:avLst/>
          </a:prstGeom>
          <a:ln w="0">
            <a:noFill/>
          </a:ln>
        </p:spPr>
      </p:sp>
      <p:sp>
        <p:nvSpPr>
          <p:cNvPr id="126"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state produces social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represents the interests of the ruling the bourgeoisie as against the proletariat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ws, coercion, force, ideology, religion, education, mass media, social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dividualism, consumerism,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communism, howev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will ‘wither a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will take place to meet the needs of everyone rather than to make profits for a ruling mino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peration will prevai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eed for war (nor locking your do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PlaceHolder 1"/>
          <p:cNvSpPr>
            <a:spLocks noGrp="1"/>
          </p:cNvSpPr>
          <p:nvPr>
            <p:ph type="sldImg"/>
          </p:nvPr>
        </p:nvSpPr>
        <p:spPr>
          <a:xfrm>
            <a:off x="1239840" y="657360"/>
            <a:ext cx="4378320" cy="3284280"/>
          </a:xfrm>
          <a:prstGeom prst="rect">
            <a:avLst/>
          </a:prstGeom>
          <a:ln w="0">
            <a:noFill/>
          </a:ln>
        </p:spPr>
      </p:sp>
      <p:sp>
        <p:nvSpPr>
          <p:cNvPr id="129"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communism, how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will ‘withe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will take place to meet the needs of everyone rather than to make profits for a ruling min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peration will prev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eed for war (nor locking your do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ees the state as representing everyone’s interests, it is therefore an agency for pea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sees the state as representing the interests of the ruling class, it is therefore a tool in class confli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PlaceHolder 1"/>
          <p:cNvSpPr>
            <a:spLocks noGrp="1"/>
          </p:cNvSpPr>
          <p:nvPr>
            <p:ph type="sldImg"/>
          </p:nvPr>
        </p:nvSpPr>
        <p:spPr>
          <a:xfrm>
            <a:off x="1239840" y="657360"/>
            <a:ext cx="4378320" cy="3284280"/>
          </a:xfrm>
          <a:prstGeom prst="rect">
            <a:avLst/>
          </a:prstGeom>
          <a:ln w="0">
            <a:noFill/>
          </a:ln>
        </p:spPr>
      </p:sp>
      <p:sp>
        <p:nvSpPr>
          <p:cNvPr id="132"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ees the state as representing everyone’s interests, it is therefore an agency for pe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sees the state as representing the interests of the ruling class, it is therefore a tool in class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r>
              <a:rPr b="0" lang="en-US" sz="1200" spc="-1" strike="noStrike">
                <a:solidFill>
                  <a:srgbClr val="000000"/>
                </a:solidFill>
                <a:latin typeface="Times New Roman"/>
              </a:rPr>
              <a:t>General Studies at NS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Hobb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eviathan’ (165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drich Engels ‘Origins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Private Property a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18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PlaceHolder 1"/>
          <p:cNvSpPr>
            <a:spLocks noGrp="1"/>
          </p:cNvSpPr>
          <p:nvPr>
            <p:ph type="sldImg"/>
          </p:nvPr>
        </p:nvSpPr>
        <p:spPr>
          <a:xfrm>
            <a:off x="1239840" y="657360"/>
            <a:ext cx="4378320" cy="3284280"/>
          </a:xfrm>
          <a:prstGeom prst="rect">
            <a:avLst/>
          </a:prstGeom>
          <a:ln w="0">
            <a:noFill/>
          </a:ln>
        </p:spPr>
      </p:sp>
      <p:sp>
        <p:nvSpPr>
          <p:cNvPr id="90"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r>
              <a:rPr b="0" lang="en-US" sz="1200" spc="-1" strike="noStrike">
                <a:solidFill>
                  <a:srgbClr val="000000"/>
                </a:solidFill>
                <a:latin typeface="Times New Roman"/>
              </a:rPr>
              <a:t>General Studies at NS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Hob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eviathan’ (16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drich Engels ‘Origins of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Private Property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18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ques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social order possib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imed to produce evidence for why we need a government based on rational argument and evidence without reference to the ‘divine right of kin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1239840" y="657360"/>
            <a:ext cx="4378320" cy="3284280"/>
          </a:xfrm>
          <a:prstGeom prst="rect">
            <a:avLst/>
          </a:prstGeom>
          <a:ln w="0">
            <a:noFill/>
          </a:ln>
        </p:spPr>
      </p:sp>
      <p:sp>
        <p:nvSpPr>
          <p:cNvPr id="93"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social order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imed to produce evidence for why we need a government based on rational argument and evidence without reference to the ‘divine right of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seek to avoid death and inj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en want a happy life, they seek sufficient power to ensure that happy 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have a ‘restless desire for p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ads to an ‘equality of hope in the achieving of our ai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1"/>
          <p:cNvSpPr>
            <a:spLocks noGrp="1"/>
          </p:cNvSpPr>
          <p:nvPr>
            <p:ph type="sldImg"/>
          </p:nvPr>
        </p:nvSpPr>
        <p:spPr>
          <a:xfrm>
            <a:off x="1239840" y="657360"/>
            <a:ext cx="4378320" cy="3284280"/>
          </a:xfrm>
          <a:prstGeom prst="rect">
            <a:avLst/>
          </a:prstGeom>
          <a:ln w="0">
            <a:noFill/>
          </a:ln>
        </p:spPr>
      </p:sp>
      <p:sp>
        <p:nvSpPr>
          <p:cNvPr id="96"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seek to avoid death and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en want a happy life, they seek sufficient power to ensure that happy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have a ‘restless desire for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ads to an ‘equality of hope in the achieving of our a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 power able to enforce rules, there is chaos and mise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auses of confli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g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secu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repu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PlaceHolder 1"/>
          <p:cNvSpPr>
            <a:spLocks noGrp="1"/>
          </p:cNvSpPr>
          <p:nvPr>
            <p:ph type="sldImg"/>
          </p:nvPr>
        </p:nvSpPr>
        <p:spPr>
          <a:xfrm>
            <a:off x="1239840" y="657360"/>
            <a:ext cx="4378320" cy="3284280"/>
          </a:xfrm>
          <a:prstGeom prst="rect">
            <a:avLst/>
          </a:prstGeom>
          <a:ln w="0">
            <a:noFill/>
          </a:ln>
        </p:spPr>
      </p:sp>
      <p:sp>
        <p:nvSpPr>
          <p:cNvPr id="99"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 power able to enforce rules, there is chaos and mis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auses of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rep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ca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is pulled into a constant competitive struggle for pow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state of man is a war of all against all (‘the state of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insecure, and live in a constant fear of injury and d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place for industry in the state of nature, because the fruit of it is uncertain. Hence, no agriculture, navigation, building, culture, sci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in a state of nature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itary, poor, nasty, brutish, and shor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PlaceHolder 1"/>
          <p:cNvSpPr>
            <a:spLocks noGrp="1"/>
          </p:cNvSpPr>
          <p:nvPr>
            <p:ph type="sldImg"/>
          </p:nvPr>
        </p:nvSpPr>
        <p:spPr>
          <a:xfrm>
            <a:off x="1239840" y="657360"/>
            <a:ext cx="4378320" cy="3284280"/>
          </a:xfrm>
          <a:prstGeom prst="rect">
            <a:avLst/>
          </a:prstGeom>
          <a:ln w="0">
            <a:noFill/>
          </a:ln>
        </p:spPr>
      </p:sp>
      <p:sp>
        <p:nvSpPr>
          <p:cNvPr id="102"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is pulled into a constant competitive struggle for p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state of man is a war of all against all (‘the state of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insecure, and live in a constant fear of injury and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place for industry in the state of nature, because the fruit of it is uncertain. Hence, no agriculture, navigation, building, cultur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in a state of nature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itary, poor, nasty, brutish, and sh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evidence to support hi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people lock their doo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support for Hobbes’ view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aturally inclined to fight each oth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PlaceHolder 1"/>
          <p:cNvSpPr>
            <a:spLocks noGrp="1"/>
          </p:cNvSpPr>
          <p:nvPr>
            <p:ph type="sldImg"/>
          </p:nvPr>
        </p:nvSpPr>
        <p:spPr>
          <a:xfrm>
            <a:off x="1239840" y="657360"/>
            <a:ext cx="4378320" cy="3284280"/>
          </a:xfrm>
          <a:prstGeom prst="rect">
            <a:avLst/>
          </a:prstGeom>
          <a:ln w="0">
            <a:noFill/>
          </a:ln>
        </p:spPr>
      </p:sp>
      <p:sp>
        <p:nvSpPr>
          <p:cNvPr id="105"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evidence to support hi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people lock their d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support for Hobbes’ view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aturally inclined to figh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se conditions, how can social order be achiev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tate of nature, people have liber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an is rational, he will never use his power to harm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 will try to achieve peace only if he is convinced that everyone else will do the sa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1"/>
          <p:cNvSpPr>
            <a:spLocks noGrp="1"/>
          </p:cNvSpPr>
          <p:nvPr>
            <p:ph type="sldImg"/>
          </p:nvPr>
        </p:nvSpPr>
        <p:spPr>
          <a:xfrm>
            <a:off x="1239840" y="657360"/>
            <a:ext cx="4378320" cy="3284280"/>
          </a:xfrm>
          <a:prstGeom prst="rect">
            <a:avLst/>
          </a:prstGeom>
          <a:ln w="0">
            <a:noFill/>
          </a:ln>
        </p:spPr>
      </p:sp>
      <p:sp>
        <p:nvSpPr>
          <p:cNvPr id="108"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se conditions, how can social order be achie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tate of nature, people have lib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an is rational, he will never use his power to harm hi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 will try to achieve peace only if he is convinced that everyone else will do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make sure that everyone would seek pea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use for everyone to merely agree to give up their individual freedom and power (‘sovereignty’) because people would cheat whenever it was to their advant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have to transfer power to some sovereign state (‘the Leviathan’) which could make an agreement stick by having the authority to maintain order and use force against all lawbreak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PlaceHolder 1"/>
          <p:cNvSpPr>
            <a:spLocks noGrp="1"/>
          </p:cNvSpPr>
          <p:nvPr>
            <p:ph type="sldImg"/>
          </p:nvPr>
        </p:nvSpPr>
        <p:spPr>
          <a:xfrm>
            <a:off x="1239840" y="657360"/>
            <a:ext cx="4378320" cy="3284280"/>
          </a:xfrm>
          <a:prstGeom prst="rect">
            <a:avLst/>
          </a:prstGeom>
          <a:ln w="0">
            <a:noFill/>
          </a:ln>
        </p:spPr>
      </p:sp>
      <p:sp>
        <p:nvSpPr>
          <p:cNvPr id="111"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make sure that everyone would seek pe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use for everyone to merely agree to give up their individual freedom and power (‘sovereignty’) because people would cheat whenever it was to their 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have to transfer power to some sovereign state (‘the Leviathan’) which could make an agreement stick by having the authority to maintain order and use force against all lawbrea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7C42D-16CA-47A4-975A-CE16ECE96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4EE55-D092-46A6-A151-0C9AE7FE3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65120-D9BF-4C25-ABD3-D44A6604E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0881E-E048-4B79-9E34-0F1A1FA6A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28431-A909-418B-8C0D-C45C22DEC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B7521-4BD6-45A4-A08F-5C78B6A88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4C02E-C781-4EE9-A423-2DA0A0B6F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7D4E8-3033-4E46-85D3-A6FC8EF63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478D3-B699-4A04-8167-53A8AFDEB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2F34E-C1AC-48CE-87CA-447C6F635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57608-9FC2-43E9-9ACA-9CD7F704A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B09E5-6667-43E2-9E5B-D4995ADFC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3F8E7-3139-4ADE-9C39-A01D114BCD6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ral Studies at NSG</a:t>
            </a:r>
            <a:br>
              <a:rPr sz="2800"/>
            </a:br>
            <a:br>
              <a:rPr sz="2800"/>
            </a:br>
            <a:br>
              <a:rPr sz="2800"/>
            </a:br>
            <a:br>
              <a:rPr sz="2800"/>
            </a:br>
            <a:br>
              <a:rPr sz="2800"/>
            </a:br>
            <a:br>
              <a:rPr sz="2800"/>
            </a:br>
            <a:br>
              <a:rPr sz="2800"/>
            </a:br>
            <a:r>
              <a:rPr b="0" lang="en-GB" sz="4000" spc="-1" strike="noStrike">
                <a:solidFill>
                  <a:srgbClr val="000000"/>
                </a:solidFill>
                <a:latin typeface="Arial"/>
              </a:rPr>
              <a:t>Do we really need a government?</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5" descr="parliament"/>
          <p:cNvPicPr/>
          <p:nvPr/>
        </p:nvPicPr>
        <p:blipFill>
          <a:blip r:embed="rId1"/>
          <a:stretch/>
        </p:blipFill>
        <p:spPr>
          <a:xfrm>
            <a:off x="1447920" y="1752480"/>
            <a:ext cx="6248160" cy="320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bbes’ conclusio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vernment is necessary i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not to live in a state of n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to pursue individual happi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to engage in industry and comme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to sleep safely in their be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rebuchet MS"/>
              </a:rPr>
              <a:t>Engels’ question: What are the origins of the state?</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Assumpt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Before the development of private property there was no need for a sta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People lived in cooperative groups in ‘primitive communis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N.B. Anthropological evidence seems to support Engels’ not Hobbes’s assump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17160" y="52200"/>
            <a:ext cx="86374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els (1820-95) on the state</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Hobbes, Engels’ views the state as necessary for social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for Engels the state´s role is differ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reates social order by regulating conflict between competing </a:t>
            </a:r>
            <a:r>
              <a:rPr b="1" lang="en-US" sz="2800" spc="-1" strike="noStrike">
                <a:solidFill>
                  <a:srgbClr val="000000"/>
                </a:solidFill>
                <a:latin typeface="Arial"/>
              </a:rPr>
              <a:t>clas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 functions to benefit the whole of the ruling class by maintaining the status quo at the expense of the rule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How do Marx and Engels define classes?</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sses are by their relation to the means of production:</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wners and controllers of the means of production ( </a:t>
            </a:r>
            <a:r>
              <a:rPr b="1" lang="en-US" sz="2800" spc="-1" strike="noStrike">
                <a:solidFill>
                  <a:srgbClr val="000000"/>
                </a:solidFill>
                <a:latin typeface="Trebuchet MS"/>
              </a:rPr>
              <a:t>‘bourgeoisie’</a:t>
            </a:r>
            <a:r>
              <a:rPr b="0" lang="en-US" sz="2800" spc="-1" strike="noStrike">
                <a:solidFill>
                  <a:srgbClr val="000000"/>
                </a:solidFill>
                <a:latin typeface="Trebuchet MS"/>
              </a:rPr>
              <a:t>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n-owners of the means of production who have ‘nothing to sell but their labour power’ (</a:t>
            </a:r>
            <a:r>
              <a:rPr b="1" lang="en-US" sz="2800" spc="-1" strike="noStrike">
                <a:solidFill>
                  <a:srgbClr val="000000"/>
                </a:solidFill>
                <a:latin typeface="Trebuchet MS"/>
              </a:rPr>
              <a:t>‘proletariat’</a:t>
            </a:r>
            <a:r>
              <a:rPr b="0" lang="en-US" sz="2800" spc="-1" strike="noStrike">
                <a:solidFill>
                  <a:srgbClr val="000000"/>
                </a:solidFill>
                <a:latin typeface="Trebuchet MS"/>
              </a:rPr>
              <a:t>)</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How the state produces social order</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t represents the interests of the ruling the bourgeoisie as against the proletariat through:</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laws, coercion, force, ideology, religion, education, mass media, social divis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individualism, consumerism, competi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Under communism, however</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The state will ‘wither awa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Production will take place to meet the needs of everyone rather than to make profits for a ruling minorit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Cooperation will prevail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No need for war (nor locking your do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Conclusion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Hobbes sees the state as representing everyone’s interests, it is therefore an agency for peac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Engels sees the state as representing the interests of the ruling class, it is therefore a tool in class confli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6172200"/>
            <a:ext cx="80010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US" sz="2700" spc="-1" strike="noStrike">
                <a:solidFill>
                  <a:srgbClr val="000000"/>
                </a:solidFill>
                <a:latin typeface="Trebuchet MS"/>
              </a:rPr>
              <a:t>General Studies at NSG</a:t>
            </a:r>
            <a:endParaRPr b="0" lang="en-US" sz="2700" spc="-1" strike="noStrike">
              <a:solidFill>
                <a:srgbClr val="000000"/>
              </a:solidFill>
              <a:latin typeface="Arial"/>
            </a:endParaRPr>
          </a:p>
        </p:txBody>
      </p:sp>
      <p:sp>
        <p:nvSpPr>
          <p:cNvPr id="52" name="PlaceHolder 2"/>
          <p:cNvSpPr>
            <a:spLocks noGrp="1"/>
          </p:cNvSpPr>
          <p:nvPr>
            <p:ph/>
          </p:nvPr>
        </p:nvSpPr>
        <p:spPr>
          <a:xfrm>
            <a:off x="533160" y="304560"/>
            <a:ext cx="8001000" cy="5715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omas Hobbes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t>
            </a:r>
            <a:r>
              <a:rPr b="0" lang="en-US" sz="3200" spc="-1" strike="noStrike">
                <a:solidFill>
                  <a:srgbClr val="000000"/>
                </a:solidFill>
                <a:latin typeface="Trebuchet MS"/>
              </a:rPr>
              <a:t>The Leviathan’ (1651)</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riedrich Engels ‘Origins of th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amily, Private Property an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tate’ (1884)</a:t>
            </a:r>
            <a:endParaRPr b="0" lang="en-US" sz="3200" spc="-1" strike="noStrike">
              <a:solidFill>
                <a:srgbClr val="000000"/>
              </a:solidFill>
              <a:latin typeface="Arial"/>
            </a:endParaRPr>
          </a:p>
        </p:txBody>
      </p:sp>
      <p:pic>
        <p:nvPicPr>
          <p:cNvPr id="53" name="Picture 1029" descr="hobbes_leviathan"/>
          <p:cNvPicPr/>
          <p:nvPr/>
        </p:nvPicPr>
        <p:blipFill>
          <a:blip r:embed="rId1"/>
          <a:stretch/>
        </p:blipFill>
        <p:spPr>
          <a:xfrm>
            <a:off x="6324480" y="304920"/>
            <a:ext cx="2505240" cy="3362040"/>
          </a:xfrm>
          <a:prstGeom prst="rect">
            <a:avLst/>
          </a:prstGeom>
          <a:ln w="0">
            <a:noFill/>
          </a:ln>
        </p:spPr>
      </p:pic>
      <p:pic>
        <p:nvPicPr>
          <p:cNvPr id="54" name="Picture 1031" descr="Engels,%20Friedrich"/>
          <p:cNvPicPr/>
          <p:nvPr/>
        </p:nvPicPr>
        <p:blipFill>
          <a:blip r:embed="rId2"/>
          <a:stretch/>
        </p:blipFill>
        <p:spPr>
          <a:xfrm>
            <a:off x="914400" y="4038480"/>
            <a:ext cx="1981080" cy="25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bbes’ question</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w is social order possib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bbes aimed to produce evidence for why we need a government based on rational argument and evidence without reference to the ‘divine right of king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bbes’ assumptions:</a:t>
            </a:r>
            <a:endParaRPr b="0" lang="en-US" sz="3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l men seek to avoid death and injur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cause men want a happy life, they seek sufficient power to ensure that happy lif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l men have a ‘restless desire for pow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leads to an ‘equality of hope in the achieving of our ai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Hobbes’ assumptions:</a:t>
            </a:r>
            <a:endParaRPr b="0" lang="en-US" sz="3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Without a power able to enforce rules, there is chaos and misery</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3 causes of conflict</a:t>
            </a:r>
            <a:endParaRPr b="0" lang="en-US" sz="3000" spc="-1" strike="noStrike">
              <a:solidFill>
                <a:srgbClr val="000000"/>
              </a:solidFill>
              <a:latin typeface="Arial"/>
            </a:endParaRPr>
          </a:p>
          <a:p>
            <a:pPr lvl="1" marL="743040" indent="-28584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en fight for gain</a:t>
            </a:r>
            <a:endParaRPr b="0" lang="en-US" sz="3000" spc="-1" strike="noStrike">
              <a:solidFill>
                <a:srgbClr val="000000"/>
              </a:solidFill>
              <a:latin typeface="Arial"/>
            </a:endParaRPr>
          </a:p>
          <a:p>
            <a:pPr lvl="1" marL="743040" indent="-28584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en fight for security</a:t>
            </a:r>
            <a:endParaRPr b="0" lang="en-US" sz="3000" spc="-1" strike="noStrike">
              <a:solidFill>
                <a:srgbClr val="000000"/>
              </a:solidFill>
              <a:latin typeface="Arial"/>
            </a:endParaRPr>
          </a:p>
          <a:p>
            <a:pPr lvl="1" marL="743040" indent="-28584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en fight for reput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mplications </a:t>
            </a:r>
            <a:endParaRPr b="0" lang="en-US" sz="4400" spc="-1" strike="noStrike">
              <a:solidFill>
                <a:srgbClr val="000000"/>
              </a:solidFill>
              <a:latin typeface="Arial"/>
            </a:endParaRPr>
          </a:p>
        </p:txBody>
      </p:sp>
      <p:sp>
        <p:nvSpPr>
          <p:cNvPr id="62" name="PlaceHolder 2"/>
          <p:cNvSpPr>
            <a:spLocks noGrp="1"/>
          </p:cNvSpPr>
          <p:nvPr>
            <p:ph/>
          </p:nvPr>
        </p:nvSpPr>
        <p:spPr>
          <a:xfrm>
            <a:off x="457200" y="837720"/>
            <a:ext cx="8229600" cy="528804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Everyone is pulled into a constant competitive struggle for power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the natural state of man is a war of all against all (‘the state of nature’)</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People are insecure, and live in a constant fear of injury and death</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There is no place for industry in the state of nature, because the fruit of it is uncertain. Hence, no agriculture, navigation, building, culture, science</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Life in a state of nature is </a:t>
            </a:r>
            <a:endParaRPr b="0" lang="en-US" sz="24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           </a:t>
            </a:r>
            <a:r>
              <a:rPr b="1" lang="en-GB" sz="2400" spc="-1" strike="noStrike">
                <a:solidFill>
                  <a:srgbClr val="000000"/>
                </a:solidFill>
                <a:latin typeface="Trebuchet MS"/>
              </a:rPr>
              <a:t>"solitary, poor, nasty, brutish, and short"</a:t>
            </a:r>
            <a:r>
              <a:rPr b="1" lang="en-GB" sz="2800" spc="-1" strike="noStrike">
                <a:solidFill>
                  <a:srgbClr val="000000"/>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17160" y="52200"/>
            <a:ext cx="86374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bbes’ evidence to support his assumptions</a:t>
            </a:r>
            <a:endParaRPr b="0" lang="en-US" sz="3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The fact that people lock their door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provides support for Hobbes’ view that</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people are naturally inclined to fight each other.</a:t>
            </a:r>
            <a:r>
              <a:rPr b="0" lang="en-US" sz="3200" spc="-1" strike="noStrike">
                <a:solidFill>
                  <a:srgbClr val="009999"/>
                </a:solidFill>
                <a:latin typeface="Trebuchet MS"/>
                <a:ea typeface="Times New Roman"/>
              </a:rPr>
              <a:t> </a:t>
            </a:r>
            <a:endParaRPr b="0" lang="en-US" sz="3200" spc="-1" strike="noStrike">
              <a:solidFill>
                <a:srgbClr val="000000"/>
              </a:solidFill>
              <a:latin typeface="Arial"/>
            </a:endParaRPr>
          </a:p>
        </p:txBody>
      </p:sp>
      <p:pic>
        <p:nvPicPr>
          <p:cNvPr id="65" name="Picture 5" descr="20050623223753_oldtrailer"/>
          <p:cNvPicPr/>
          <p:nvPr/>
        </p:nvPicPr>
        <p:blipFill>
          <a:blip r:embed="rId1"/>
          <a:stretch/>
        </p:blipFill>
        <p:spPr>
          <a:xfrm>
            <a:off x="2057400" y="3581280"/>
            <a:ext cx="1676520" cy="2133720"/>
          </a:xfrm>
          <a:prstGeom prst="rect">
            <a:avLst/>
          </a:prstGeom>
          <a:ln w="0">
            <a:noFill/>
          </a:ln>
        </p:spPr>
      </p:pic>
      <p:pic>
        <p:nvPicPr>
          <p:cNvPr id="66" name="Picture 7" descr="FEMALE%2520DISORDER-hi"/>
          <p:cNvPicPr/>
          <p:nvPr/>
        </p:nvPicPr>
        <p:blipFill>
          <a:blip r:embed="rId2"/>
          <a:stretch/>
        </p:blipFill>
        <p:spPr>
          <a:xfrm>
            <a:off x="5029200" y="3657600"/>
            <a:ext cx="190512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Hobbes’ solution</a:t>
            </a:r>
            <a:endParaRPr b="0" lang="en-US" sz="4400" spc="-1" strike="noStrike">
              <a:solidFill>
                <a:srgbClr val="000000"/>
              </a:solidFill>
              <a:latin typeface="Arial"/>
            </a:endParaRPr>
          </a:p>
        </p:txBody>
      </p:sp>
      <p:sp>
        <p:nvSpPr>
          <p:cNvPr id="68" name="PlaceHolder 2"/>
          <p:cNvSpPr>
            <a:spLocks noGrp="1"/>
          </p:cNvSpPr>
          <p:nvPr>
            <p:ph/>
          </p:nvPr>
        </p:nvSpPr>
        <p:spPr>
          <a:xfrm>
            <a:off x="457200" y="1294920"/>
            <a:ext cx="8229600" cy="483084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nder these conditions, how can social order be achieved? </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 the state of nature, people have liberty</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ce man is rational, he will never use his power to harm himself</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 will try to achieve peace only if he is convinced that everyone else will do the s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52200"/>
            <a:ext cx="863748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How to make sure that everyone would seek peac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 use for everyone to merely agree to give up their individual freedom and power (‘sovereignty’) because people would cheat whenever it was to their advantag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y would have to transfer power to some sovereign state (‘the Leviathan’) which could make an agreement stick by having the authority to maintain order and use force against all lawbreakers</a:t>
            </a:r>
            <a:endParaRPr b="0" lang="en-US" sz="2800" spc="-1" strike="noStrike">
              <a:solidFill>
                <a:srgbClr val="000000"/>
              </a:solidFill>
              <a:latin typeface="Arial"/>
            </a:endParaRPr>
          </a:p>
          <a:p>
            <a:pPr lvl="3" marL="16002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2T09:54:24Z</dcterms:modified>
  <cp:revision>34</cp:revision>
  <dc:subject/>
  <dc:title>Thomas Hobbes</dc:title>
</cp:coreProperties>
</file>