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8758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875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3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360"/>
            <a:ext cx="2971800" cy="43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239840" y="657000"/>
            <a:ext cx="4378320" cy="32842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160520"/>
            <a:ext cx="5486400" cy="3941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319600"/>
            <a:ext cx="2971800" cy="43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319600"/>
            <a:ext cx="2971800" cy="438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2197D-47C6-4994-A754-4EFFD9233B1C}"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Studies at NSG</a:t>
            </a:r>
            <a:br>
              <a:rPr sz="1200"/>
            </a:br>
            <a:br>
              <a:rPr sz="1200"/>
            </a:br>
            <a:br>
              <a:rPr sz="1200"/>
            </a:br>
            <a:br>
              <a:rPr sz="1200"/>
            </a:br>
            <a:br>
              <a:rPr sz="1200"/>
            </a:br>
            <a:br>
              <a:rPr sz="1200"/>
            </a:br>
            <a:br>
              <a:rPr sz="1200"/>
            </a:br>
            <a:r>
              <a:rPr b="0" lang="en-US" sz="1200" spc="-1" strike="noStrike">
                <a:solidFill>
                  <a:srgbClr val="000000"/>
                </a:solidFill>
                <a:latin typeface="Times New Roman"/>
              </a:rPr>
              <a:t>Do we really need a governm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 name="PlaceHolder 1"/>
          <p:cNvSpPr>
            <a:spLocks noGrp="1"/>
          </p:cNvSpPr>
          <p:nvPr>
            <p:ph type="sldImg"/>
          </p:nvPr>
        </p:nvSpPr>
        <p:spPr>
          <a:xfrm>
            <a:off x="1239840" y="657360"/>
            <a:ext cx="4378320" cy="3284280"/>
          </a:xfrm>
          <a:prstGeom prst="rect">
            <a:avLst/>
          </a:prstGeom>
          <a:ln w="0">
            <a:noFill/>
          </a:ln>
        </p:spPr>
      </p:sp>
      <p:sp>
        <p:nvSpPr>
          <p:cNvPr id="87"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Studies at NSG</a:t>
            </a:r>
            <a:br>
              <a:rPr sz="1200"/>
            </a:br>
            <a:br>
              <a:rPr sz="1200"/>
            </a:br>
            <a:br>
              <a:rPr sz="1200"/>
            </a:br>
            <a:br>
              <a:rPr sz="1200"/>
            </a:br>
            <a:br>
              <a:rPr sz="1200"/>
            </a:br>
            <a:br>
              <a:rPr sz="1200"/>
            </a:br>
            <a:br>
              <a:rPr sz="1200"/>
            </a:br>
            <a:r>
              <a:rPr b="0" lang="en-US" sz="1200" spc="-1" strike="noStrike">
                <a:solidFill>
                  <a:srgbClr val="000000"/>
                </a:solidFill>
                <a:latin typeface="Times New Roman"/>
              </a:rPr>
              <a:t>Do we really need a gover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conclus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ernment is necessary if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not to live in a state of natu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to pursue individual happine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to engage in industry and commer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to sleep safely in their bed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PlaceHolder 1"/>
          <p:cNvSpPr>
            <a:spLocks noGrp="1"/>
          </p:cNvSpPr>
          <p:nvPr>
            <p:ph type="sldImg"/>
          </p:nvPr>
        </p:nvSpPr>
        <p:spPr>
          <a:xfrm>
            <a:off x="1239840" y="657360"/>
            <a:ext cx="4378320" cy="3284280"/>
          </a:xfrm>
          <a:prstGeom prst="rect">
            <a:avLst/>
          </a:prstGeom>
          <a:ln w="0">
            <a:noFill/>
          </a:ln>
        </p:spPr>
      </p:sp>
      <p:sp>
        <p:nvSpPr>
          <p:cNvPr id="114"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concl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ernment is necessary i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not to live in a state of n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to pursue individual happ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to engage in industry and comme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to sleep safely in their b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els’ question: What are the origins of the st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p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the development of private property there was no need for a st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lived in cooperative groups in ‘primitive communis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B. Anthropological evidence seems to support Engels’ not Hobbes’s assump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 name="PlaceHolder 1"/>
          <p:cNvSpPr>
            <a:spLocks noGrp="1"/>
          </p:cNvSpPr>
          <p:nvPr>
            <p:ph type="sldImg"/>
          </p:nvPr>
        </p:nvSpPr>
        <p:spPr>
          <a:xfrm>
            <a:off x="1239840" y="657360"/>
            <a:ext cx="4378320" cy="3284280"/>
          </a:xfrm>
          <a:prstGeom prst="rect">
            <a:avLst/>
          </a:prstGeom>
          <a:ln w="0">
            <a:noFill/>
          </a:ln>
        </p:spPr>
      </p:sp>
      <p:sp>
        <p:nvSpPr>
          <p:cNvPr id="117"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els’ question: What are the origins of the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the development of private property there was no need for a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lived in cooperative groups in ‘primitive commun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B. Anthropological evidence seems to support Engels’ not Hobbes’s assum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els (1820-95) on the st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Hobbes, Engels’ views the state as necessary for social ord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for Engels the state´s role is differ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reates social order by regulating conflict between competing clas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te functions to benefit the whole of the ruling class by maintaining the status quo at the expense of the rul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 name="PlaceHolder 1"/>
          <p:cNvSpPr>
            <a:spLocks noGrp="1"/>
          </p:cNvSpPr>
          <p:nvPr>
            <p:ph type="sldImg"/>
          </p:nvPr>
        </p:nvSpPr>
        <p:spPr>
          <a:xfrm>
            <a:off x="1239840" y="657360"/>
            <a:ext cx="4378320" cy="3284280"/>
          </a:xfrm>
          <a:prstGeom prst="rect">
            <a:avLst/>
          </a:prstGeom>
          <a:ln w="0">
            <a:noFill/>
          </a:ln>
        </p:spPr>
      </p:sp>
      <p:sp>
        <p:nvSpPr>
          <p:cNvPr id="120"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els (1820-95) on the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Hobbes, Engels’ views the state as necessary for social o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for Engels the state´s role is diffe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reates social order by regulating conflict between competing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te functions to benefit the whole of the ruling class by maintaining the status quo at the expense of the ru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Marx and Engels define clas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es are by their relation to the means of prod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wners and controllers of the means of production ( ‘bourgeoisi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owners of the means of production who have ‘nothing to sell but their labour power’ (‘proletaria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 name="PlaceHolder 1"/>
          <p:cNvSpPr>
            <a:spLocks noGrp="1"/>
          </p:cNvSpPr>
          <p:nvPr>
            <p:ph type="sldImg"/>
          </p:nvPr>
        </p:nvSpPr>
        <p:spPr>
          <a:xfrm>
            <a:off x="1239840" y="657360"/>
            <a:ext cx="4378320" cy="3284280"/>
          </a:xfrm>
          <a:prstGeom prst="rect">
            <a:avLst/>
          </a:prstGeom>
          <a:ln w="0">
            <a:noFill/>
          </a:ln>
        </p:spPr>
      </p:sp>
      <p:sp>
        <p:nvSpPr>
          <p:cNvPr id="123"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Marx and Engels defin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es are by their relation to the means of p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wners and controllers of the means of production ( ‘bourgeoisi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owners of the means of production who have ‘nothing to sell but their labour power’ (‘proletari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he state produces social ord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represents the interests of the ruling the bourgeoisie as against the proletariat throug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ws, coercion, force, ideology, religion, education, mass media, social divis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dividualism, consumerism, competi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PlaceHolder 1"/>
          <p:cNvSpPr>
            <a:spLocks noGrp="1"/>
          </p:cNvSpPr>
          <p:nvPr>
            <p:ph type="sldImg"/>
          </p:nvPr>
        </p:nvSpPr>
        <p:spPr>
          <a:xfrm>
            <a:off x="1239840" y="657360"/>
            <a:ext cx="4378320" cy="3284280"/>
          </a:xfrm>
          <a:prstGeom prst="rect">
            <a:avLst/>
          </a:prstGeom>
          <a:ln w="0">
            <a:noFill/>
          </a:ln>
        </p:spPr>
      </p:sp>
      <p:sp>
        <p:nvSpPr>
          <p:cNvPr id="126"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he state produces social o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represents the interests of the ruling the bourgeoisie as against the proletariat thr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ws, coercion, force, ideology, religion, education, mass media, social divi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dividualism, consumerism, compet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 communism, howev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te will ‘wither awa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ion will take place to meet the needs of everyone rather than to make profits for a ruling minor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peration will prevail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need for war (nor locking your do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PlaceHolder 1"/>
          <p:cNvSpPr>
            <a:spLocks noGrp="1"/>
          </p:cNvSpPr>
          <p:nvPr>
            <p:ph type="sldImg"/>
          </p:nvPr>
        </p:nvSpPr>
        <p:spPr>
          <a:xfrm>
            <a:off x="1239840" y="657360"/>
            <a:ext cx="4378320" cy="3284280"/>
          </a:xfrm>
          <a:prstGeom prst="rect">
            <a:avLst/>
          </a:prstGeom>
          <a:ln w="0">
            <a:noFill/>
          </a:ln>
        </p:spPr>
      </p:sp>
      <p:sp>
        <p:nvSpPr>
          <p:cNvPr id="129"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 communism, howe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te will ‘wither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ion will take place to meet the needs of everyone rather than to make profits for a ruling min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peration will prev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need for war (nor locking your do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sees the state as representing everyone’s interests, it is therefore an agency for pea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els sees the state as representing the interests of the ruling class, it is therefore a tool in class confli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PlaceHolder 1"/>
          <p:cNvSpPr>
            <a:spLocks noGrp="1"/>
          </p:cNvSpPr>
          <p:nvPr>
            <p:ph type="sldImg"/>
          </p:nvPr>
        </p:nvSpPr>
        <p:spPr>
          <a:xfrm>
            <a:off x="1239840" y="657360"/>
            <a:ext cx="4378320" cy="3284280"/>
          </a:xfrm>
          <a:prstGeom prst="rect">
            <a:avLst/>
          </a:prstGeom>
          <a:ln w="0">
            <a:noFill/>
          </a:ln>
        </p:spPr>
      </p:sp>
      <p:sp>
        <p:nvSpPr>
          <p:cNvPr id="132"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sees the state as representing everyone’s interests, it is therefore an agency for pe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els sees the state as representing the interests of the ruling class, it is therefore a tool in class confli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r>
              <a:rPr b="0" lang="en-US" sz="1200" spc="-1" strike="noStrike">
                <a:solidFill>
                  <a:srgbClr val="000000"/>
                </a:solidFill>
                <a:latin typeface="Times New Roman"/>
              </a:rPr>
              <a:t>General Studies at NS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mas Hobb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Leviathan’ (165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iedrich Engels ‘Origins of th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y, Private Property an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te’ (188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 name="PlaceHolder 1"/>
          <p:cNvSpPr>
            <a:spLocks noGrp="1"/>
          </p:cNvSpPr>
          <p:nvPr>
            <p:ph type="sldImg"/>
          </p:nvPr>
        </p:nvSpPr>
        <p:spPr>
          <a:xfrm>
            <a:off x="1239840" y="657360"/>
            <a:ext cx="4378320" cy="3284280"/>
          </a:xfrm>
          <a:prstGeom prst="rect">
            <a:avLst/>
          </a:prstGeom>
          <a:ln w="0">
            <a:noFill/>
          </a:ln>
        </p:spPr>
      </p:sp>
      <p:sp>
        <p:nvSpPr>
          <p:cNvPr id="90"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r>
              <a:rPr b="0" lang="en-US" sz="1200" spc="-1" strike="noStrike">
                <a:solidFill>
                  <a:srgbClr val="000000"/>
                </a:solidFill>
                <a:latin typeface="Times New Roman"/>
              </a:rPr>
              <a:t>General Studies at NS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mas Hobb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Leviathan’ (165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iedrich Engels ‘Origins of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y, Private Property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te’ (188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ques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is social order possib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aimed to produce evidence for why we need a government based on rational argument and evidence without reference to the ‘divine right of king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 name="PlaceHolder 1"/>
          <p:cNvSpPr>
            <a:spLocks noGrp="1"/>
          </p:cNvSpPr>
          <p:nvPr>
            <p:ph type="sldImg"/>
          </p:nvPr>
        </p:nvSpPr>
        <p:spPr>
          <a:xfrm>
            <a:off x="1239840" y="657360"/>
            <a:ext cx="4378320" cy="3284280"/>
          </a:xfrm>
          <a:prstGeom prst="rect">
            <a:avLst/>
          </a:prstGeom>
          <a:ln w="0">
            <a:noFill/>
          </a:ln>
        </p:spPr>
      </p:sp>
      <p:sp>
        <p:nvSpPr>
          <p:cNvPr id="93"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is social order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aimed to produce evidence for why we need a government based on rational argument and evidence without reference to the ‘divine right of 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assump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men seek to avoid death and inju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men want a happy life, they seek sufficient power to ensure that happy lif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men have a ‘restless desire for pow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eads to an ‘equality of hope in the achieving of our ai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 name="PlaceHolder 1"/>
          <p:cNvSpPr>
            <a:spLocks noGrp="1"/>
          </p:cNvSpPr>
          <p:nvPr>
            <p:ph type="sldImg"/>
          </p:nvPr>
        </p:nvSpPr>
        <p:spPr>
          <a:xfrm>
            <a:off x="1239840" y="657360"/>
            <a:ext cx="4378320" cy="3284280"/>
          </a:xfrm>
          <a:prstGeom prst="rect">
            <a:avLst/>
          </a:prstGeom>
          <a:ln w="0">
            <a:noFill/>
          </a:ln>
        </p:spPr>
      </p:sp>
      <p:sp>
        <p:nvSpPr>
          <p:cNvPr id="96"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assum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men seek to avoid death and inj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men want a happy life, they seek sufficient power to ensure that happy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men have a ‘restless desire for p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eads to an ‘equality of hope in the achieving of our ai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assump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 power able to enforce rules, there is chaos and mise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causes of confli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 fight for ga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 fight for secur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 fight for repu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 name="PlaceHolder 1"/>
          <p:cNvSpPr>
            <a:spLocks noGrp="1"/>
          </p:cNvSpPr>
          <p:nvPr>
            <p:ph type="sldImg"/>
          </p:nvPr>
        </p:nvSpPr>
        <p:spPr>
          <a:xfrm>
            <a:off x="1239840" y="657360"/>
            <a:ext cx="4378320" cy="3284280"/>
          </a:xfrm>
          <a:prstGeom prst="rect">
            <a:avLst/>
          </a:prstGeom>
          <a:ln w="0">
            <a:noFill/>
          </a:ln>
        </p:spPr>
      </p:sp>
      <p:sp>
        <p:nvSpPr>
          <p:cNvPr id="99"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assum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 power able to enforce rules, there is chaos and mis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causes of confli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 fight for 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 fight for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 fight for repu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licatio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one is pulled into a constant competitive struggle for pow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ural state of man is a war of all against all (‘the state of natu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insecure, and live in a constant fear of injury and dea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place for industry in the state of nature, because the fruit of it is uncertain. Hence, no agriculture, navigation, building, culture, scie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 in a state of nature i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litary, poor, nasty, brutish, and shor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 name="PlaceHolder 1"/>
          <p:cNvSpPr>
            <a:spLocks noGrp="1"/>
          </p:cNvSpPr>
          <p:nvPr>
            <p:ph type="sldImg"/>
          </p:nvPr>
        </p:nvSpPr>
        <p:spPr>
          <a:xfrm>
            <a:off x="1239840" y="657360"/>
            <a:ext cx="4378320" cy="3284280"/>
          </a:xfrm>
          <a:prstGeom prst="rect">
            <a:avLst/>
          </a:prstGeom>
          <a:ln w="0">
            <a:noFill/>
          </a:ln>
        </p:spPr>
      </p:sp>
      <p:sp>
        <p:nvSpPr>
          <p:cNvPr id="102"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lic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one is pulled into a constant competitive struggle for pow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ural state of man is a war of all against all (‘the state of n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insecure, and live in a constant fear of injury and d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place for industry in the state of nature, because the fruit of it is uncertain. Hence, no agriculture, navigation, building, culture, 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 in a state of nature 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litary, poor, nasty, brutish, and sho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evidence to support his assump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ct that people lock their doo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s support for Hobbes’ view tha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naturally inclined to fight each oth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 name="PlaceHolder 1"/>
          <p:cNvSpPr>
            <a:spLocks noGrp="1"/>
          </p:cNvSpPr>
          <p:nvPr>
            <p:ph type="sldImg"/>
          </p:nvPr>
        </p:nvSpPr>
        <p:spPr>
          <a:xfrm>
            <a:off x="1239840" y="657360"/>
            <a:ext cx="4378320" cy="3284280"/>
          </a:xfrm>
          <a:prstGeom prst="rect">
            <a:avLst/>
          </a:prstGeom>
          <a:ln w="0">
            <a:noFill/>
          </a:ln>
        </p:spPr>
      </p:sp>
      <p:sp>
        <p:nvSpPr>
          <p:cNvPr id="105"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evidence to support his assum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ct that people lock their do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s support for Hobbes’ view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naturally inclined to figh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s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 these conditions, how can social order be achieve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tate of nature, people have liber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man is rational, he will never use his power to harm himsel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 will try to achieve peace only if he is convinced that everyone else will do the sa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 name="PlaceHolder 1"/>
          <p:cNvSpPr>
            <a:spLocks noGrp="1"/>
          </p:cNvSpPr>
          <p:nvPr>
            <p:ph type="sldImg"/>
          </p:nvPr>
        </p:nvSpPr>
        <p:spPr>
          <a:xfrm>
            <a:off x="1239840" y="657360"/>
            <a:ext cx="4378320" cy="3284280"/>
          </a:xfrm>
          <a:prstGeom prst="rect">
            <a:avLst/>
          </a:prstGeom>
          <a:ln w="0">
            <a:noFill/>
          </a:ln>
        </p:spPr>
      </p:sp>
      <p:sp>
        <p:nvSpPr>
          <p:cNvPr id="108"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 these conditions, how can social order be achiev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tate of nature, people have liber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man is rational, he will never use his power to harm him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 will try to achieve peace only if he is convinced that everyone else will do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make sure that everyone would seek pea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use for everyone to merely agree to give up their individual freedom and power (‘sovereignty’) because people would cheat whenever it was to their advanta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have to transfer power to some sovereign state (‘the Leviathan’) which could make an agreement stick by having the authority to maintain order and use force against all lawbreak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 name="PlaceHolder 1"/>
          <p:cNvSpPr>
            <a:spLocks noGrp="1"/>
          </p:cNvSpPr>
          <p:nvPr>
            <p:ph type="sldImg"/>
          </p:nvPr>
        </p:nvSpPr>
        <p:spPr>
          <a:xfrm>
            <a:off x="1239840" y="657360"/>
            <a:ext cx="4378320" cy="3284280"/>
          </a:xfrm>
          <a:prstGeom prst="rect">
            <a:avLst/>
          </a:prstGeom>
          <a:ln w="0">
            <a:noFill/>
          </a:ln>
        </p:spPr>
      </p:sp>
      <p:sp>
        <p:nvSpPr>
          <p:cNvPr id="111"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make sure that everyone would seek pe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use for everyone to merely agree to give up their individual freedom and power (‘sovereignty’) because people would cheat whenever it was to their 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have to transfer power to some sovereign state (‘the Leviathan’) which could make an agreement stick by having the authority to maintain order and use force against all lawbreak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D39FD5-9526-44EE-83D5-4C06C93741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165F8F-E9E4-4DCA-8BF5-EAEAD2F718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E7842A-0DA0-418D-88FB-91E12A798B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CB101D-3422-42D7-B016-095AAEDDA9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0542DF-49AD-4993-8281-2D16A07D20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805872-D3F7-445C-981D-20A6C355FC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16B87F-CAAF-47E7-9736-2F03C3828F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3B6A66-8BE7-462C-AE53-41B54238D6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058651-C645-46FD-A068-4DAAF5831C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751AF-2420-4D10-A51B-9CBAE4EDA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EB049-AC0C-49F5-BBDE-0A85F6D426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27908-EBA5-4782-9B9D-CAB31DD300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A6561-CDCF-44DC-9A32-B656845C6D8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neral Studies at NSG</a:t>
            </a:r>
            <a:br>
              <a:rPr sz="2800"/>
            </a:br>
            <a:br>
              <a:rPr sz="2800"/>
            </a:br>
            <a:br>
              <a:rPr sz="2800"/>
            </a:br>
            <a:br>
              <a:rPr sz="2800"/>
            </a:br>
            <a:br>
              <a:rPr sz="2800"/>
            </a:br>
            <a:br>
              <a:rPr sz="2800"/>
            </a:br>
            <a:br>
              <a:rPr sz="2800"/>
            </a:br>
            <a:r>
              <a:rPr b="0" lang="en-GB" sz="4000" spc="-1" strike="noStrike">
                <a:solidFill>
                  <a:srgbClr val="000000"/>
                </a:solidFill>
                <a:latin typeface="Arial"/>
              </a:rPr>
              <a:t>Do we really need a government?</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Picture 5" descr="parliament"/>
          <p:cNvPicPr/>
          <p:nvPr/>
        </p:nvPicPr>
        <p:blipFill>
          <a:blip r:embed="rId1"/>
          <a:stretch/>
        </p:blipFill>
        <p:spPr>
          <a:xfrm>
            <a:off x="1447920" y="1752480"/>
            <a:ext cx="6248160" cy="3200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bbes’ conclusion:</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overnment is necessary if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ople are not to live in a state of na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ople are to pursue individual happin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ople are to engage in industry and commer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ople are to sleep safely in their be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rebuchet MS"/>
              </a:rPr>
              <a:t>Engels’ question: What are the origins of the state?</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rebuchet MS"/>
              </a:rPr>
              <a:t>Assumption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rebuchet MS"/>
              </a:rPr>
              <a:t>Before the development of private property there was no need for a stat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rebuchet MS"/>
              </a:rPr>
              <a:t>People lived in cooperative groups in ‘primitive communism’</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N.B. Anthropological evidence seems to support Engels’ not Hobbes’s assump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17160" y="52200"/>
            <a:ext cx="863748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els (1820-95) on the state</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ke Hobbes, Engels’ views the state as necessary for social ord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ever, for Engels the state´s role is differ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reates social order by regulating conflict between competing </a:t>
            </a:r>
            <a:r>
              <a:rPr b="1" lang="en-US" sz="2800" spc="-1" strike="noStrike">
                <a:solidFill>
                  <a:srgbClr val="000000"/>
                </a:solidFill>
                <a:latin typeface="Arial"/>
              </a:rPr>
              <a:t>class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te functions to benefit the whole of the ruling class by maintaining the status quo at the expense of the ruled</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How do Marx and Engels define classes?</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sses are by their relation to the means of production:</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Owners and controllers of the means of production ( </a:t>
            </a:r>
            <a:r>
              <a:rPr b="1" lang="en-US" sz="2800" spc="-1" strike="noStrike">
                <a:solidFill>
                  <a:srgbClr val="000000"/>
                </a:solidFill>
                <a:latin typeface="Trebuchet MS"/>
              </a:rPr>
              <a:t>‘bourgeoisie’</a:t>
            </a:r>
            <a:r>
              <a:rPr b="0" lang="en-US" sz="2800" spc="-1" strike="noStrike">
                <a:solidFill>
                  <a:srgbClr val="000000"/>
                </a:solidFill>
                <a:latin typeface="Trebuchet MS"/>
              </a:rPr>
              <a:t> )</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on-owners of the means of production who have ‘nothing to sell but their labour power’ (</a:t>
            </a:r>
            <a:r>
              <a:rPr b="1" lang="en-US" sz="2800" spc="-1" strike="noStrike">
                <a:solidFill>
                  <a:srgbClr val="000000"/>
                </a:solidFill>
                <a:latin typeface="Trebuchet MS"/>
              </a:rPr>
              <a:t>‘proletariat’</a:t>
            </a:r>
            <a:r>
              <a:rPr b="0" lang="en-US" sz="2800" spc="-1" strike="noStrike">
                <a:solidFill>
                  <a:srgbClr val="000000"/>
                </a:solidFill>
                <a:latin typeface="Trebuchet MS"/>
              </a:rPr>
              <a:t>)</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How the state produces social order</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t represents the interests of the ruling the bourgeoisie as against the proletariat through:</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laws, coercion, force, ideology, religion, education, mass media, social division,</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individualism, consumerism, competition</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Under communism, however</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rebuchet MS"/>
              </a:rPr>
              <a:t>The state will ‘wither away’</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rebuchet MS"/>
              </a:rPr>
              <a:t>Production will take place to meet the needs of everyone rather than to make profits for a ruling minority</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rebuchet MS"/>
              </a:rPr>
              <a:t>Cooperation will prevail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rebuchet MS"/>
              </a:rPr>
              <a:t>No need for war (nor locking your do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Conclusions</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rebuchet MS"/>
              </a:rPr>
              <a:t>Hobbes sees the state as representing everyone’s interests, it is therefore an agency for peace</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rebuchet MS"/>
              </a:rPr>
              <a:t>Engels sees the state as representing the interests of the ruling class, it is therefore a tool in class confli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6172200"/>
            <a:ext cx="80010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r>
              <a:rPr b="1" lang="en-US" sz="2700" spc="-1" strike="noStrike">
                <a:solidFill>
                  <a:srgbClr val="000000"/>
                </a:solidFill>
                <a:latin typeface="Trebuchet MS"/>
              </a:rPr>
              <a:t>General Studies at NSG</a:t>
            </a:r>
            <a:endParaRPr b="0" lang="en-US" sz="2700" spc="-1" strike="noStrike">
              <a:solidFill>
                <a:srgbClr val="000000"/>
              </a:solidFill>
              <a:latin typeface="Arial"/>
            </a:endParaRPr>
          </a:p>
        </p:txBody>
      </p:sp>
      <p:sp>
        <p:nvSpPr>
          <p:cNvPr id="52" name="PlaceHolder 2"/>
          <p:cNvSpPr>
            <a:spLocks noGrp="1"/>
          </p:cNvSpPr>
          <p:nvPr>
            <p:ph/>
          </p:nvPr>
        </p:nvSpPr>
        <p:spPr>
          <a:xfrm>
            <a:off x="533160" y="304560"/>
            <a:ext cx="8001000" cy="5715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omas Hobbes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t>
            </a:r>
            <a:r>
              <a:rPr b="0" lang="en-US" sz="3200" spc="-1" strike="noStrike">
                <a:solidFill>
                  <a:srgbClr val="000000"/>
                </a:solidFill>
                <a:latin typeface="Trebuchet MS"/>
              </a:rPr>
              <a:t>The Leviathan’ (1651)</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riedrich Engels ‘Origins of the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amily, Private Property and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 State’ (1884)</a:t>
            </a:r>
            <a:endParaRPr b="0" lang="en-US" sz="3200" spc="-1" strike="noStrike">
              <a:solidFill>
                <a:srgbClr val="000000"/>
              </a:solidFill>
              <a:latin typeface="Arial"/>
            </a:endParaRPr>
          </a:p>
        </p:txBody>
      </p:sp>
      <p:pic>
        <p:nvPicPr>
          <p:cNvPr id="53" name="Picture 1029" descr="hobbes_leviathan"/>
          <p:cNvPicPr/>
          <p:nvPr/>
        </p:nvPicPr>
        <p:blipFill>
          <a:blip r:embed="rId1"/>
          <a:stretch/>
        </p:blipFill>
        <p:spPr>
          <a:xfrm>
            <a:off x="6324480" y="304920"/>
            <a:ext cx="2505240" cy="3362040"/>
          </a:xfrm>
          <a:prstGeom prst="rect">
            <a:avLst/>
          </a:prstGeom>
          <a:ln w="0">
            <a:noFill/>
          </a:ln>
        </p:spPr>
      </p:pic>
      <p:pic>
        <p:nvPicPr>
          <p:cNvPr id="54" name="Picture 1031" descr="Engels,%20Friedrich"/>
          <p:cNvPicPr/>
          <p:nvPr/>
        </p:nvPicPr>
        <p:blipFill>
          <a:blip r:embed="rId2"/>
          <a:stretch/>
        </p:blipFill>
        <p:spPr>
          <a:xfrm>
            <a:off x="914400" y="4038480"/>
            <a:ext cx="1981080" cy="2514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4936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Hobbes’ question</a:t>
            </a:r>
            <a:endParaRPr b="0" lang="en-US" sz="32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How is social order possibl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Hobbes aimed to produce evidence for why we need a government based on rational argument and evidence without reference to the ‘divine right of king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obbes’ assumptions:</a:t>
            </a:r>
            <a:endParaRPr b="0" lang="en-US" sz="3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ll men seek to avoid death and injur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cause men want a happy life, they seek sufficient power to ensure that happy lif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ll men have a ‘restless desire for pow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s leads to an ‘equality of hope in the achieving of our ai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rebuchet MS"/>
              </a:rPr>
              <a:t>Hobbes’ assumptions:</a:t>
            </a:r>
            <a:endParaRPr b="0" lang="en-US" sz="3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Without a power able to enforce rules, there is chaos and misery</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3 causes of conflict</a:t>
            </a:r>
            <a:endParaRPr b="0" lang="en-US" sz="3000" spc="-1" strike="noStrike">
              <a:solidFill>
                <a:srgbClr val="000000"/>
              </a:solidFill>
              <a:latin typeface="Arial"/>
            </a:endParaRPr>
          </a:p>
          <a:p>
            <a:pPr lvl="1" marL="743040" indent="-285840">
              <a:lnSpc>
                <a:spcPct val="100000"/>
              </a:lnSpc>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men fight for gain</a:t>
            </a:r>
            <a:endParaRPr b="0" lang="en-US" sz="3000" spc="-1" strike="noStrike">
              <a:solidFill>
                <a:srgbClr val="000000"/>
              </a:solidFill>
              <a:latin typeface="Arial"/>
            </a:endParaRPr>
          </a:p>
          <a:p>
            <a:pPr lvl="1" marL="743040" indent="-285840">
              <a:lnSpc>
                <a:spcPct val="100000"/>
              </a:lnSpc>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men fight for security</a:t>
            </a:r>
            <a:endParaRPr b="0" lang="en-US" sz="3000" spc="-1" strike="noStrike">
              <a:solidFill>
                <a:srgbClr val="000000"/>
              </a:solidFill>
              <a:latin typeface="Arial"/>
            </a:endParaRPr>
          </a:p>
          <a:p>
            <a:pPr lvl="1" marL="743040" indent="-285840">
              <a:lnSpc>
                <a:spcPct val="100000"/>
              </a:lnSpc>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men fight for reputat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mplications </a:t>
            </a:r>
            <a:endParaRPr b="0" lang="en-US" sz="4400" spc="-1" strike="noStrike">
              <a:solidFill>
                <a:srgbClr val="000000"/>
              </a:solidFill>
              <a:latin typeface="Arial"/>
            </a:endParaRPr>
          </a:p>
        </p:txBody>
      </p:sp>
      <p:sp>
        <p:nvSpPr>
          <p:cNvPr id="62" name="PlaceHolder 2"/>
          <p:cNvSpPr>
            <a:spLocks noGrp="1"/>
          </p:cNvSpPr>
          <p:nvPr>
            <p:ph/>
          </p:nvPr>
        </p:nvSpPr>
        <p:spPr>
          <a:xfrm>
            <a:off x="457200" y="837720"/>
            <a:ext cx="8229600" cy="5288040"/>
          </a:xfrm>
          <a:prstGeom prst="rect">
            <a:avLst/>
          </a:prstGeom>
          <a:noFill/>
          <a:ln w="0">
            <a:noFill/>
          </a:ln>
        </p:spPr>
        <p:txBody>
          <a:bodyPr anchor="t">
            <a:normAutofit fontScale="98000"/>
          </a:bodyPr>
          <a:p>
            <a:pPr marL="335880" indent="-335880">
              <a:lnSpc>
                <a:spcPct val="8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Everyone is pulled into a constant competitive struggle for power </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the natural state of man is a war of all against all (‘the state of nature’)</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People are insecure, and live in a constant fear of injury and death</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There is no place for industry in the state of nature, because the fruit of it is uncertain. Hence, no agriculture, navigation, building, culture, science</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Life in a state of nature is </a:t>
            </a:r>
            <a:endParaRPr b="0" lang="en-US" sz="24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rebuchet MS"/>
              </a:rPr>
              <a:t>           </a:t>
            </a:r>
            <a:r>
              <a:rPr b="1" lang="en-GB" sz="2400" spc="-1" strike="noStrike">
                <a:solidFill>
                  <a:srgbClr val="000000"/>
                </a:solidFill>
                <a:latin typeface="Trebuchet MS"/>
              </a:rPr>
              <a:t>"solitary, poor, nasty, brutish, and short"</a:t>
            </a:r>
            <a:r>
              <a:rPr b="1" lang="en-GB" sz="2800" spc="-1" strike="noStrike">
                <a:solidFill>
                  <a:srgbClr val="000000"/>
                </a:solidFill>
                <a:latin typeface="Trebuchet MS"/>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17160" y="52200"/>
            <a:ext cx="863748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obbes’ evidence to support his assumptions</a:t>
            </a:r>
            <a:endParaRPr b="0" lang="en-US" sz="3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Times New Roman"/>
              </a:rPr>
              <a:t>The fact that people lock their door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Times New Roman"/>
              </a:rPr>
              <a:t>provides support for Hobbes’ view that</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Times New Roman"/>
              </a:rPr>
              <a:t>people are naturally inclined to fight each other.</a:t>
            </a:r>
            <a:r>
              <a:rPr b="0" lang="en-US" sz="3200" spc="-1" strike="noStrike">
                <a:solidFill>
                  <a:srgbClr val="009999"/>
                </a:solidFill>
                <a:latin typeface="Trebuchet MS"/>
                <a:ea typeface="Times New Roman"/>
              </a:rPr>
              <a:t> </a:t>
            </a:r>
            <a:endParaRPr b="0" lang="en-US" sz="3200" spc="-1" strike="noStrike">
              <a:solidFill>
                <a:srgbClr val="000000"/>
              </a:solidFill>
              <a:latin typeface="Arial"/>
            </a:endParaRPr>
          </a:p>
        </p:txBody>
      </p:sp>
      <p:pic>
        <p:nvPicPr>
          <p:cNvPr id="65" name="Picture 5" descr="20050623223753_oldtrailer"/>
          <p:cNvPicPr/>
          <p:nvPr/>
        </p:nvPicPr>
        <p:blipFill>
          <a:blip r:embed="rId1"/>
          <a:stretch/>
        </p:blipFill>
        <p:spPr>
          <a:xfrm>
            <a:off x="2057400" y="3581280"/>
            <a:ext cx="1676520" cy="2133720"/>
          </a:xfrm>
          <a:prstGeom prst="rect">
            <a:avLst/>
          </a:prstGeom>
          <a:ln w="0">
            <a:noFill/>
          </a:ln>
        </p:spPr>
      </p:pic>
      <p:pic>
        <p:nvPicPr>
          <p:cNvPr id="66" name="Picture 7" descr="FEMALE%2520DISORDER-hi"/>
          <p:cNvPicPr/>
          <p:nvPr/>
        </p:nvPicPr>
        <p:blipFill>
          <a:blip r:embed="rId2"/>
          <a:stretch/>
        </p:blipFill>
        <p:spPr>
          <a:xfrm>
            <a:off x="5029200" y="3657600"/>
            <a:ext cx="1905120" cy="1981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Hobbes’ solution</a:t>
            </a:r>
            <a:endParaRPr b="0" lang="en-US" sz="4400" spc="-1" strike="noStrike">
              <a:solidFill>
                <a:srgbClr val="000000"/>
              </a:solidFill>
              <a:latin typeface="Arial"/>
            </a:endParaRPr>
          </a:p>
        </p:txBody>
      </p:sp>
      <p:sp>
        <p:nvSpPr>
          <p:cNvPr id="68" name="PlaceHolder 2"/>
          <p:cNvSpPr>
            <a:spLocks noGrp="1"/>
          </p:cNvSpPr>
          <p:nvPr>
            <p:ph/>
          </p:nvPr>
        </p:nvSpPr>
        <p:spPr>
          <a:xfrm>
            <a:off x="457200" y="1294920"/>
            <a:ext cx="8229600" cy="4830840"/>
          </a:xfrm>
          <a:prstGeom prst="rect">
            <a:avLst/>
          </a:prstGeom>
          <a:noFill/>
          <a:ln w="0">
            <a:noFill/>
          </a:ln>
        </p:spPr>
        <p:txBody>
          <a:bodyPr anchor="t">
            <a:normAutofit fontScale="98000"/>
          </a:bodyPr>
          <a:p>
            <a:pPr marL="335880" indent="-3358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Under these conditions, how can social order be achieved? </a:t>
            </a:r>
            <a:endParaRPr b="0" lang="en-US" sz="2800" spc="-1" strike="noStrike">
              <a:solidFill>
                <a:srgbClr val="000000"/>
              </a:solidFill>
              <a:latin typeface="Arial"/>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 the state of nature, people have liberty</a:t>
            </a:r>
            <a:endParaRPr b="0" lang="en-US" sz="2800" spc="-1" strike="noStrike">
              <a:solidFill>
                <a:srgbClr val="000000"/>
              </a:solidFill>
              <a:latin typeface="Arial"/>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ce man is rational, he will never use his power to harm himself</a:t>
            </a:r>
            <a:endParaRPr b="0" lang="en-US" sz="2800" spc="-1" strike="noStrike">
              <a:solidFill>
                <a:srgbClr val="000000"/>
              </a:solidFill>
              <a:latin typeface="Arial"/>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 will try to achieve peace only if he is convinced that everyone else will do the sa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17160" y="52200"/>
            <a:ext cx="863748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How to make sure that everyone would seek peace?</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o use for everyone to merely agree to give up their individual freedom and power (‘sovereignty’) because people would cheat whenever it was to their advantag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ey would have to transfer power to some sovereign state (‘the Leviathan’) which could make an agreement stick by having the authority to maintain order and use force against all lawbreakers</a:t>
            </a:r>
            <a:endParaRPr b="0" lang="en-US" sz="2800" spc="-1" strike="noStrike">
              <a:solidFill>
                <a:srgbClr val="000000"/>
              </a:solidFill>
              <a:latin typeface="Arial"/>
            </a:endParaRPr>
          </a:p>
          <a:p>
            <a:pPr lvl="3" marL="16002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omaK</cp:lastModifiedBy>
  <dcterms:modified xsi:type="dcterms:W3CDTF">2015-09-02T09:54:24Z</dcterms:modified>
  <cp:revision>34</cp:revision>
  <dc:subject/>
  <dc:title>Thomas Hobbes</dc:title>
</cp:coreProperties>
</file>