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745F9-6EDF-413C-AE51-DF8338BC897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rt of the Renaissance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wo Painting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usic: ‘Miserere Mei, Deus’ by Gregorio Allegri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erformed by the Tallis Schola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eneral Studies at NS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t of the Renaissanc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Paint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sic: ‘Miserere Mei, Deus’ by Gregorio Allegri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formed by the Tallis Schol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l Studies at NS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ok carefully at everything in the picture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orise i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 carefully at everything in the pictur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morise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can we remember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w return to the picture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scribe the possible significance of what you see in the painting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an we remembe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return to the pictur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be the possible significance of what you see in the pain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wo glob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Quadrant, torquetum, sundi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Oriental carpe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lothing (secular and clerical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Book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namorphic skul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Men (bishops/ ambassadors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rucifix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glob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adrant, torquetum, sund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iental carp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thing (secular and cleric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amorphic sk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n (bishops/ ambassador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ucifi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Ambassadors (1533)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y Hans Holbein the Younger        (1497/8-1543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ational Galle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afalgar Square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nd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mbassadors (1533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Hans Holbein the Younger        (1497/8-154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ional Gall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falgar Squar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nd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mail received 17 Nov 0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i Sir I hope you’re well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 was hoping that you might be able to help me, well basically th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ype of people I am in acquaintance with are people from private/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ublic schools who are studying history, English literature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ilosophy, politics etc and I'm finding it really hard to keep up and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rticipate in any interesting conversation on an intellectual level.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refore I want to read to books, journals etc  to  increase my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knowledge, and the only person I thought would be able to recommend a good book list to me would be you!!!!!!!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'd really appreciate it if you could spare me a couple of minutes and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elp me not feel like a silly billy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ank you VERY VERY  much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ail received 17 Nov 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 Sir I hope you’re well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was hoping that you might be able to help me, well basically th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 of people I am in acquaintance with are people from private/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blic schools who are studying history, English literature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ilosophy, politics etc and I'm finding it really hard to keep up an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icipate in any interesting conversation on an intellectual level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fore I want to read to books, journals etc  to  increase m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ledge, and the only person I thought would be able to recommend a good book list to me would be you!!!!!!!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'd really appreciate it if you could spare me a couple of minutes an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p me not feel like a silly billy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nk you VERY VERY  much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am ques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) ‘Only those who have participated in the arts can understand the arts.’ To what extent do you agree with this statement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) Select a well-known example of one of the following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) a building b) a sculpture c) a painting. You should consider its intended message, its aesthetic* appeal and your personal response.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* by ‘aesthetic’ we refer to considerations of beauty and taste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‘Only those who have participated in the arts can understand the arts.’ To what extent do you agree with this statemen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Select a well-known example of one of the following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a building b) a sculpture c) a painting. You should consider its intended message, its aesthetic* appeal and your personal response.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by ‘aesthetic’ we refer to considerations of beauty and tas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ok carefully at everything in the picture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orise i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 carefully at everything in the pictur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morise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can we remember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w return to the picture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scribe the possible significance of what you see in the painting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an we remembe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return to the pictur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be the possible significance of what you see in the pain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lacement of the two figur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loth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erri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tten clog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riffon do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nd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ini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rro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rus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osa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cement of the two fig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t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r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n clo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iffon do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d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rr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u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s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Johannes van eyck fuit hic. (was here).143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inial of St Margaret, patron saint of pregnancy and childbirt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osary and brush ora et labora (pray and work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wo men in the background, the one in blue presumably the artis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pictions of the Passions of Christ around the mirro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annes van eyck fuit hic. (was here).14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al of St Margaret, patron saint of pregnancy and childbi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sary and brush ora et labora (pray and wor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men in the background, the one in blue presumably the art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ictions of the Passions of Christ around the mirr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ne candle alight, the other burnt ou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absent chain and pulley for lower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andelier as a symbol of wealt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candle alight, the other burnt 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bsent chain and pulley for lowe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delier as a symbol of weal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Arnolfini Portrait (1434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y Jan van Eyck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1387-1441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ought in 1842 for £60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y th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ational Galle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afalgar Squa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nd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rnolfini Portrait (143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Jan van Eyc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387-144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ught in 1842 for £6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ional Gall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falgar Squ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nd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B3411-52D7-4CBC-AF50-8D782ADB3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9341E-44FC-43A5-B8E1-888E3ED9E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7D2A0-C5E4-46F2-8404-9E6F8C7E6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BA15E-6013-47A8-8F24-2CD17F563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67A3F-E135-4ADD-BD73-4BA092C85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3E276-7489-4DD2-B204-56C5A0C90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5D9C2-26FA-4D6C-A2BF-F8C255309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4D73B-A05F-4EA7-9C6B-DC907DFE6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DF6E8-585E-45E4-BA6E-A251D2808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10440-071D-4669-83CD-B61BF40E5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23940-7B46-48AB-A282-5127CCFBF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EB62E-AACC-4F91-A559-8547FAC86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655C6-EDE1-4A29-9478-566F8AE7E905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mage:Skull-Ambassadors.jpg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468360" y="907920"/>
            <a:ext cx="8207280" cy="56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f"/>
                </a:solidFill>
                <a:latin typeface="Arial"/>
              </a:rPr>
              <a:t>Art of the Renaissance: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f"/>
                </a:solidFill>
                <a:latin typeface="Arial"/>
              </a:rPr>
              <a:t>Two Paintings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usic: ‘Miserere Mei, Deus’ by Gregorio Allegri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erformed by the Tallis Schola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General Studies at NS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5" descr="Holbein-ambassadors"/>
          <p:cNvPicPr/>
          <p:nvPr/>
        </p:nvPicPr>
        <p:blipFill>
          <a:blip r:embed="rId1"/>
          <a:stretch/>
        </p:blipFill>
        <p:spPr>
          <a:xfrm>
            <a:off x="1800360" y="695160"/>
            <a:ext cx="5543280" cy="546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4" descr="Holbein-ambassadors"/>
          <p:cNvPicPr/>
          <p:nvPr/>
        </p:nvPicPr>
        <p:blipFill>
          <a:blip r:embed="rId1"/>
          <a:stretch/>
        </p:blipFill>
        <p:spPr>
          <a:xfrm>
            <a:off x="3059280" y="692280"/>
            <a:ext cx="5543280" cy="5467320"/>
          </a:xfrm>
          <a:prstGeom prst="rect">
            <a:avLst/>
          </a:prstGeom>
          <a:ln w="0">
            <a:noFill/>
          </a:ln>
        </p:spPr>
      </p:pic>
      <p:sp>
        <p:nvSpPr>
          <p:cNvPr id="66" name="Text Box 6"/>
          <p:cNvSpPr/>
          <p:nvPr/>
        </p:nvSpPr>
        <p:spPr>
          <a:xfrm>
            <a:off x="395280" y="907920"/>
            <a:ext cx="252108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ook carefully at everything in the pictur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emorise 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4"/>
          <p:cNvSpPr/>
          <p:nvPr/>
        </p:nvSpPr>
        <p:spPr>
          <a:xfrm>
            <a:off x="395280" y="476280"/>
            <a:ext cx="691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hat can we remember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239400" y="5537160"/>
            <a:ext cx="682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w return to the picture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scribe the possible significance of what you see in the painting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Holbein-ambassadors"/>
          <p:cNvPicPr/>
          <p:nvPr/>
        </p:nvPicPr>
        <p:blipFill>
          <a:blip r:embed="rId1"/>
          <a:stretch/>
        </p:blipFill>
        <p:spPr>
          <a:xfrm>
            <a:off x="3059280" y="692280"/>
            <a:ext cx="5543280" cy="5467320"/>
          </a:xfrm>
          <a:prstGeom prst="rect">
            <a:avLst/>
          </a:prstGeom>
          <a:ln w="0">
            <a:noFill/>
          </a:ln>
        </p:spPr>
      </p:pic>
      <p:sp>
        <p:nvSpPr>
          <p:cNvPr id="70" name="Text Box 5"/>
          <p:cNvSpPr/>
          <p:nvPr/>
        </p:nvSpPr>
        <p:spPr>
          <a:xfrm>
            <a:off x="539640" y="836640"/>
            <a:ext cx="2376720" cy="411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wo glob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Quadrant, torquetum, sundi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riental carp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lothing (secular and clerical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ook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amorphic skul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en (bishops/ ambassador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rucifi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5" descr="Skull-Ambassador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786120" y="2633760"/>
            <a:ext cx="1571760" cy="15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4" descr="Holbein-ambassadors"/>
          <p:cNvPicPr/>
          <p:nvPr/>
        </p:nvPicPr>
        <p:blipFill>
          <a:blip r:embed="rId1"/>
          <a:stretch/>
        </p:blipFill>
        <p:spPr>
          <a:xfrm>
            <a:off x="2987640" y="692280"/>
            <a:ext cx="5543640" cy="5467320"/>
          </a:xfrm>
          <a:prstGeom prst="rect">
            <a:avLst/>
          </a:prstGeom>
          <a:ln w="0">
            <a:noFill/>
          </a:ln>
        </p:spPr>
      </p:pic>
      <p:sp>
        <p:nvSpPr>
          <p:cNvPr id="73" name="Text Box 6"/>
          <p:cNvSpPr/>
          <p:nvPr/>
        </p:nvSpPr>
        <p:spPr>
          <a:xfrm>
            <a:off x="395280" y="836640"/>
            <a:ext cx="237636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Arial"/>
              </a:rPr>
              <a:t>The Ambassadors</a:t>
            </a: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 (1533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by Hans Holbein the Younger        (1497/8-1543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National Galle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Trafalgar Squar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Lond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fd293"/>
                </a:solidFill>
                <a:latin typeface="Arial"/>
              </a:rPr>
              <a:t>Email received 17 Nov 08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i Sir I hope you’re well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 was hoping that you might be able to help me, well basically the</a:t>
            </a:r>
            <a:br>
              <a:rPr sz="2000"/>
            </a:b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ype of people I am in acquaintance with are people from private/</a:t>
            </a:r>
            <a:br>
              <a:rPr sz="2000"/>
            </a:b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ublic schools who are studying history, English literature,</a:t>
            </a:r>
            <a:br>
              <a:rPr sz="2000"/>
            </a:b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hilosophy, politics etc and I'm finding it really hard to keep up and</a:t>
            </a:r>
            <a:br>
              <a:rPr sz="2000"/>
            </a:b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articipate in any interesting conversation on an intellectual level.</a:t>
            </a:r>
            <a:br>
              <a:rPr sz="2000"/>
            </a:b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refore I want to read to books, journals etc  to  increase my</a:t>
            </a:r>
            <a:br>
              <a:rPr sz="2000"/>
            </a:b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knowledge, and the only person I thought would be able to recommend a good book list to me would be you!!!!!!!</a:t>
            </a:r>
            <a:br>
              <a:rPr sz="2000"/>
            </a:br>
            <a:br>
              <a:rPr sz="2000"/>
            </a:b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'd really appreciate it if you could spare me a couple of minutes and</a:t>
            </a:r>
            <a:br>
              <a:rPr sz="2000"/>
            </a:b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elp me not feel like a silly billy.</a:t>
            </a:r>
            <a:br>
              <a:rPr sz="2000"/>
            </a:br>
            <a:br>
              <a:rPr sz="2000"/>
            </a:b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ank you VERY VERY  much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Exam ques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1) ‘Only those who have participated in the arts can understand the arts.’ To what extent do you agree with this statement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2) Select a well-known example of one of the following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) a building b) a sculpture c) a painting. You should consider its intended message, its aesthetic* appeal and your personal response.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* by ‘aesthetic’ we refer to considerations of beauty and tas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arnolfinibig"/>
          <p:cNvPicPr/>
          <p:nvPr/>
        </p:nvPicPr>
        <p:blipFill>
          <a:blip r:embed="rId1"/>
          <a:stretch/>
        </p:blipFill>
        <p:spPr>
          <a:xfrm>
            <a:off x="1979640" y="333360"/>
            <a:ext cx="504036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arnolfinibig"/>
          <p:cNvPicPr/>
          <p:nvPr/>
        </p:nvPicPr>
        <p:blipFill>
          <a:blip r:embed="rId1"/>
          <a:stretch/>
        </p:blipFill>
        <p:spPr>
          <a:xfrm>
            <a:off x="3780000" y="260280"/>
            <a:ext cx="5040000" cy="61912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6"/>
          <p:cNvSpPr/>
          <p:nvPr/>
        </p:nvSpPr>
        <p:spPr>
          <a:xfrm>
            <a:off x="0" y="549360"/>
            <a:ext cx="370836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ook carefully at everything in the pictur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emorise 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4"/>
          <p:cNvSpPr/>
          <p:nvPr/>
        </p:nvSpPr>
        <p:spPr>
          <a:xfrm>
            <a:off x="755640" y="549360"/>
            <a:ext cx="813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hat can we remember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0" y="6040440"/>
            <a:ext cx="992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w return to the picture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scribe the possible significance of what you see in the painting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arnolfinibig"/>
          <p:cNvPicPr/>
          <p:nvPr/>
        </p:nvPicPr>
        <p:blipFill>
          <a:blip r:embed="rId1"/>
          <a:stretch/>
        </p:blipFill>
        <p:spPr>
          <a:xfrm>
            <a:off x="2627280" y="549360"/>
            <a:ext cx="5040360" cy="6191280"/>
          </a:xfrm>
          <a:prstGeom prst="rect">
            <a:avLst/>
          </a:prstGeom>
          <a:ln w="0">
            <a:noFill/>
          </a:ln>
        </p:spPr>
      </p:pic>
      <p:sp>
        <p:nvSpPr>
          <p:cNvPr id="57" name="Text Box 8"/>
          <p:cNvSpPr/>
          <p:nvPr/>
        </p:nvSpPr>
        <p:spPr>
          <a:xfrm>
            <a:off x="250920" y="549360"/>
            <a:ext cx="1657080" cy="46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lacement of the two figur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loth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herri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tten clog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Griffon do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and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ini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irr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rus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osa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arnolfini st margaret"/>
          <p:cNvPicPr/>
          <p:nvPr/>
        </p:nvPicPr>
        <p:blipFill>
          <a:blip r:embed="rId1"/>
          <a:stretch/>
        </p:blipFill>
        <p:spPr>
          <a:xfrm>
            <a:off x="3276720" y="333360"/>
            <a:ext cx="5688000" cy="5616720"/>
          </a:xfrm>
          <a:prstGeom prst="rect">
            <a:avLst/>
          </a:prstGeom>
          <a:ln w="0">
            <a:noFill/>
          </a:ln>
        </p:spPr>
      </p:pic>
      <p:sp>
        <p:nvSpPr>
          <p:cNvPr id="59" name="Text Box 5"/>
          <p:cNvSpPr/>
          <p:nvPr/>
        </p:nvSpPr>
        <p:spPr>
          <a:xfrm>
            <a:off x="250920" y="404640"/>
            <a:ext cx="2952720" cy="56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Johannes van eyck </a:t>
            </a:r>
            <a:r>
              <a:rPr b="0" i="1" lang="uk-UA" sz="1800" spc="-1" strike="noStrike">
                <a:solidFill>
                  <a:srgbClr val="ffffff"/>
                </a:solidFill>
                <a:latin typeface="Arial"/>
              </a:rPr>
              <a:t>fuit hic.</a:t>
            </a: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 (was here).</a:t>
            </a:r>
            <a:r>
              <a:rPr b="0" i="1" lang="uk-UA" sz="1800" spc="-1" strike="noStrike">
                <a:solidFill>
                  <a:srgbClr val="ffffff"/>
                </a:solidFill>
                <a:latin typeface="Arial"/>
              </a:rPr>
              <a:t>143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Finial of St Margaret, patron saint of pregnancy and childbirt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osary and brush </a:t>
            </a: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ora et labora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(pray and work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wo men in the background, the one in blue presumably the arti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pictions of the Passions of Christ around the mirr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Arnolfini chandelier"/>
          <p:cNvPicPr/>
          <p:nvPr/>
        </p:nvPicPr>
        <p:blipFill>
          <a:blip r:embed="rId1"/>
          <a:stretch/>
        </p:blipFill>
        <p:spPr>
          <a:xfrm>
            <a:off x="3348000" y="404640"/>
            <a:ext cx="5473800" cy="5473800"/>
          </a:xfrm>
          <a:prstGeom prst="rect">
            <a:avLst/>
          </a:prstGeom>
          <a:ln w="0">
            <a:noFill/>
          </a:ln>
        </p:spPr>
      </p:pic>
      <p:sp>
        <p:nvSpPr>
          <p:cNvPr id="61" name="Text Box 5"/>
          <p:cNvSpPr/>
          <p:nvPr/>
        </p:nvSpPr>
        <p:spPr>
          <a:xfrm>
            <a:off x="395280" y="836640"/>
            <a:ext cx="252108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ne candle alight, the other burnt ou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he absent chain and pulley for lower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handelier as a symbol of wealt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arnolfinibig"/>
          <p:cNvPicPr/>
          <p:nvPr/>
        </p:nvPicPr>
        <p:blipFill>
          <a:blip r:embed="rId1"/>
          <a:stretch/>
        </p:blipFill>
        <p:spPr>
          <a:xfrm>
            <a:off x="3564000" y="260280"/>
            <a:ext cx="5040360" cy="6191280"/>
          </a:xfrm>
          <a:prstGeom prst="rect">
            <a:avLst/>
          </a:prstGeom>
          <a:ln w="0">
            <a:noFill/>
          </a:ln>
        </p:spPr>
      </p:pic>
      <p:sp>
        <p:nvSpPr>
          <p:cNvPr id="63" name="Text Box 5"/>
          <p:cNvSpPr/>
          <p:nvPr/>
        </p:nvSpPr>
        <p:spPr>
          <a:xfrm>
            <a:off x="324000" y="333360"/>
            <a:ext cx="3240000" cy="450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Arnolfini Portrait (1434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y Jan van Eyck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1387-1441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ought in 1842 for £6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y th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tional Galle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rafalgar Squa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ond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3T22:32:41Z</dcterms:created>
  <dc:creator>Any Authorised User</dc:creator>
  <dc:description/>
  <dc:language>en-US</dc:language>
  <cp:lastModifiedBy>RomaK</cp:lastModifiedBy>
  <dcterms:modified xsi:type="dcterms:W3CDTF">2015-09-02T09:54:04Z</dcterms:modified>
  <cp:revision>36</cp:revision>
  <dc:subject/>
  <dc:title>Slide 1</dc:title>
</cp:coreProperties>
</file>