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FDE3-1116-43D4-9054-2301669CBB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 of the Renaissanc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Painti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ic: ‘Miserere Mei, Deus’ by Gregorio Allegri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formed by the Tallis Schol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ral Studies at NS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 of the Renaissa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ain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ic: ‘Miserere Mei, Deus’ by Gregorio Allegr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ed by the Tallis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Studies at 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carefully at everything in the pictu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orise 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arefully at everything in the pi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n we rememb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return to the pictur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be the possible significance of what you see in the pain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reme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return to the pic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possible significance of what you see in the pain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wo glob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Quadrant, torquetum, sund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riental carp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othing (secular and clerical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oo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amorphic sk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n (bishops/ ambassador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rucifi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gl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drant, torquetum, sund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ental carp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ing (secular and cler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morphic sk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(bishops/ ambassad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cif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mbassadors (1533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Hans Holbein the Younger        (1497/8-1543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tional Gall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falgar Squa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bassadors (153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Hans Holbein the Younger        (1497/8-154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Gall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falgar Squ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ail received 17 Nov 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 Sir I hope you’re well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was hoping that you might be able to help me, well basically th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 of people I am in acquaintance with are people from private/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blic schools who are studying history, English literature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ilosophy, politics etc and I'm finding it really hard to keep up and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ipate in any interesting conversation on an intellectual level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fore I want to read to books, journals etc  to  increase my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nowledge, and the only person I thought would be able to recommend a good book list to me would be you!!!!!!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'd really appreciate it if you could spare me a couple of minutes and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 me not feel like a silly bil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nk you VERY VERY  much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il received 17 Nov 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 Sir I hope you’re wel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as hoping that you might be able to help me, well basically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of people I am in acquaintance with are people from private/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schools who are studying history, English literatur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osophy, politics etc and I'm finding it really hard to keep up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te in any interesting conversation on an intellectual leve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I want to read to books, journals etc  to  increase m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, and the only person I thought would be able to recommend a good book list to me would be you!!!!!!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'd really appreciate it if you could spare me a couple of minute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me not feel like a silly bil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VERY VERY  muc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 ques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‘Only those who have participated in the arts can understand the arts.’ To what extent do you agree with this statemen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Select a well-known example of one of the following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 a building b) a sculpture c) a painting. You should consider its intended message, its aesthetic* appeal and your personal response.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by ‘aesthetic’ we refer to considerations of beauty and tast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‘Only those who have participated in the arts can understand the arts.’ To what extent do you agree with this state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Select a well-known example of one of the following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 building b) a sculpture c) a painting. You should consider its intended message, its aesthetic* appeal and your personal response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y ‘aesthetic’ we refer to considerations of beauty and ta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carefully at everything in the pictu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orise 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arefully at everything in the pi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n we rememb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return to the pictur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be the possible significance of what you see in the pain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reme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return to the pic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possible significance of what you see in the pain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cement of the two fig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r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ten clo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iffon do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d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rr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us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s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ment of the two fig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n clo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iffon d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annes van eyck fuit hic. (was here).143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ial of St Margaret, patron saint of pregnancy and childbi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sary and brush ora et labora (pray and work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men in the background, the one in blue presumably the arti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ictions of the Passions of Christ around the mirr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annes van eyck fuit hic. (was here).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al of St Margaret, patron saint of pregnancy and child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ary and brush ora et labora (pray and 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men in the background, the one in blue presumably the ar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ictions of the Passions of Christ around the 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candle alight, the other burnt 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bsent chain and pulley for lowe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ndelier as a symbol of weal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andle alight, the other burnt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ent chain and pulley for low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delier as a symbol of w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rnolfini Portrait (143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Jan van Eyck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1387-144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ught in 1842 for £6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th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tional Gall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falgar Squ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nolfini Portrait (14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Jan van Ey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387-144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ght in 1842 for £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Gall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falgar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88DF-C886-42AC-B555-96F758EA2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6279-0CC9-4D55-8F56-4635D886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6E79-BD89-4FF0-A736-7948FA669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BFFC-81E7-407B-92E5-6997F978A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874C-AF8A-43B3-90DB-65F44460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DBDA-36BD-495F-9E9F-EAB62D95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4D05-4847-4ED1-A1D1-5A03050B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99B2-24D3-4961-95FD-917FFDDB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EA23-5DF6-476C-800A-DE0A7C3D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1E0A-8725-41BA-8220-49A9509B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2302-63B6-4775-9B28-3C41113A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46D0-C136-49AF-8F2C-6ED5AAEC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038D-967A-4CEF-A95C-AC6EDDA8649A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Skull-Ambassadors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68360" y="907920"/>
            <a:ext cx="820728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Art of the Renaissance: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Two Painting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usic: ‘Miserere Mei, Deus’ by Gregorio Allegr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rformed by the Tallis Schol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neral Studies at NS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Holbein-ambassadors"/>
          <p:cNvPicPr/>
          <p:nvPr/>
        </p:nvPicPr>
        <p:blipFill>
          <a:blip r:embed="rId1"/>
          <a:stretch/>
        </p:blipFill>
        <p:spPr>
          <a:xfrm>
            <a:off x="1800360" y="695160"/>
            <a:ext cx="554328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Holbein-ambassadors"/>
          <p:cNvPicPr/>
          <p:nvPr/>
        </p:nvPicPr>
        <p:blipFill>
          <a:blip r:embed="rId1"/>
          <a:stretch/>
        </p:blipFill>
        <p:spPr>
          <a:xfrm>
            <a:off x="3059280" y="692280"/>
            <a:ext cx="5543280" cy="5467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395280" y="907920"/>
            <a:ext cx="2521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ok carefully at everything in the pictu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ise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95280" y="47628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at can we rememb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39400" y="5537160"/>
            <a:ext cx="68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w return to the pictur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be the possible significance of what you see in the paint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Holbein-ambassadors"/>
          <p:cNvPicPr/>
          <p:nvPr/>
        </p:nvPicPr>
        <p:blipFill>
          <a:blip r:embed="rId1"/>
          <a:stretch/>
        </p:blipFill>
        <p:spPr>
          <a:xfrm>
            <a:off x="3059280" y="692280"/>
            <a:ext cx="5543280" cy="54673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539640" y="836640"/>
            <a:ext cx="237672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wo glob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Quadrant, torquetum, sund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ental carp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lothing (secular and cleric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o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amorphic sku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n (bishops/ ambassador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ucif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Skull-Ambassado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6120" y="2633760"/>
            <a:ext cx="157176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Holbein-ambassadors"/>
          <p:cNvPicPr/>
          <p:nvPr/>
        </p:nvPicPr>
        <p:blipFill>
          <a:blip r:embed="rId1"/>
          <a:stretch/>
        </p:blipFill>
        <p:spPr>
          <a:xfrm>
            <a:off x="2987640" y="692280"/>
            <a:ext cx="5543640" cy="54673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395280" y="836640"/>
            <a:ext cx="2376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The Ambassadors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(153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by Hans Holbein the Younger        (1497/8-154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National Gall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Trafalgar Squ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Email received 17 Nov 08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i Sir I hope you’re well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was hoping that you might be able to help me, well basically the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ype of people I am in acquaintance with are people from private/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blic schools who are studying history, English literature,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hilosophy, politics etc and I'm finding it really hard to keep up and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rticipate in any interesting conversation on an intellectual level.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refore I want to read to books, journals etc  to  increase my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nowledge, and the only person I thought would be able to recommend a good book list to me would be you!!!!!!!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'd really appreciate it if you could spare me a couple of minutes and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lp me not feel like a silly billy.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ank you VERY VERY  much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xam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) ‘Only those who have participated in the arts can understand the arts.’ To what extent do you agree with this statem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) Select a well-known example of one of the following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) a building b) a sculpture c) a painting. You should consider its intended message, its aesthetic* appeal and your personal response.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* by ‘aesthetic’ we refer to considerations of beauty and tas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arnolfinibig"/>
          <p:cNvPicPr/>
          <p:nvPr/>
        </p:nvPicPr>
        <p:blipFill>
          <a:blip r:embed="rId1"/>
          <a:stretch/>
        </p:blipFill>
        <p:spPr>
          <a:xfrm>
            <a:off x="1979640" y="333360"/>
            <a:ext cx="50403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arnolfinibig"/>
          <p:cNvPicPr/>
          <p:nvPr/>
        </p:nvPicPr>
        <p:blipFill>
          <a:blip r:embed="rId1"/>
          <a:stretch/>
        </p:blipFill>
        <p:spPr>
          <a:xfrm>
            <a:off x="3780000" y="260280"/>
            <a:ext cx="5040000" cy="619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0" y="549360"/>
            <a:ext cx="37083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ok carefully at everything in the pictu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ise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755640" y="54936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at can we rememb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0" y="6040440"/>
            <a:ext cx="992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w return to the pictur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be the possible significance of what you see in the paint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arnolfinibig"/>
          <p:cNvPicPr/>
          <p:nvPr/>
        </p:nvPicPr>
        <p:blipFill>
          <a:blip r:embed="rId1"/>
          <a:stretch/>
        </p:blipFill>
        <p:spPr>
          <a:xfrm>
            <a:off x="2627280" y="549360"/>
            <a:ext cx="5040360" cy="6191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250920" y="549360"/>
            <a:ext cx="16570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ment of the two fig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lot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r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tten clo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riffon do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nd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n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i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u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os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arnolfini st margaret"/>
          <p:cNvPicPr/>
          <p:nvPr/>
        </p:nvPicPr>
        <p:blipFill>
          <a:blip r:embed="rId1"/>
          <a:stretch/>
        </p:blipFill>
        <p:spPr>
          <a:xfrm>
            <a:off x="3276720" y="333360"/>
            <a:ext cx="5688000" cy="5616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250920" y="404640"/>
            <a:ext cx="295272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Johannes van eyck 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fuit hic.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(was here).</a:t>
            </a: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143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Finial of St Margaret, patron saint of pregnancy and childbir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osary and brush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ora et labor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pray and wor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wo men in the background, the one in blue presumably the art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pictions of the Passions of Christ around the mi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Arnolfini chandelier"/>
          <p:cNvPicPr/>
          <p:nvPr/>
        </p:nvPicPr>
        <p:blipFill>
          <a:blip r:embed="rId1"/>
          <a:stretch/>
        </p:blipFill>
        <p:spPr>
          <a:xfrm>
            <a:off x="3348000" y="404640"/>
            <a:ext cx="5473800" cy="54738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395280" y="836640"/>
            <a:ext cx="2521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e candle alight, the other burnt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absent chain and pulley for low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andelier as a symbol of weal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arnolfinibig"/>
          <p:cNvPicPr/>
          <p:nvPr/>
        </p:nvPicPr>
        <p:blipFill>
          <a:blip r:embed="rId1"/>
          <a:stretch/>
        </p:blipFill>
        <p:spPr>
          <a:xfrm>
            <a:off x="3564000" y="260280"/>
            <a:ext cx="5040360" cy="61912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324000" y="333360"/>
            <a:ext cx="3240000" cy="45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Arnolfini Portrait (143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y Jan van Eyc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1387-144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ught in 1842 for £6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y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tional Gall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rafalgar Squ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22:32:41Z</dcterms:created>
  <dc:creator>Any Authorised User</dc:creator>
  <dc:description/>
  <dc:language>en-US</dc:language>
  <cp:lastModifiedBy>RomaK</cp:lastModifiedBy>
  <dcterms:modified xsi:type="dcterms:W3CDTF">2015-09-02T09:54:04Z</dcterms:modified>
  <cp:revision>36</cp:revision>
  <dc:subject/>
  <dc:title>Slide 1</dc:title>
</cp:coreProperties>
</file>