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D925-44D1-4E25-A9F8-8A651AE069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enre is a ‘type’ of film. Take a moment or two to name as many film types as you ca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re is a ‘type’ of film. Take a moment or two to name as many film types as you c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8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. And finall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And fin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haps you thought of the follow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sterns, Spaghetti Westerns, War films, Thrillers, Sci-Fi, Rom Coms, ‘Chick’ flicks, Foreign films, Musicals, Comedies, Anim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take a little longer and try to name at least one movie for each of these categori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you thought of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s, Spaghetti Westerns, War films, Thrillers, Sci-Fi, Rom Coms, ‘Chick’ flicks, Foreign films, Musicals, Comedies, An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ake a little longer and try to name at least one movie for each of these categori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you do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look at the pictures on the following slides. They each represent a particular type, or genre of movie. Can you fit the genre to the pictur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do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ook at the pictures on the following slides. They each represent a particular type, or genre of movie. Can you fit the genre to the pi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to finish off, write down your favourite genre of movie, and briefly say what it is about this type of movie that you lik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o finish off, write down your favourite genre of movie, and briefly say what it is about this type of movie that you lik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FFE4-858C-45DD-A971-6DCFC11F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657A-F0D1-425A-B3DE-3289BE02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712E-0690-4DD2-A555-7380854F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1484-5FDA-4557-9616-EF9AC17C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0411-3974-4FB1-9C15-1C30D567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0D36-F0E1-4B2C-8E06-A6F30815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C2F2-F197-4943-9784-D76C53F0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4628-AA1C-41A1-B54D-004F3A58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A6E2-60A6-48B4-A065-21216CD4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A56E-6BC8-4FFE-AF96-7370084D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8F2F-59B7-40EA-81FD-C8762FD7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BE1F-65AC-416D-B4F4-31134CCC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36C4-E460-4269-AE9B-43D2B01C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B59E-9A6C-42B5-B0F7-9E8BBB0B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F86A-9689-47DF-94AB-1D4D98C1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F6EB-8FD4-4674-BBEC-EE326069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3165-7326-485B-B4A7-BE096DA2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DF06-1F8C-4E36-B330-CF94C93E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AB68-F8AE-46ED-85F4-81516D7E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5046-203B-4072-B52C-FC0D8B89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2B10-B732-4B30-8AC2-19E4E870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B658-5E00-4640-9CAA-C505809A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87AA-7E05-40D8-BCFF-C16224AE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EA56-5002-4D50-8117-261418C1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B3E4-BF22-402E-8155-CDA45F3F02A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DFDE-4F52-4D0F-9DA0-051940EA035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-387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32000" y="119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genr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is a ‘type’ of film. Take a moment or two to name as many film types as you ca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5" descr="movies-interior"/>
          <p:cNvPicPr/>
          <p:nvPr/>
        </p:nvPicPr>
        <p:blipFill>
          <a:blip r:embed="rId1"/>
          <a:stretch/>
        </p:blipFill>
        <p:spPr>
          <a:xfrm>
            <a:off x="1619280" y="2781360"/>
            <a:ext cx="604836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Poster_Sets_25~Horror-Films-Posters"/>
          <p:cNvPicPr/>
          <p:nvPr/>
        </p:nvPicPr>
        <p:blipFill>
          <a:blip r:embed="rId2"/>
          <a:stretch/>
        </p:blipFill>
        <p:spPr>
          <a:xfrm>
            <a:off x="1476360" y="1413000"/>
            <a:ext cx="35892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8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5" descr="la-grande-bouffe-movie-poster12"/>
          <p:cNvPicPr/>
          <p:nvPr/>
        </p:nvPicPr>
        <p:blipFill>
          <a:blip r:embed="rId2"/>
          <a:stretch/>
        </p:blipFill>
        <p:spPr>
          <a:xfrm>
            <a:off x="1476360" y="1628640"/>
            <a:ext cx="3552840" cy="4524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418pxTodo_sobre_mi_madre_poster"/>
          <p:cNvPicPr/>
          <p:nvPr/>
        </p:nvPicPr>
        <p:blipFill>
          <a:blip r:embed="rId3"/>
          <a:stretch/>
        </p:blipFill>
        <p:spPr>
          <a:xfrm>
            <a:off x="5292720" y="1628640"/>
            <a:ext cx="30463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dfmp_0204_great_escape_1963"/>
          <p:cNvPicPr/>
          <p:nvPr/>
        </p:nvPicPr>
        <p:blipFill>
          <a:blip r:embed="rId2"/>
          <a:stretch/>
        </p:blipFill>
        <p:spPr>
          <a:xfrm>
            <a:off x="324000" y="2133720"/>
            <a:ext cx="8494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5" descr="mamma-mia-soundtrack"/>
          <p:cNvPicPr/>
          <p:nvPr/>
        </p:nvPicPr>
        <p:blipFill>
          <a:blip r:embed="rId2"/>
          <a:stretch/>
        </p:blipFill>
        <p:spPr>
          <a:xfrm>
            <a:off x="2268360" y="1628640"/>
            <a:ext cx="4608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appleseed-movie-poster"/>
          <p:cNvPicPr/>
          <p:nvPr/>
        </p:nvPicPr>
        <p:blipFill>
          <a:blip r:embed="rId2"/>
          <a:stretch/>
        </p:blipFill>
        <p:spPr>
          <a:xfrm>
            <a:off x="2700360" y="1413000"/>
            <a:ext cx="35481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1. And finally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5" descr="24-403"/>
          <p:cNvPicPr/>
          <p:nvPr/>
        </p:nvPicPr>
        <p:blipFill>
          <a:blip r:embed="rId2"/>
          <a:stretch/>
        </p:blipFill>
        <p:spPr>
          <a:xfrm>
            <a:off x="3132000" y="1628640"/>
            <a:ext cx="328932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erhaps you thought of the follow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esterns, Spaghetti Westerns, War films, Thrillers, Sci-Fi, Rom Coms, ‘Chick’ flicks, Foreign films, Musicals, Comedies, Anim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w take a little longer and try to name at least one movie for each of these categorie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Frank_Mummy"/>
          <p:cNvPicPr/>
          <p:nvPr/>
        </p:nvPicPr>
        <p:blipFill>
          <a:blip r:embed="rId4"/>
          <a:stretch/>
        </p:blipFill>
        <p:spPr>
          <a:xfrm>
            <a:off x="2556000" y="3500280"/>
            <a:ext cx="41907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ow did you do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w look at the pictures on the following slides. They each represent a particular type, or genre of movie. Can you fit the genre to the pictur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pf2149"/>
          <p:cNvPicPr/>
          <p:nvPr/>
        </p:nvPicPr>
        <p:blipFill>
          <a:blip r:embed="rId4"/>
          <a:stretch/>
        </p:blipFill>
        <p:spPr>
          <a:xfrm>
            <a:off x="1258920" y="2852640"/>
            <a:ext cx="511164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5" descr="MPW-13112"/>
          <p:cNvPicPr/>
          <p:nvPr/>
        </p:nvPicPr>
        <p:blipFill>
          <a:blip r:embed="rId2"/>
          <a:stretch/>
        </p:blipFill>
        <p:spPr>
          <a:xfrm>
            <a:off x="1258920" y="1413000"/>
            <a:ext cx="666756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w to finish off, write down your favourite genre of movie, and briefly say what it is about this type of movie that you lik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" descr="bmflklogo"/>
          <p:cNvPicPr/>
          <p:nvPr/>
        </p:nvPicPr>
        <p:blipFill>
          <a:blip r:embed="rId2"/>
          <a:stretch/>
        </p:blipFill>
        <p:spPr>
          <a:xfrm>
            <a:off x="2771640" y="2565360"/>
            <a:ext cx="365148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5" descr="B000E6TVRS"/>
          <p:cNvPicPr/>
          <p:nvPr/>
        </p:nvPicPr>
        <p:blipFill>
          <a:blip r:embed="rId2"/>
          <a:stretch/>
        </p:blipFill>
        <p:spPr>
          <a:xfrm>
            <a:off x="2843280" y="1628640"/>
            <a:ext cx="33717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5" descr="2632085546_4e74e8ef89"/>
          <p:cNvPicPr/>
          <p:nvPr/>
        </p:nvPicPr>
        <p:blipFill>
          <a:blip r:embed="rId2"/>
          <a:stretch/>
        </p:blipFill>
        <p:spPr>
          <a:xfrm>
            <a:off x="2556000" y="1700280"/>
            <a:ext cx="38098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5" descr="definitelymaybeposter"/>
          <p:cNvPicPr/>
          <p:nvPr/>
        </p:nvPicPr>
        <p:blipFill>
          <a:blip r:embed="rId2"/>
          <a:stretch/>
        </p:blipFill>
        <p:spPr>
          <a:xfrm>
            <a:off x="2700360" y="1341360"/>
            <a:ext cx="38098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ilm Gen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6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070716_ss_mean"/>
          <p:cNvPicPr/>
          <p:nvPr/>
        </p:nvPicPr>
        <p:blipFill>
          <a:blip r:embed="rId2"/>
          <a:stretch/>
        </p:blipFill>
        <p:spPr>
          <a:xfrm>
            <a:off x="2843280" y="1341360"/>
            <a:ext cx="3384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5:39:22Z</dcterms:created>
  <dc:creator>mikeco</dc:creator>
  <dc:description/>
  <dc:language>en-US</dc:language>
  <cp:lastModifiedBy>RomaK</cp:lastModifiedBy>
  <dcterms:modified xsi:type="dcterms:W3CDTF">2015-09-02T09:53:34Z</dcterms:modified>
  <cp:revision>6</cp:revision>
  <dc:subject/>
  <dc:title>Film Genres</dc:title>
</cp:coreProperties>
</file>