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8076-9414-4CB1-AD22-C11CEE3FF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6F6-CDDB-4861-9B5E-1D7B966A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4D2-3A15-4444-8BCA-F1A9015A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318-1D45-4644-BA1F-D40384F7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818-A445-4FD6-900D-FB92DADA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73C-841E-420E-B23A-87405C7D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816-563F-4BF1-9B57-A14176F7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341-C873-4A8D-9DFE-F01FF01A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C6F-BCC6-4D35-A0EE-F861A82A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949-7FFE-45B5-A779-E36D4345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42A-10CD-40BC-A86E-8342D53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FF1-5727-4B45-B2D7-C4E7597F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F0F-E86C-4D57-9D2D-80BAE65C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669B-C404-4907-993D-88216DEBC5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/11/07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cc33"/>
                </a:solidFill>
                <a:latin typeface="Arial"/>
              </a:rPr>
              <a:t>Indicator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46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 indicators change to different colours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ndicato"/>
          <p:cNvPicPr/>
          <p:nvPr/>
        </p:nvPicPr>
        <p:blipFill>
          <a:blip r:embed="rId1"/>
          <a:stretch/>
        </p:blipFill>
        <p:spPr>
          <a:xfrm>
            <a:off x="468360" y="62064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00720" y="1341360"/>
            <a:ext cx="287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49680" y="620280"/>
            <a:ext cx="369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Litmus</a:t>
            </a:r>
            <a:br>
              <a:rPr sz="5400"/>
            </a:b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354456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litmus"/>
          <p:cNvPicPr/>
          <p:nvPr/>
        </p:nvPicPr>
        <p:blipFill>
          <a:blip r:embed="rId1"/>
          <a:stretch/>
        </p:blipFill>
        <p:spPr>
          <a:xfrm>
            <a:off x="900000" y="260280"/>
            <a:ext cx="4375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Universal Indic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versal indicator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ange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lou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acids and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ci_dia_39"/>
          <p:cNvPicPr/>
          <p:nvPr/>
        </p:nvPicPr>
        <p:blipFill>
          <a:blip r:embed="rId1"/>
          <a:stretch/>
        </p:blipFill>
        <p:spPr>
          <a:xfrm>
            <a:off x="971640" y="2133720"/>
            <a:ext cx="7056360" cy="13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-1230120" y="5300640"/>
            <a:ext cx="10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092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292720" y="35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5400000">
            <a:off x="3423960" y="421452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ci_dia_39"/>
          <p:cNvPicPr/>
          <p:nvPr/>
        </p:nvPicPr>
        <p:blipFill>
          <a:blip r:embed="rId1"/>
          <a:stretch/>
        </p:blipFill>
        <p:spPr>
          <a:xfrm>
            <a:off x="539640" y="1773360"/>
            <a:ext cx="7704360" cy="125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292428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867280" y="3068640"/>
            <a:ext cx="3888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8 -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4149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 rot="5400000">
            <a:off x="3542760" y="359100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5400000">
            <a:off x="3395880" y="43869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16000" y="3429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Applications 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diges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Our stomach ca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ydrochloric acid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ure indigestion, you can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xcess acid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or specialised indigestion tab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Cj03645140000[1]"/>
          <p:cNvPicPr/>
          <p:nvPr/>
        </p:nvPicPr>
        <p:blipFill>
          <a:blip r:embed="rId1"/>
          <a:stretch/>
        </p:blipFill>
        <p:spPr>
          <a:xfrm>
            <a:off x="684360" y="1197000"/>
            <a:ext cx="17985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3122440000[1]"/>
          <p:cNvPicPr/>
          <p:nvPr/>
        </p:nvPicPr>
        <p:blipFill>
          <a:blip r:embed="rId2"/>
          <a:stretch/>
        </p:blipFill>
        <p:spPr>
          <a:xfrm>
            <a:off x="7202520" y="3500280"/>
            <a:ext cx="1941480" cy="216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484360" y="1052640"/>
            <a:ext cx="648036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sect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e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can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(bicarbonate of soda)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p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lkalin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can    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inegar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MPj04071800000[1]"/>
          <p:cNvPicPr/>
          <p:nvPr/>
        </p:nvPicPr>
        <p:blipFill>
          <a:blip r:embed="rId1"/>
          <a:stretch/>
        </p:blipFill>
        <p:spPr>
          <a:xfrm>
            <a:off x="108000" y="-531720"/>
            <a:ext cx="9144000" cy="869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42920" y="472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0360" y="-531720"/>
            <a:ext cx="47718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actory Wast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Liquid waste from factories is often acidic. If it reaches a river it will destroy and kill sea life of many forms. Neutralising the waste with slaked lime can prev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0"/>
            <a:ext cx="471492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oil Treatment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 When soils are too acidic (often as a result of acid rain) they can be treated with slaked lime, chalk or quicklime, all alkalis. Plants and crops grow best in neutral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4400" spc="-1" strike="noStrike">
                <a:solidFill>
                  <a:srgbClr val="ff0066"/>
                </a:solidFill>
                <a:latin typeface="Arial"/>
              </a:rPr>
              <a:t>Acids and alka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lutions can be sorted by whether they are: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,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kali </a:t>
            </a:r>
            <a:r>
              <a:rPr b="1" lang="en-GB" sz="3600" spc="-1" strike="noStrike">
                <a:solidFill>
                  <a:srgbClr val="669900"/>
                </a:solidFill>
                <a:latin typeface="Arial"/>
              </a:rPr>
              <a:t>or neutral.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tent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11280" y="981000"/>
            <a:ext cx="8280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a substance dissolves in water it makes a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solution.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11280" y="333000"/>
            <a:ext cx="4286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of some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non-metals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ssolve i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y make an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cid"/>
          <p:cNvPicPr/>
          <p:nvPr/>
        </p:nvPicPr>
        <p:blipFill>
          <a:blip r:embed="rId1"/>
          <a:stretch/>
        </p:blipFill>
        <p:spPr>
          <a:xfrm>
            <a:off x="5796000" y="333360"/>
            <a:ext cx="2016000" cy="316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2195640" y="4365720"/>
            <a:ext cx="738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have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ur tast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24000" y="4005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ci_dia_36"/>
          <p:cNvPicPr/>
          <p:nvPr/>
        </p:nvPicPr>
        <p:blipFill>
          <a:blip r:embed="rId2"/>
          <a:stretch/>
        </p:blipFill>
        <p:spPr>
          <a:xfrm>
            <a:off x="250920" y="3716280"/>
            <a:ext cx="23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Acids react with metals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   and carbonat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gnesium +         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         magnesium chloride + hydrochloric acid                              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6588000" y="1197000"/>
            <a:ext cx="2810160" cy="2106720"/>
          </a:xfrm>
          <a:prstGeom prst="rect">
            <a:avLst/>
          </a:prstGeom>
          <a:ln w="0">
            <a:noFill/>
          </a:ln>
        </p:spPr>
      </p:pic>
      <p:sp>
        <p:nvSpPr>
          <p:cNvPr id="62" name="Line 7"/>
          <p:cNvSpPr/>
          <p:nvPr/>
        </p:nvSpPr>
        <p:spPr>
          <a:xfrm>
            <a:off x="2627280" y="1989000"/>
            <a:ext cx="115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348000" y="5013360"/>
            <a:ext cx="719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0" y="3716280"/>
            <a:ext cx="89647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lphuric acid +                         copper sulphate + water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pper carbonate                                      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3276720" y="4076640"/>
            <a:ext cx="1152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627280" y="263700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MPj03867810000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18864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itric acid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ineg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ethano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strong acid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hydrochloric acid, sulphuric aci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nit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weak acid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thanoic acid, citric aci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arbonic acid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j04079520000[1]"/>
          <p:cNvPicPr/>
          <p:nvPr/>
        </p:nvPicPr>
        <p:blipFill>
          <a:blip r:embed="rId2"/>
          <a:stretch/>
        </p:blipFill>
        <p:spPr>
          <a:xfrm>
            <a:off x="0" y="620640"/>
            <a:ext cx="25210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556000" y="981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Neutralis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and alkal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each other. The alkali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cels 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cid in the reaction. This i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utral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uta"/>
          <p:cNvPicPr/>
          <p:nvPr/>
        </p:nvPicPr>
        <p:blipFill>
          <a:blip r:embed="rId1"/>
          <a:stretch/>
        </p:blipFill>
        <p:spPr>
          <a:xfrm>
            <a:off x="1187280" y="3284640"/>
            <a:ext cx="6471000" cy="19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059280" y="57340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95280" y="436572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sulphu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lph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hydrochlo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lo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nit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a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Alk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55640" y="2781360"/>
            <a:ext cx="598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s of some meta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solve i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make a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 solu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is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lki"/>
          <p:cNvPicPr/>
          <p:nvPr/>
        </p:nvPicPr>
        <p:blipFill>
          <a:blip r:embed="rId1"/>
          <a:stretch/>
        </p:blipFill>
        <p:spPr>
          <a:xfrm>
            <a:off x="250920" y="2852640"/>
            <a:ext cx="2279520" cy="38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ci_dia_36"/>
          <p:cNvPicPr/>
          <p:nvPr/>
        </p:nvPicPr>
        <p:blipFill>
          <a:blip r:embed="rId2"/>
          <a:stretch/>
        </p:blipFill>
        <p:spPr>
          <a:xfrm>
            <a:off x="25092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843280" y="1052640"/>
            <a:ext cx="6553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feel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o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MCj02289170000[1]"/>
          <p:cNvPicPr/>
          <p:nvPr/>
        </p:nvPicPr>
        <p:blipFill>
          <a:blip r:embed="rId1"/>
          <a:stretch/>
        </p:blipFill>
        <p:spPr>
          <a:xfrm>
            <a:off x="324000" y="126828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660066"/>
                </a:solidFill>
                <a:uFillTx/>
                <a:latin typeface="Arial"/>
              </a:rPr>
              <a:t>Alkal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0" y="907920"/>
            <a:ext cx="6429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present in man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eaning substa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use in our h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tchen cleaners are alka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ause they contain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mmon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odium hydrox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ttack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4581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alc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 sod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trong alka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most recognisable and common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weak alkali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ammo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57:11Z</dcterms:created>
  <dc:creator>HP Authorized Customer</dc:creator>
  <dc:description/>
  <dc:language>en-US</dc:language>
  <cp:lastModifiedBy>RomaK</cp:lastModifiedBy>
  <dcterms:modified xsi:type="dcterms:W3CDTF">2015-09-01T16:13:59Z</dcterms:modified>
  <cp:revision>27</cp:revision>
  <dc:subject/>
  <dc:title>Slide 1</dc:title>
</cp:coreProperties>
</file>