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D043-8F2D-41ED-8F5C-D579701F77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Flui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ideology and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he work of Bren Neale, Leeds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ology at N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Flui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ideology and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he work of Bren Neale, Leeds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ology at N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dissoluble fami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rly C2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arch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-long monoga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role segre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-right (if mothers left husbands, they lost their childr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dissoluble fami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rly C2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arch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-long monoga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role segre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-right (if mothers left husbands, they lost their childr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anionate Family 195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ves companions (not slaves) to husband and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emphasis on personal fulfil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work for ‘pin’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 control for planning children within 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xpectations of 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orce rare and stigmat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anionate Family 195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ves companions (not slaves) to husband and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emphasis on personal fulfil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work for ‘pin’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 control for planning children within 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xpectations of 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orce rare and stigmat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onstituted Family 197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9 Divorce Reform Act allowed for a ‘clean break’ for re-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‘living in sin’ could now more easily divorce and ‘re-tie the kno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father’s position overrode that of the biological f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father’s financial responsibilities to first family not legally enfor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uccessful marriages could be replaced by successful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onstituted Family 197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9 Divorce Reform Act allowed for a ‘clean break’ for re-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‘living in sin’ could now more easily divorce and ‘re-tie the kno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father’s position overrode that of the biological f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father’s financial responsibilities to first family not legally enfor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uccessful marriages could be replaced by successful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ological Fami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 C2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ties rather than marital 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responsibility for childcare and economic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‘two earner model’ instead of ‘marital support’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s active fathering by biological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hood supersedes marriage as bedrock of the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ological Fami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 C2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ties rather than marital 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responsibility for childcare and economic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‘two earner model’ instead of ‘marital support’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s active fathering by biological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hood supersedes marriage as bedrock of the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Practic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HJ Morgan (199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are what families do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eople ‘do’ marriage, cohabitation, parenting, kin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sexual or same s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or may not involve co-res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practices rather than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Practic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HJ Morgan (199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are what families do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eople ‘do’ marriage, cohabitation, parenting, kin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sexual or same s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or may not involve co-res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practices rather than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Fluidity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nuclear families are a minority lifestyle ch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, fluidity and transformation characterise contemporary fami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 to reconsider what we mean by ‘normal’ fami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e celebrate change or see it as a cause for concer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Fluidity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nuclear families are a minority lifestyle ch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, fluidity and transformation characterise contemporary fami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 to reconsider what we mean by ‘normal’ fami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e celebrate change or see it as a cause for concer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B868-6723-4BD7-9139-32026BE6F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DEDA-B9E4-4671-BD2F-0E2A7B79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2945-29AF-4379-AD5E-89C19ED7B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221B-04CA-4753-B5CA-5252941C0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53EF-F77F-46E2-A8B1-F9716E746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689B-77EE-43F6-9CEB-91776579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A3CE-4CA5-4B51-B5FC-0D5AD4CE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0EC4-FDF1-4E90-82B4-68713DE0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12FC-49DD-4EA4-BF92-1C659AF5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1F0D-D50F-44C8-BA68-B1E51E30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4B9C-4789-476E-BEB8-A811ED7D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A590-07FC-4BF5-AE12-817130E6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AF7B-8FF0-4835-B7CE-5C386D23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258A-64EC-45C8-A810-D0F48CBF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7022-B6FB-4183-89CC-C4812199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1A899-9A0B-48EC-8B88-F0F917955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A715-6756-4949-BA66-3F668759F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F689-B0C4-4204-98DD-A78538A6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8051-F909-4518-8409-061E766C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8FD4-659B-4771-B151-FC14DF48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3FB7-8B75-445F-BFA4-F0BD4DB5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A34B-8C54-4E17-AD0B-0CF3084B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5893-9720-497D-9682-51B55ED3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F47B-D31A-4B94-BCB7-D448A191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4AE0-AAA6-4031-867E-C5563820334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7240-E2B4-465F-BF2C-C11557B32B8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0066"/>
                </a:solidFill>
                <a:latin typeface="Arial"/>
              </a:rPr>
              <a:t>Family Fluidity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mily ideology and legi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ed on the work of Bren Neale, Leeds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ciology at N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Indissoluble family</a:t>
            </a:r>
            <a:br>
              <a:rPr sz="3900"/>
            </a:b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 Early C20t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atriarch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ife-long monogam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ex role segreg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ather-right (if mothers left husbands, they lost their childr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Companionate Family 1950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ives companions (not slaves) to husband and child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Greater emphasis on personal fulfil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omen work for ‘pin’ mon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irth control for planning children within marri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igher expectations of marri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ivorce rare and stigmati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Reconstituted Family 1970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874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69 Divorce Reform Act allowed for a ‘clean break’ for re-marri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ose ‘living in sin’ could now more easily divorce and ‘re-tie the knot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epfather’s position overrode that of the biological fa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iological father’s financial responsibilities to first family not legally enforc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nsuccessful marriages could be replaced by successful 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Biological Family</a:t>
            </a:r>
            <a:br>
              <a:rPr sz="3900"/>
            </a:b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Late C20t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iological ties rather than marital 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hared responsibility for childcare and economic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ased on ‘two earner model’ instead of ‘marital support’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ncourages active fathering by biological par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arenthood supersedes marriage as bedrock of the fami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Family Practices </a:t>
            </a:r>
            <a:br>
              <a:rPr sz="3900"/>
            </a:b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DHJ Morgan (1996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amilies are what families do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people ‘do’ marriage, cohabitation, parenting, kinship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eterosexual or same s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y or may not involve co-resid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ocus on practices rather than 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Family Fluidity Toda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raditional nuclear families are a minority lifestyle cho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hange, fluidity and transformation characterise contemporary famil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e need to reconsider what we mean by ‘normal’ family lif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hould we celebrate change or see it as a cause for concer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1:21:33Z</dcterms:created>
  <dc:creator>NCC (Education Services)</dc:creator>
  <dc:description/>
  <dc:language>en-US</dc:language>
  <cp:lastModifiedBy>RomaK</cp:lastModifiedBy>
  <dcterms:modified xsi:type="dcterms:W3CDTF">2015-09-02T09:53:27Z</dcterms:modified>
  <cp:revision>13</cp:revision>
  <dc:subject/>
  <dc:title>Family Fluidity</dc:title>
</cp:coreProperties>
</file>