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AFBB-B904-4369-87C8-568A2CD3A0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dissoluble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rly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anionate Family 19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nstituted Family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ological Fami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 C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Practic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HJ Morgan (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 Fluidity Tod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A081-ED26-42FB-A5F1-3BDAE7FE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E36F-2367-40B1-98D6-7094B99E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3401-FEED-4E46-AE1F-088E06BD2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4EEE-F86A-409C-9A31-7212F472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B2CB-F40D-43C3-9A41-AFE7DC5F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E103F-F9E0-4832-A21D-BEDC0FB8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735A-AFA4-4AE8-830F-6EA52640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3720-D5F8-4011-9BF3-E302E073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55E2-4CDE-420B-89AF-8CC2FC42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A48E-0E8F-43BF-9B00-2ABDA76B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71B4-9884-4A26-AC7C-D901591E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8669-E530-4980-B19F-78526C28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7618A-6E1A-49C7-8A57-DCEB1507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9357-F599-4D7A-A698-3D7E152B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B3BD-043F-4B44-A015-C5B461DC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3513-F0D4-459C-93DE-CE519F8A8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98F6-E156-4115-9AB0-13992E98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D4D-4EAF-4077-B6EC-3B23704E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5258-38B0-4ABF-BACE-DA59BDD3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FB19-B9BC-48B6-97CE-54AB40CF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CCF5-B731-4B9F-9C42-DCF01BE6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91A0-A42F-41DB-B503-DEB596CA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6A6-F3E9-4D47-A7B4-215B48E6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63B-A368-4AD6-81DB-410BCF41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3261-80F7-49C4-BD93-E933284BEAE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76C9-250D-4D14-880A-AB66DDDD6D7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330066"/>
                </a:solidFill>
                <a:latin typeface="Arial"/>
              </a:rPr>
              <a:t>Family Fluidity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mily ideology and legis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the work of Bren Neale, Leeds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ciology at N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Indissoluble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 Early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triarch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Life-long monoga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ex role segreg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ther-right (if mothers left husbands, they lost their childr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Companionate Family 195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ives companions (not slaves) to husband and child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Greater emphasis on personal fulfil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omen work for ‘pin’ mone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rth control for planning children within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igher expectations of 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vorce rare and stigmatis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Reconstituted Family 1970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7480"/>
            <a:ext cx="8229600" cy="42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9 Divorce Reform Act allowed for a ‘clean break’ for re-marri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ose ‘living in sin’ could now more easily divorce and ‘re-tie the knot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tepfather’s position overrode that of the biological fa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iological father’s financial responsibilities to first family not legally enforc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nsuccessful marriages could be replaced by successful 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Biological Family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Late C20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iological ties rather than marital 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ared responsibility for childcare and economic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ased on ‘two earner model’ instead of ‘marital support’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Encourages active fathering by biological par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renthood supersedes marriage as bedrock of the fam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Practices </a:t>
            </a:r>
            <a:br>
              <a:rPr sz="3900"/>
            </a:b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DHJ Morgan (1996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amilies are what families do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people ‘do’ marriage, cohabitation, parenting, kinship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terosexual or same s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y or may not involve co-resid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Focus on practices rather than stru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Family Fluidity Toda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raditional nuclear families are a minority lifestyle cho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Change, fluidity and transformation characterise contemporary famil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We need to reconsider what we mean by ‘normal’ family li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hould we celebrate change or see it as a cause for concer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1:21:33Z</dcterms:created>
  <dc:creator>NCC (Education Services)</dc:creator>
  <dc:description/>
  <dc:language>en-US</dc:language>
  <cp:lastModifiedBy>RomaK</cp:lastModifiedBy>
  <dcterms:modified xsi:type="dcterms:W3CDTF">2015-09-02T09:53:27Z</dcterms:modified>
  <cp:revision>13</cp:revision>
  <dc:subject/>
  <dc:title>Family Fluidity</dc:title>
</cp:coreProperties>
</file>