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86F5-97CC-4331-BC53-BE08B6C14E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D903-6329-4B0E-9707-E553FA1E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5EB-7FE3-4621-990E-F4F83EAC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1F4D-9367-400D-8353-754322A6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21FD-D42D-457B-A6CA-41C3EBE1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73A3-9716-41D6-95BB-D8520A8E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2A3E-4AA8-4AE9-90B8-65CDAC1F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A1DD-D0DC-4584-80FD-D94F31E6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8C99-AC91-4F42-A8CD-91169088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205B-AA6F-47D7-86F2-8783BD89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4893-DA62-4281-9E6A-BA0A14E3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9802-B734-49EB-AC91-2ADB61AF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AE5-BFFF-4634-945F-D82C2BF9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07EA-8AD0-47C5-8598-6EA09EAD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DE24-D7A3-42F0-AD2B-B2F50440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3991-D015-4DCD-81E4-010DE0D4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93B8-7700-48E4-9214-19657FB8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E947-C239-4E54-BA48-E6E92EE5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DB7-0D5B-40C7-879E-3A934262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0DE-D0A4-4D24-9636-9B3C4C0F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644E-F36E-4328-AD2A-C8EF9A4E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02CC-1B13-4500-9D70-F8CF9A24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EB9-613C-40FF-B73D-55241620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D972-5ADE-4BFC-8098-FEB1DFB3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0BEF-D8E1-4863-899D-8DAA0555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C680-04C3-469E-96D5-42ED4B760A2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EEC4-B418-4E09-A306-74B218A2A51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Family Fluidit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Indissoluble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 Early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Companionate Family 195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Reconstituted Family 197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74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Biological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Late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Practices 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HJ Morgan (1996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Fluidity Toda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1:21:33Z</dcterms:created>
  <dc:creator>NCC (Education Services)</dc:creator>
  <dc:description/>
  <dc:language>en-US</dc:language>
  <cp:lastModifiedBy>RomaK</cp:lastModifiedBy>
  <dcterms:modified xsi:type="dcterms:W3CDTF">2015-09-02T09:53:27Z</dcterms:modified>
  <cp:revision>13</cp:revision>
  <dc:subject/>
  <dc:title>Family Fluidity</dc:title>
</cp:coreProperties>
</file>