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gif" ContentType="image/gif"/>
  <Override PartName="/ppt/media/image4.gif" ContentType="image/gif"/>
  <Override PartName="/ppt/media/image5.gif" ContentType="image/gif"/>
  <Override PartName="/ppt/media/image6.gif" ContentType="image/gif"/>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92156-2D79-4AFA-A5AD-2F0AA4D453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wanza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Clu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brari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wanz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Cl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brar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Kwanza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Kwanz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based on the nguzo saba (seven guiding principles) one for each day of the observance and is celebrated from December 26th to January 1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based on the nguzo saba (seven guiding principles) one for each day of the observance and is celebrated from December 26th to January 1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umba(creativity)is greatly encouraged. Gifts are usually exchanged between parents and children and traditionally given on January 1st the last day of Kwanzaa. However gift giving during Kwanzaa may occur at any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umba(creativity)is greatly encouraged. Gifts are usually exchanged between parents and children and traditionally given on January 1st the last day of Kwanzaa. However gift giving during Kwanzaa may occur at an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rating th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rating th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feast or karamu</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karumu is traditionally held on December 31st. This is a very special event.  It is the one Kwanzaa event that brings the African American people closer to our African roo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feast or karamu</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karumu is traditionally held on December 31st. This is a very special event.  It is the one Kwanzaa event that brings the African American people closer to our African ro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princi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oja (oo-MOH-jah): Unity – Success starts with Unity.  Unity of family, community, nation and r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jichagulia (koo-jee-chah-goo-LEE-ah):  Self-determination – To be responsible for ourselves.  To create your own desti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ima (00-JEE-mah): Collective work and responsibility – To build and maintain your community together.  To work together  to help one another within your commu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amaa (oo-jah-MAH): Collective economics – to build, maintain, and support our own stores, establishments, and busine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a (NEE-ah): Purpose – To restore African American people to their traditional greatness. To be responsible to our ancestors and to our descend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umba (koo-OOM-bah): Creativity – Using creativity and imagination to make your communities better than what you inheri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ni (ee-MAH-nee): Faith – Believing in our people, our families, our educators, our leaders, and the righteousness of the African American strug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princi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oja (oo-MOH-jah): Unity – Success starts with Unity.  Unity of family, community, nation and 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jichagulia (koo-jee-chah-goo-LEE-ah):  Self-determination – To be responsible for ourselves.  To create your own desti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ima (00-JEE-mah): Collective work and responsibility – To build and maintain your community together.  To work together  to help one another within your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amaa (oo-jah-MAH): Collective economics – to build, maintain, and support our own stores, establishments, and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a (NEE-ah): Purpose – To restore African American people to their traditional greatness. To be responsible to our ancestors and to our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umba (koo-OOM-bah): Creativity – Using creativity and imagination to make your communities better than what you inher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ni (ee-MAH-nee): Faith – Believing in our people, our families, our educators, our leaders, and the righteousness of the African American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C2F65-9B92-43A4-AAB9-FA7606B3C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D81D4-C61F-4619-B38C-DCD835E42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711792-6488-4BF4-999F-F62CB5482A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5C6594-A738-4B5B-BCA3-9222B87B9C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862204-7387-44F0-8CF3-E1C53C877B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344B8A-20E2-434D-9F73-97C8989CA7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68CD11-EAB2-4793-B724-3837E62D50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B895A5-9B32-45F5-9BF9-92D3042C3B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1F1F42-3BE1-4662-9543-77AC9D55A4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AE1649-A082-495A-AE70-91197FD2AA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760BF7-734C-41B8-949B-6F8F4E248F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391C61C-9D7D-437F-83AC-1C372FDEDC1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7376F-07E8-490F-A009-A654BC51F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4D6B4A-5C11-4CB6-A103-8B9E315ECE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792D797-4C69-43FF-9BEE-E9DEA9C2998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7CC161-A97B-42CA-A527-BA7B66903B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E8FCAA-40BD-46D3-A291-0813A711285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BA51CF-0EB3-4D15-B0DA-6519DBD276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D1C7BA-3F44-43C1-82B1-B53D40C620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AAC3AC-C27B-4943-9B52-F1E088B945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D79891-8D5A-401E-B044-39E74D661B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8A539E-EEAF-475C-B032-45BBECFD48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4B0448D-5667-46D3-8EB3-18B77ADDB55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39BCC-1C39-4275-89F9-599C9B862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F2FEFFE-1495-4AB3-9591-2279954198A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0F8A119-E7EC-41C8-8869-996824504CE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CFBCC2D-4C72-4D52-9CCE-F47A6BD3A7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0215CB-CD80-4FBD-815D-4BA3E4569A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D2ADC4A-ED09-4773-A408-2A581DAC6CD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98D3CC-34A7-4CD1-8F1C-6D5EFA924C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322260-D11C-4371-951B-4E1D2DD6A1B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112589-CE95-4CBF-AF2E-92F3D793DF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D4C948-31B3-4B9C-8A32-9FA7FC2F52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E962ED-AADA-4260-B9C6-5663B353EA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B8BFBD-115F-4C1C-8795-B7489069B3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DCF0A1-C374-4F8F-ACC8-5953D36F84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C72D5D6-2A0D-40D4-8E3D-FA3E52EF1CD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1F76326-0A36-4450-810E-F797C7AADAE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DBD00AF-2B9A-42F3-B731-5663DBA704C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2E83CC6-5059-49DF-A54D-CC2B27FD348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6CB8FC4-0777-4349-A968-8C2285A02BD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3312513-5FA3-45F3-A5AD-62D4960B70C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15758C-B0B8-4959-91E3-C7A70CF3860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15DC24F-D300-4D3B-9527-6FAAFCABC31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20C412-3DBE-49CF-BEC1-09D58C991A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EF6DB-D961-4C04-9348-E0C6534AF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D27D82-D188-4FAD-91AB-AF4A1DA07B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EA38A0-ADA1-44AC-B779-2D8242F332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681A579-4D25-4CAE-BAC5-1BBE2685B21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301814D-07E6-4FB9-A05C-C04C75158C3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5E78252-3D73-46E5-9E0C-6869AD9172E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D373F-3CA7-4848-9DBD-EF8A15DE1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8802C-E11D-4EDB-B60D-2DD4AFA6A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2F0FC-2138-4288-8644-37DC5F814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67268-35B7-4BFF-81C9-BEEA889B8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5FBA9-1E4B-4599-B546-10B43CC48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23AD6-A44D-44AC-8E78-2D00D857D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1496C-DACD-4456-BE68-3B0CEFC10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1F14D-FC7B-4DEA-94C5-E0FC0700A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09A32-191E-4C88-B12D-7C2562B90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16CAC5-081C-4997-84AF-6F3605F779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6DDB4F-9663-43E8-AECB-CF5A5FD20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A9E254-01A5-4DEC-AAEA-3F7CFFD29A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C03C4C-BDC8-45A3-9C23-D6591108A9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CC37FE-9134-4D72-B3DD-FF1FE30308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908192-6BC9-4521-9865-48F0096CC2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99D528-21BE-4D3A-AE73-61EC9E5364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8C177-21CD-4A3D-BC7B-32505E8BA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CD4E9F-B44C-4FA0-8E60-DDD26F0586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5D314F-BC84-4F37-910A-45B0592BBF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860D70-84B6-4C98-9176-4757385EB9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F688A0-B05E-47D9-9D95-82BF992448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140958-084E-4584-ADF5-B925997476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461934-982E-44F2-85F5-9EE9F03DCC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B93E3B-8D0B-4CA2-A0F0-9428CF2267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8309A8-25F3-4F6F-9C50-9EC1F7C2D0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2329FE-D02A-468F-83FF-5EE5FC907B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A0A5BE-D65C-4705-B822-4060861016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C4309-A27E-47F9-B452-3DCFC4976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5E3827-850A-46C3-855C-65CC91E85B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A0319E-8075-468B-9AAF-79F15820D6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2442C2-63BF-476E-95E6-DF96267BB2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0B3702-51EF-473E-B096-95E1A5FC8B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08820F-710F-4143-9E4B-005030A765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B62A91-329A-4A2A-9C0F-F67700AD4A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4F6BFA-7C86-42EE-82F6-F8BBB8AF4E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03B8FC-C8DF-41BB-A1B4-40F6C7F4E0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53C5E1-E407-4D11-89DF-235472D59F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5D96BC-01DA-439C-A504-6F5971C74B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DC213-04E9-41DF-9AB0-BCDAEDA74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90029E-CB27-47A4-8142-F2BF828753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DF1DF9-3F61-45E1-9B38-5BD7AC6AEB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C86061-EF3E-4580-BA5C-9A98E9C748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B4ADFD-5C2E-4684-A659-1E568146B7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74E148-06A0-41CA-8D2A-D1BCE96B99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DD0E55-1F13-4C40-9281-17884C465E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F04253-A25D-4F08-99E8-B3F7C04A8B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FE3976-E18A-4EA2-85CC-592974FBAE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1EFACB-751A-41EF-B656-3AA744EC8D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8BBA7F-A5AD-4A48-AB7F-018D0F18DC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2572B-C2FA-4334-BE97-727908961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377E0D-5CAE-4891-8762-3F4AEC680D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697EE5-5D3F-47EC-9108-9604038BF7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EBEA7A-980F-41AD-A7E7-4700E191F3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FA4770-20F2-4121-8187-5020F885E4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434F47-4800-4437-B539-922E5259A7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719A69-E887-4181-966F-9D24BD712F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66A758-5CA8-4309-939D-5AF62722DD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266BB0-E316-4C9C-8CBE-C71F1E5426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44CAAC-27A0-4FDC-A3FF-D4273237DB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AB866C-6FE4-4395-8EA5-DDE8A0628F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06555-DF95-464E-827A-E4A7D6AD5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9916E3-2765-4B72-8C2A-1B8BA87FD8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FFD2FC-DF88-4F49-BA09-0866E19FAD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273AB4-AED7-45EA-BB59-1B79EA584D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698B72-4910-4637-99B1-423CCE94C5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6C74AD-E8A0-4F72-B192-5EE0F8A9DC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897801-0630-47EB-837F-6784744EE1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F1B83A-F3FC-43DE-A352-8EF784E098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4C2D5E-BB32-4111-86FF-7DE619A2D9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453D50-2B0A-40F0-995F-1DC93C78D7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1A7730-53CA-42D5-ABE2-4D1B4737CC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BD3EC-6B23-4BF6-B3B2-BE0C94E9A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0129BB-6E3D-423A-8C67-783BB4C5E3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49F209-3279-44E9-AC79-A96DCF2803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C696C4-ABC0-4077-B873-B8E874377E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C86130-1356-474B-B190-59715187AA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74EE39-1648-47E3-9342-9FFC37B725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1D4D97-8DDB-43B0-A7F0-218831737D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652C49-B606-424E-ABB3-05C37193F5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E2FBB3-F4DD-41D4-888B-133A51B0DD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7909AE-DD30-4A3D-AF12-773C7A3131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69B741-ED1F-4F81-A25F-7F608D036C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82B45-A4E7-4014-AE13-4858A7CB8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55B362-AEEF-4A08-8884-DA9317758D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F312DE-CBB3-45BB-9164-E1E0DAFAD7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2DC9F4-1032-4106-809E-4F72EF082F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87C4B4-195F-46A0-AC36-BB3349A459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883F72-5A55-42B7-AFBD-28F49A0317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8093EE-8AB0-443F-8854-800176B043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F0A5C4-DE34-4EAE-8670-F7D104353F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607D65-7D4C-41AF-883F-F50590A67E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B77596-EA45-45A7-8C64-77675E812C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B0288F-0387-4EA4-87AE-5A73B16FA77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D091-44B3-4C45-BE4C-5A64E1E3A8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7E226-E0D8-4FC0-A2BD-46757C4DFC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1B3DC-881D-48CF-9F9E-AB93317B4F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17982-6EA8-4979-ABC7-80CA861CD5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B8958-9830-4D05-995C-400D854AC7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BA008-3C56-4F23-8A44-1D5B586DEF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D4F66-E201-4FA0-9828-5DB2C2CC52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62DA7-CF94-4400-8306-9AEFE1D016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CE44-92B7-42E4-A30D-F9F2AF6949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FAB31-CE57-4576-93DE-0117F10C8D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B006-435C-4131-9645-B4EDEA8D77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95F5-54B2-45DD-9605-2536B70F28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chevroncars.com/learn/img-old/i0450-1.gif&amp;imgrefurl=http://www.chevroncars.com/learn/category/holidays-seasons/page/2/&amp;h=160&amp;w=190&amp;sz=23&amp;hl=en&amp;start=484&amp;um=1&amp;tbnid=N1AKmaskgq0VQM:&amp;tbnh=87&amp;tbnw=103&amp;prev=/images%3Fq%3Dkwanzaa%26start%3D480%26gbv%3D2%26ndsp%3D20%26svnum%3D10%26um%3D1%26hl%3Den%26safe%3Dactive%26sa%3DN"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path path="rect">
            <a:fillToRect l="50000" t="50000" r="50000" b="50000"/>
          </a:path>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Papyrus"/>
              </a:rPr>
              <a:t>Kwanzaa</a:t>
            </a:r>
            <a:endParaRPr b="0" lang="en-US" sz="8800" spc="-1" strike="noStrike">
              <a:solidFill>
                <a:srgbClr val="000000"/>
              </a:solidFill>
              <a:latin typeface="Times New Roman"/>
            </a:endParaRPr>
          </a:p>
        </p:txBody>
      </p:sp>
      <p:sp>
        <p:nvSpPr>
          <p:cNvPr id="500" name="PlaceHolder 2"/>
          <p:cNvSpPr>
            <a:spLocks noGrp="1"/>
          </p:cNvSpPr>
          <p:nvPr>
            <p:ph type="subTitle"/>
          </p:nvPr>
        </p:nvSpPr>
        <p:spPr>
          <a:xfrm>
            <a:off x="1371600" y="4800600"/>
            <a:ext cx="6400800" cy="8380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Mr. Clutter</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Librarian</a:t>
            </a:r>
            <a:endParaRPr b="0" lang="en-US" sz="2400" spc="-1" strike="noStrike">
              <a:solidFill>
                <a:srgbClr val="000000"/>
              </a:solidFill>
              <a:latin typeface="Times New Roman"/>
            </a:endParaRPr>
          </a:p>
        </p:txBody>
      </p:sp>
      <p:pic>
        <p:nvPicPr>
          <p:cNvPr id="501" name="Picture 8" descr="i0450-1">
            <a:hlinkClick r:id="rId1"/>
          </p:cNvPr>
          <p:cNvPicPr/>
          <p:nvPr/>
        </p:nvPicPr>
        <p:blipFill>
          <a:blip r:embed="rId2"/>
          <a:stretch/>
        </p:blipFill>
        <p:spPr>
          <a:xfrm>
            <a:off x="3352680" y="387360"/>
            <a:ext cx="2514600" cy="21240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0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What is Kwanzaa?</a:t>
            </a:r>
            <a:endParaRPr b="0" lang="en-US" sz="4400" spc="-1" strike="noStrike">
              <a:solidFill>
                <a:srgbClr val="000000"/>
              </a:solidFill>
              <a:latin typeface="Times New Roman"/>
            </a:endParaRPr>
          </a:p>
        </p:txBody>
      </p:sp>
      <p:sp>
        <p:nvSpPr>
          <p:cNvPr id="503" name="PlaceHolder 2"/>
          <p:cNvSpPr>
            <a:spLocks noGrp="1"/>
          </p:cNvSpPr>
          <p:nvPr>
            <p:ph type="subTitle"/>
          </p:nvPr>
        </p:nvSpPr>
        <p:spPr>
          <a:xfrm>
            <a:off x="762120" y="1980720"/>
            <a:ext cx="7619760" cy="39625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2400" spc="-1" strike="noStrike">
              <a:solidFill>
                <a:srgbClr val="000000"/>
              </a:solidFill>
              <a:latin typeface="Times New Roman"/>
            </a:endParaRPr>
          </a:p>
        </p:txBody>
      </p:sp>
      <p:pic>
        <p:nvPicPr>
          <p:cNvPr id="504" name="Picture 4" descr="kwanzaad3"/>
          <p:cNvPicPr/>
          <p:nvPr/>
        </p:nvPicPr>
        <p:blipFill>
          <a:blip r:embed="rId1"/>
          <a:stretch/>
        </p:blipFill>
        <p:spPr>
          <a:xfrm>
            <a:off x="3809880" y="5257800"/>
            <a:ext cx="914400" cy="1120680"/>
          </a:xfrm>
          <a:prstGeom prst="rect">
            <a:avLst/>
          </a:prstGeom>
          <a:ln w="0">
            <a:noFill/>
          </a:ln>
        </p:spPr>
      </p:pic>
      <p:pic>
        <p:nvPicPr>
          <p:cNvPr id="505" name="Picture 5" descr="kwanzaad2"/>
          <p:cNvPicPr/>
          <p:nvPr/>
        </p:nvPicPr>
        <p:blipFill>
          <a:blip r:embed="rId2"/>
          <a:stretch/>
        </p:blipFill>
        <p:spPr>
          <a:xfrm>
            <a:off x="2438280" y="5257800"/>
            <a:ext cx="914400" cy="1120680"/>
          </a:xfrm>
          <a:prstGeom prst="rect">
            <a:avLst/>
          </a:prstGeom>
          <a:ln w="0">
            <a:noFill/>
          </a:ln>
        </p:spPr>
      </p:pic>
      <p:pic>
        <p:nvPicPr>
          <p:cNvPr id="506" name="Picture 6" descr="kwanzaad1"/>
          <p:cNvPicPr/>
          <p:nvPr/>
        </p:nvPicPr>
        <p:blipFill>
          <a:blip r:embed="rId3"/>
          <a:stretch/>
        </p:blipFill>
        <p:spPr>
          <a:xfrm>
            <a:off x="5181480" y="5334120"/>
            <a:ext cx="914400" cy="112068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0000"/>
            </a:gs>
          </a:gsLst>
          <a:lin ang="27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Dates</a:t>
            </a:r>
            <a:endParaRPr b="0" lang="en-US" sz="4400" spc="-1" strike="noStrike">
              <a:solidFill>
                <a:srgbClr val="000000"/>
              </a:solidFill>
              <a:latin typeface="Times New Roman"/>
            </a:endParaRPr>
          </a:p>
        </p:txBody>
      </p:sp>
      <p:sp>
        <p:nvSpPr>
          <p:cNvPr id="5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Kwanzaa is based on the nguzo saba (seven guiding principles) one for each day of the observance and is celebrated from December 26</a:t>
            </a:r>
            <a:r>
              <a:rPr b="0" lang="en-US" sz="3200" spc="-1" strike="noStrike" baseline="30000">
                <a:solidFill>
                  <a:srgbClr val="ffffff"/>
                </a:solidFill>
                <a:latin typeface="Papyrus"/>
              </a:rPr>
              <a:t>th</a:t>
            </a:r>
            <a:r>
              <a:rPr b="0" lang="en-US" sz="3200" spc="-1" strike="noStrike">
                <a:solidFill>
                  <a:srgbClr val="ffffff"/>
                </a:solidFill>
                <a:latin typeface="Papyrus"/>
              </a:rPr>
              <a:t> to January 1</a:t>
            </a:r>
            <a:r>
              <a:rPr b="0" lang="en-US" sz="3200" spc="-1" strike="noStrike" baseline="30000">
                <a:solidFill>
                  <a:srgbClr val="ffffff"/>
                </a:solidFill>
                <a:latin typeface="Papyrus"/>
              </a:rPr>
              <a:t>s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9" name="Picture 4" descr="kwanzaa1"/>
          <p:cNvPicPr/>
          <p:nvPr/>
        </p:nvPicPr>
        <p:blipFill>
          <a:blip r:embed="rId1"/>
          <a:stretch/>
        </p:blipFill>
        <p:spPr>
          <a:xfrm>
            <a:off x="3200400" y="4114800"/>
            <a:ext cx="3228840" cy="236844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2"/>
            </a:gs>
            <a:gs pos="100000">
              <a:srgbClr val="ff0000"/>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Gifts</a:t>
            </a:r>
            <a:br>
              <a:rPr sz="4400"/>
            </a:b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7772400" cy="4114800"/>
          </a:xfrm>
          <a:prstGeom prst="rect">
            <a:avLst/>
          </a:prstGeom>
          <a:noFill/>
          <a:ln w="0">
            <a:noFill/>
          </a:ln>
        </p:spPr>
        <p:txBody>
          <a:bodyPr anchor="t">
            <a:normAutofit/>
          </a:bodyPr>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 </a:t>
            </a:r>
            <a:r>
              <a:rPr b="0" lang="en-US" sz="2800" spc="-1" strike="noStrike">
                <a:solidFill>
                  <a:srgbClr val="ffffff"/>
                </a:solidFill>
                <a:latin typeface="Papyrus"/>
              </a:rPr>
              <a:t>Kuumba(creativity)is greatly encouraged. Gifts are usually exchanged between parents and children and traditionally given on January 1</a:t>
            </a:r>
            <a:r>
              <a:rPr b="0" lang="en-US" sz="2800" spc="-1" strike="noStrike" baseline="30000">
                <a:solidFill>
                  <a:srgbClr val="ffffff"/>
                </a:solidFill>
                <a:latin typeface="Papyrus"/>
              </a:rPr>
              <a:t>st</a:t>
            </a:r>
            <a:r>
              <a:rPr b="0" lang="en-US" sz="2800" spc="-1" strike="noStrike">
                <a:solidFill>
                  <a:srgbClr val="ffffff"/>
                </a:solidFill>
                <a:latin typeface="Papyrus"/>
              </a:rPr>
              <a:t> the last day of Kwanzaa. However gift giving during Kwanzaa may occur at any time.</a:t>
            </a:r>
            <a:endParaRPr b="0" lang="en-US" sz="2800" spc="-1" strike="noStrike">
              <a:solidFill>
                <a:srgbClr val="000000"/>
              </a:solidFill>
              <a:latin typeface="Times New Roman"/>
            </a:endParaRPr>
          </a:p>
        </p:txBody>
      </p:sp>
      <p:pic>
        <p:nvPicPr>
          <p:cNvPr id="512" name="Picture 4" descr="lionlight1"/>
          <p:cNvPicPr/>
          <p:nvPr/>
        </p:nvPicPr>
        <p:blipFill>
          <a:blip r:embed="rId1"/>
          <a:stretch/>
        </p:blipFill>
        <p:spPr>
          <a:xfrm>
            <a:off x="685800" y="3809880"/>
            <a:ext cx="1752480" cy="142092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7600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Decorating the home</a:t>
            </a: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32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80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The Kwanzaa feast or karamu</a:t>
            </a:r>
            <a:br>
              <a:rPr sz="4400"/>
            </a:br>
            <a:endParaRPr b="0" lang="en-US" sz="4400" spc="-1" strike="noStrike">
              <a:solidFill>
                <a:srgbClr val="000000"/>
              </a:solidFill>
              <a:latin typeface="Times New Roman"/>
            </a:endParaRPr>
          </a:p>
        </p:txBody>
      </p:sp>
      <p:sp>
        <p:nvSpPr>
          <p:cNvPr id="5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Kwanzaa karumu is traditionally held on December 31</a:t>
            </a:r>
            <a:r>
              <a:rPr b="0" lang="en-US" sz="3200" spc="-1" strike="noStrike" baseline="30000">
                <a:solidFill>
                  <a:srgbClr val="ffffff"/>
                </a:solidFill>
                <a:latin typeface="Papyrus"/>
              </a:rPr>
              <a:t>st</a:t>
            </a:r>
            <a:r>
              <a:rPr b="0" lang="en-US" sz="3200" spc="-1" strike="noStrike">
                <a:solidFill>
                  <a:srgbClr val="ffffff"/>
                </a:solidFill>
                <a:latin typeface="Papyrus"/>
              </a:rPr>
              <a:t>. This is a very special event.  It is the one Kwanzaa event that brings the African American people closer to our African roots.</a:t>
            </a:r>
            <a:endParaRPr b="0" lang="en-US" sz="3200" spc="-1" strike="noStrike">
              <a:solidFill>
                <a:srgbClr val="000000"/>
              </a:solidFill>
              <a:latin typeface="Times New Roman"/>
            </a:endParaRPr>
          </a:p>
        </p:txBody>
      </p:sp>
      <p:pic>
        <p:nvPicPr>
          <p:cNvPr id="517" name="Picture 8" descr="kwanzaa"/>
          <p:cNvPicPr/>
          <p:nvPr/>
        </p:nvPicPr>
        <p:blipFill>
          <a:blip r:embed="rId1"/>
          <a:stretch/>
        </p:blipFill>
        <p:spPr>
          <a:xfrm>
            <a:off x="3733920" y="4495680"/>
            <a:ext cx="1882800" cy="191448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10002"/>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7 principles</a:t>
            </a:r>
            <a:endParaRPr b="0" lang="en-US" sz="4400" spc="-1" strike="noStrike">
              <a:solidFill>
                <a:srgbClr val="000000"/>
              </a:solidFill>
              <a:latin typeface="Times New Roman"/>
            </a:endParaRPr>
          </a:p>
        </p:txBody>
      </p:sp>
      <p:sp>
        <p:nvSpPr>
          <p:cNvPr id="519" name="PlaceHolder 2"/>
          <p:cNvSpPr>
            <a:spLocks noGrp="1"/>
          </p:cNvSpPr>
          <p:nvPr>
            <p:ph/>
          </p:nvPr>
        </p:nvSpPr>
        <p:spPr>
          <a:xfrm>
            <a:off x="457200" y="2209320"/>
            <a:ext cx="7315200" cy="3962520"/>
          </a:xfrm>
          <a:prstGeom prst="rect">
            <a:avLst/>
          </a:prstGeom>
          <a:noFill/>
          <a:ln w="0">
            <a:noFill/>
          </a:ln>
        </p:spPr>
        <p:txBody>
          <a:bodyPr anchor="t">
            <a:normAutofit/>
          </a:bodyPr>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moja (oo-MOH-jah): Unity – Success starts with Unity.  Unity of family, community, nation and race.</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Kujichagulia (koo-jee-chah-goo-LEE-ah):  Self-determination – To be responsible for ourselves.  To create your own destiny.</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jima (00-JEE-mah): Collective work and responsibility – To build and maintain your community together.  To work together  to help one another within your community.</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jamaa (oo-jah-MAH): Collective economics – to build, maintain, and support our own stores, establishments, and businesses.</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Nia (NEE-ah): Purpose – To restore African American people to their traditional greatness. To be responsible to our ancestors and to our descendants.</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Kuumba (koo-OOM-bah): Creativity – Using creativity and imagination to make your communities better than what you inherited.</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Imani (ee-MAH-nee): Faith – Believing in our people, our families, our educators, our leaders, and the righteousness of the African American struggle.</a:t>
            </a:r>
            <a:endParaRPr b="0" lang="en-US" sz="1600" spc="-1" strike="noStrike">
              <a:solidFill>
                <a:srgbClr val="000000"/>
              </a:solidFill>
              <a:latin typeface="Times New Roman"/>
            </a:endParaRPr>
          </a:p>
        </p:txBody>
      </p:sp>
      <p:pic>
        <p:nvPicPr>
          <p:cNvPr id="520" name="Picture 7" descr="kwanzaa_family"/>
          <p:cNvPicPr/>
          <p:nvPr/>
        </p:nvPicPr>
        <p:blipFill>
          <a:blip r:embed="rId1"/>
          <a:stretch/>
        </p:blipFill>
        <p:spPr>
          <a:xfrm>
            <a:off x="5943600" y="380880"/>
            <a:ext cx="1657440" cy="167652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1T14:52:39Z</dcterms:created>
  <dc:creator>Mr. Clutter</dc:creator>
  <dc:description/>
  <cp:keywords>Kwanzaa celebration</cp:keywords>
  <dc:language>en-US</dc:language>
  <cp:lastModifiedBy>RomaK</cp:lastModifiedBy>
  <dcterms:modified xsi:type="dcterms:W3CDTF">2015-09-02T09:53:19Z</dcterms:modified>
  <cp:revision>16</cp:revision>
  <dc:subject>Kwanzaa celebration</dc:subject>
  <dc:title>Kwanzaa celebration</dc:title>
</cp:coreProperties>
</file>