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gif" ContentType="image/gif"/>
  <Override PartName="/ppt/media/image4.gif" ContentType="image/gif"/>
  <Override PartName="/ppt/media/image5.gif" ContentType="image/gif"/>
  <Override PartName="/ppt/media/image6.gif" ContentType="image/gi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Times New Roman"/>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65DD-A961-4095-901C-5615CD52CE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Clu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brar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Kwanz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wanzaa is based on the nguzo saba (seven guiding principles) one for each day of the observance and is celebrated from December 26th to January 1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f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umba(creativity)is greatly encouraged. Gifts are usually exchanged between parents and children and traditionally given on January 1st the last day of Kwanzaa. However gift giving during Kwanzaa may occur at an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rating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feast or karamu</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wanzaa karumu is traditionally held on December 31st. This is a very special event.  It is the one Kwanzaa event that brings the African American people closer to our African ro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oja (oo-MOH-jah): Unity – Success starts with Unity.  Unity of family, community, nation and 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jichagulia (koo-jee-chah-goo-LEE-ah):  Self-determination – To be responsible for ourselves.  To create your own desti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ima (00-JEE-mah): Collective work and responsibility – To build and maintain your community together.  To work together  to help one another within your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jamaa (oo-jah-MAH): Collective economics – to build, maintain, and support our own stores, establishments, and busi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a (NEE-ah): Purpose – To restore African American people to their traditional greatness. To be responsible to our ancestors and to our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umba (koo-OOM-bah): Creativity – Using creativity and imagination to make your communities better than what you inher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ni (ee-MAH-nee): Faith – Believing in our people, our families, our educators, our leaders, and the righteousness of the African American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C95DE-7E93-403C-8CEA-D265A19EA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2E135-1449-4020-AB24-31CC78FF5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B533A2-6A72-4DB3-8298-CF5CFDD1AC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F10F74-9E27-49E7-8ACD-4D9C2F0D5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5AE9AD-61D7-4149-874C-C6D3A27EC7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569145-86D0-439B-9371-39C5FE71E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201D2A-D789-409D-BD70-47BBCCF438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29E49F-0336-449B-AD64-396E277D5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641BB-B469-4E4F-A316-287F2EA152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1EA9D7-F81E-4E0A-A0EA-8B5696F4C6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7EA746-BD18-4BD9-8C4A-372DFA522D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79F1BF-70C1-4781-AF5E-0682EBBB2F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CEAE3B-B6AE-443D-B1E6-9B310B2C7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7E67DD-67A2-4588-8DF4-C2DC6897C5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69F5DD-14D5-4354-957B-233525DB1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60DEC6-8AA6-46CD-82BF-2AE4065EC7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447583-3F49-4125-8420-78463D6F6E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8484483-319A-4A20-A34D-62EF8D6EB7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0FA1D0-801F-4823-A8DD-544DE668CC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5B7A6E-6ECA-453E-A96C-D4419D6362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948976-4D15-49A9-AB09-B20FB2F0D5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2A69EB-E289-4666-A584-2F4883D08D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E0CEE99-E00F-4AB2-9427-6CF017E4D2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F6203-F084-46E8-9CA1-F76D0361F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F6B7C3-06AB-4ED3-BD12-F212F2F82E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8696BB-DBDF-4ADA-8F01-6AF0A670C4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4ECF0F-E8AF-446F-9168-25A9549B27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C31CB1-E958-466F-ABF2-A82E7B75D8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CA9F60-258A-4DB7-9A1D-D3C4E8F844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156AE0-D96A-4BDC-A666-404EAA8AAB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1C4197E-DE51-42F4-87E2-08C2238AC5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CA7060-4AE9-4C3B-9CAE-1DF9156C45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8C8F3B-FAE5-4A3F-92A8-ED2531D93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E7DBA44-AB83-44CB-AFF3-BDD1AA7B20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CF2B9-14DA-4795-854A-42A74C1E2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C9F40E-C923-4F22-9E41-3B6AC13FCE7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63AF64-9BF0-4CE2-87D9-A3246EF250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4EAE9FE-C86A-4190-B846-80582A55E2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35C214-8699-4BFC-ACBC-9F1EAF75E1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9E732B-8CE5-4B64-B209-BAEBDF467D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A9DC2F-74C4-40F4-9309-596B3ACE58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2A1AB2-CF76-4C32-9932-4D80F43223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ED6B2-135E-4897-B1B5-A525C8D655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88F458-FBE8-4B6E-ABFE-914A008BCC3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DD5484-47EE-462E-B3E6-208F18E798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A4CE8-1923-4B66-96FD-40A64729F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200C59-CA9D-4CC5-8ECD-F182B8696E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D21E1F-07AC-4F03-92D1-52CAB601A9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3F9BC9-19A1-47D1-9DE5-43B8B38DAE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3F3E3A-D935-4D4A-8EE4-1230A8DCED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B5306B3-3B46-45F6-94A8-DA071675FE5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5ACB9-05B0-4989-A354-17A7F09A0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E7698-CFF7-4B47-823D-CC1B8F171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2C894-F638-4B9C-89AF-0ECF9D126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E11B4-0244-49C1-BB75-DC54781D5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E828A-C576-4AB2-95D5-7BC507A81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02CD1-EF1A-4865-8AB8-191612E2F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C08B6-4818-49C7-A58E-6880EECCE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439BA-E2EB-41C3-A8F8-C63AAA06D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B32F7-BD31-4959-A454-3E70EB6DA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A231D-A559-4EE8-AFC4-278F178DA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852EC0-82FF-478B-9076-B3A5773A70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4A971-9FBD-4839-A6FC-C1CBBC131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B2EBD-5B25-477D-B0CB-D24F3C6188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F8A8A-99E0-4AEF-A6C1-F33BACFB14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64DC97-9784-4BC1-AF3D-D85494E6F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F94B7-FFB1-4001-BE7D-B9960E734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DF19E-0ADE-4711-95D3-F8F90AE21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3A4812-9425-44D5-AEE2-631CB83906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8259F-1AF4-43A2-9F00-2D3F6AFD3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D260F1-4D3C-4569-B74F-4E574AD78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74CEC0-DFD3-42D5-BC40-72FE305E5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B4DF90-8A7F-4BD3-A872-917621CEEE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D3D577-C937-40EB-9ACA-344FBAE471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FA810C-986A-472D-B915-9B251E1FF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7F9CF-185B-422F-A9DB-85E1CFD23C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73FCA-1D19-407D-8197-ED9A8585AA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357B44-A9D8-493D-BFC9-25C6033077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1AD9-D857-4931-8CC2-BA268EB41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1DF83F-32FE-492A-ADDF-176C077360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80850-5B15-436C-AADB-AFB97E553E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DAE10-F5CD-42B0-AC30-9D60B88E4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58099-F5DA-456D-AFC3-D5917B0EA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9F14-D6A3-454D-AB35-6D288414F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91B0CA-F213-4BDE-B7FA-C43299124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79622F-1AD8-4B51-A9BA-82BBE4371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8ED054-61B8-4AAC-921B-044448E871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F3CDC1-6B61-45AA-85C8-7AD7CE508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56E89B-D8E2-4246-A5FF-58E5F43302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77A1E-9BE1-4880-BD3D-FC5627015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9A7F43-2F2F-4645-AC37-C14672F801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3C70FD-75C7-410E-A283-9A3CB77C1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5DA69-F70B-458B-9EE7-E481000BB3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601BF-A6DB-4860-979C-7CEA5C042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6C43F-39F9-474C-AD17-6467F9E688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D533CE-0332-4953-A001-00F217E532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18E96E-39A8-447F-98E5-40F15E87DC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ED1B83-59D4-4768-984E-8591059605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B7A1F-4158-4806-B711-4CF7457483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811515-6AD8-4799-8A31-E8F8865E6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BD113-D4CF-4EBD-9346-094612BC7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0296E4-A60E-4BEB-B423-44839E2C7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11575E-2D71-4203-9D43-E769A48FDB4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5068BC-7784-4D06-8109-D26A1E5C1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84C3F-7E26-4FAE-BB89-CD67C50855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BF63D-FE40-4189-A218-42D7531331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D3837-CB67-4D25-AA11-C086B7B59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6F8097-C6CF-4CDB-BD37-81C75C3139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9E8040-711A-42D2-9380-94D61519A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EF743E-C2F6-44A3-83F1-9BF4A013F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4BBB9B-58C1-47AB-9FE5-4E3BD17759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43CE-4A0D-4399-99CE-4189F1A7B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8F332F-7C79-4082-87CF-05369A68C8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E2B604-DAE9-430C-9880-A5042F18EB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373A4B-F42C-4EB9-9F80-14B658B177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3B0B67-E1FF-478B-B104-017891A7DF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E2E1A7-476C-45A6-ADBD-A7CE7F737E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D352D4-E079-4BF2-BA61-7602ECA4D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CDEDCA-EF15-4D07-A6A9-DC4AD0DBD8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DD582C-65EC-4AFB-9ECE-C60AE8EC4E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7A44D-EAD8-435D-AFD7-76F07B3F17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1DD8F-15B3-4F5C-A94A-B84530AE3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9726E-522F-4CFA-9167-56CBD0720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7C071-4D8E-451A-8793-4DF0DF4554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54267-721C-4ADF-8634-A7D3DFD51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3DA57F-2FC6-4D0F-8B04-4BDD2CE20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6AC683-1830-4A00-9985-566BD993DB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98ADD3-88FD-42D2-8451-9136A97750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295567-1034-4A34-9605-A47AA2FB19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BBCA4B-866A-4341-AE75-B74BB5876B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130217-BA49-435D-BCC7-953686AE47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D80564-0461-4BBE-901D-45007E1F53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C1B148-143F-4B4B-9E1F-D271AC66A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D525F-0272-4B19-996A-533EB3B1C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7106B-0FA3-4E3D-BFA4-2DCEAF42C2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22F25C-050F-4CE1-A49C-8DC977459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B4825-88A0-46F5-8415-9B89D9287B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A5EAFC-EA53-456C-8272-1D47B40EB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6F676-E62E-43CA-A2C2-AE9571D304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1B2EA3-9B28-40EB-A647-DFC6B589AEA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4959D2-F9F3-43ED-B7F8-D20433D516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DC02E2-F636-4201-B24C-AFCBA06EE1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93CE07-FFB4-4956-8FC0-F162CCBB9B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66B8F-EB1C-4E4B-8B88-A21C35CBB1D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A3F1-E01A-4ED2-AD66-EF2B845372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52CB-4825-4305-9CAE-B038BA49E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B899-A9C5-4281-B88D-4EFAA0990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A5C51-5FD9-4DF0-880C-5B660056B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A295-FEBF-4CA8-AFBC-66E7EFA0D9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20FBA-100A-4544-A1DE-950CDFAFF0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FFA4E-2682-470B-A600-A53E1B3F2E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9D9AE-ADED-4CF8-BBFF-89F8AA9CFB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0556-6E53-469D-9B10-91684F0FFD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1E6DE-42EC-4871-A281-2F493FCB2B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5C10-56DC-42B8-B8FA-D29711ABF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F47D-FC08-40EC-BF5F-996357D58B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chevroncars.com/learn/img-old/i0450-1.gif&amp;imgrefurl=http://www.chevroncars.com/learn/category/holidays-seasons/page/2/&amp;h=160&amp;w=190&amp;sz=23&amp;hl=en&amp;start=484&amp;um=1&amp;tbnid=N1AKmaskgq0VQM:&amp;tbnh=87&amp;tbnw=103&amp;prev=/images%3Fq%3Dkwanzaa%26start%3D480%26gbv%3D2%26ndsp%3D20%26svnum%3D10%26um%3D1%26hl%3Den%26safe%3Dactive%26sa%3DN"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100000">
              <a:srgbClr val="005e00"/>
            </a:gs>
          </a:gsLst>
          <a:path path="rect">
            <a:fillToRect l="50000" t="50000" r="50000" b="50000"/>
          </a:path>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Papyrus"/>
              </a:rPr>
              <a:t>Kwanzaa</a:t>
            </a:r>
            <a:endParaRPr b="0" lang="en-US" sz="8800" spc="-1" strike="noStrike">
              <a:solidFill>
                <a:srgbClr val="000000"/>
              </a:solidFill>
              <a:latin typeface="Times New Roman"/>
            </a:endParaRPr>
          </a:p>
        </p:txBody>
      </p:sp>
      <p:sp>
        <p:nvSpPr>
          <p:cNvPr id="500" name="PlaceHolder 2"/>
          <p:cNvSpPr>
            <a:spLocks noGrp="1"/>
          </p:cNvSpPr>
          <p:nvPr>
            <p:ph type="subTitle"/>
          </p:nvPr>
        </p:nvSpPr>
        <p:spPr>
          <a:xfrm>
            <a:off x="1371600" y="4800600"/>
            <a:ext cx="6400800" cy="8380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Mr. Clutter</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Librarian</a:t>
            </a:r>
            <a:endParaRPr b="0" lang="en-US" sz="2400" spc="-1" strike="noStrike">
              <a:solidFill>
                <a:srgbClr val="000000"/>
              </a:solidFill>
              <a:latin typeface="Times New Roman"/>
            </a:endParaRPr>
          </a:p>
        </p:txBody>
      </p:sp>
      <p:pic>
        <p:nvPicPr>
          <p:cNvPr id="501" name="Picture 8" descr="i0450-1">
            <a:hlinkClick r:id="rId1"/>
          </p:cNvPr>
          <p:cNvPicPr/>
          <p:nvPr/>
        </p:nvPicPr>
        <p:blipFill>
          <a:blip r:embed="rId2"/>
          <a:stretch/>
        </p:blipFill>
        <p:spPr>
          <a:xfrm>
            <a:off x="3352680" y="387360"/>
            <a:ext cx="2514600" cy="2124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0000"/>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What is Kwanzaa?</a:t>
            </a:r>
            <a:endParaRPr b="0" lang="en-US" sz="4400" spc="-1" strike="noStrike">
              <a:solidFill>
                <a:srgbClr val="000000"/>
              </a:solidFill>
              <a:latin typeface="Times New Roman"/>
            </a:endParaRPr>
          </a:p>
        </p:txBody>
      </p:sp>
      <p:sp>
        <p:nvSpPr>
          <p:cNvPr id="503" name="PlaceHolder 2"/>
          <p:cNvSpPr>
            <a:spLocks noGrp="1"/>
          </p:cNvSpPr>
          <p:nvPr>
            <p:ph type="subTitle"/>
          </p:nvPr>
        </p:nvSpPr>
        <p:spPr>
          <a:xfrm>
            <a:off x="762120" y="1980720"/>
            <a:ext cx="7619760" cy="39625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pyrus"/>
              </a:rPr>
              <a:t>Kwanzaa is a unique African American celebration with focus on the traditional African values of family, community responsibility, commerce and self improvement. It is simply a time of reaffirming African- American people, their ancestors and culture. Which means first fruits of  the harvest in the African language kiswahill. Founded in 1966 by Dr. Maulana Karenga; Kwanzaa has come to be observed by more than 18 million people worldwide.</a:t>
            </a:r>
            <a:endParaRPr b="0" lang="en-US" sz="2400" spc="-1" strike="noStrike">
              <a:solidFill>
                <a:srgbClr val="000000"/>
              </a:solidFill>
              <a:latin typeface="Times New Roman"/>
            </a:endParaRPr>
          </a:p>
        </p:txBody>
      </p:sp>
      <p:pic>
        <p:nvPicPr>
          <p:cNvPr id="504" name="Picture 4" descr="kwanzaad3"/>
          <p:cNvPicPr/>
          <p:nvPr/>
        </p:nvPicPr>
        <p:blipFill>
          <a:blip r:embed="rId1"/>
          <a:stretch/>
        </p:blipFill>
        <p:spPr>
          <a:xfrm>
            <a:off x="3809880" y="5257800"/>
            <a:ext cx="914400" cy="1120680"/>
          </a:xfrm>
          <a:prstGeom prst="rect">
            <a:avLst/>
          </a:prstGeom>
          <a:ln w="0">
            <a:noFill/>
          </a:ln>
        </p:spPr>
      </p:pic>
      <p:pic>
        <p:nvPicPr>
          <p:cNvPr id="505" name="Picture 5" descr="kwanzaad2"/>
          <p:cNvPicPr/>
          <p:nvPr/>
        </p:nvPicPr>
        <p:blipFill>
          <a:blip r:embed="rId2"/>
          <a:stretch/>
        </p:blipFill>
        <p:spPr>
          <a:xfrm>
            <a:off x="2438280" y="5257800"/>
            <a:ext cx="914400" cy="1120680"/>
          </a:xfrm>
          <a:prstGeom prst="rect">
            <a:avLst/>
          </a:prstGeom>
          <a:ln w="0">
            <a:noFill/>
          </a:ln>
        </p:spPr>
      </p:pic>
      <p:pic>
        <p:nvPicPr>
          <p:cNvPr id="506" name="Picture 6" descr="kwanzaad1"/>
          <p:cNvPicPr/>
          <p:nvPr/>
        </p:nvPicPr>
        <p:blipFill>
          <a:blip r:embed="rId3"/>
          <a:stretch/>
        </p:blipFill>
        <p:spPr>
          <a:xfrm>
            <a:off x="5181480" y="5334120"/>
            <a:ext cx="914400" cy="1120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0000"/>
            </a:gs>
          </a:gsLst>
          <a:lin ang="27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ates</a:t>
            </a:r>
            <a:endParaRPr b="0" lang="en-US" sz="4400" spc="-1" strike="noStrike">
              <a:solidFill>
                <a:srgbClr val="000000"/>
              </a:solidFill>
              <a:latin typeface="Times New Roman"/>
            </a:endParaRPr>
          </a:p>
        </p:txBody>
      </p:sp>
      <p:sp>
        <p:nvSpPr>
          <p:cNvPr id="5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Kwanzaa is based on the nguzo saba (seven guiding principles) one for each day of the observance and is celebrated from December 26</a:t>
            </a:r>
            <a:r>
              <a:rPr b="0" lang="en-US" sz="3200" spc="-1" strike="noStrike" baseline="30000">
                <a:solidFill>
                  <a:srgbClr val="ffffff"/>
                </a:solidFill>
                <a:latin typeface="Papyrus"/>
              </a:rPr>
              <a:t>th</a:t>
            </a:r>
            <a:r>
              <a:rPr b="0" lang="en-US" sz="3200" spc="-1" strike="noStrike">
                <a:solidFill>
                  <a:srgbClr val="ffffff"/>
                </a:solidFill>
                <a:latin typeface="Papyrus"/>
              </a:rPr>
              <a:t> to January 1</a:t>
            </a:r>
            <a:r>
              <a:rPr b="0" lang="en-US" sz="3200" spc="-1" strike="noStrike" baseline="30000">
                <a:solidFill>
                  <a:srgbClr val="ffffff"/>
                </a:solidFill>
                <a:latin typeface="Papyrus"/>
              </a:rPr>
              <a:t>s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9" name="Picture 4" descr="kwanzaa1"/>
          <p:cNvPicPr/>
          <p:nvPr/>
        </p:nvPicPr>
        <p:blipFill>
          <a:blip r:embed="rId1"/>
          <a:stretch/>
        </p:blipFill>
        <p:spPr>
          <a:xfrm>
            <a:off x="3200400" y="4114800"/>
            <a:ext cx="3228840" cy="236844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0002"/>
            </a:gs>
            <a:gs pos="100000">
              <a:srgbClr val="ff0000"/>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Gifts</a:t>
            </a:r>
            <a:br>
              <a:rPr sz="4400"/>
            </a:b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7772400" cy="4114800"/>
          </a:xfrm>
          <a:prstGeom prst="rect">
            <a:avLst/>
          </a:prstGeom>
          <a:noFill/>
          <a:ln w="0">
            <a:noFill/>
          </a:ln>
        </p:spPr>
        <p:txBody>
          <a:bodyPr anchor="t">
            <a:normAutofit/>
          </a:bodyPr>
          <a:p>
            <a:pPr lvl="4" marL="20574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pyrus"/>
              </a:rPr>
              <a:t>• </a:t>
            </a:r>
            <a:r>
              <a:rPr b="0" lang="en-US" sz="2800" spc="-1" strike="noStrike">
                <a:solidFill>
                  <a:srgbClr val="ffffff"/>
                </a:solidFill>
                <a:latin typeface="Papyrus"/>
              </a:rPr>
              <a:t>Kuumba(creativity)is greatly encouraged. Gifts are usually exchanged between parents and children and traditionally given on January 1</a:t>
            </a:r>
            <a:r>
              <a:rPr b="0" lang="en-US" sz="2800" spc="-1" strike="noStrike" baseline="30000">
                <a:solidFill>
                  <a:srgbClr val="ffffff"/>
                </a:solidFill>
                <a:latin typeface="Papyrus"/>
              </a:rPr>
              <a:t>st</a:t>
            </a:r>
            <a:r>
              <a:rPr b="0" lang="en-US" sz="2800" spc="-1" strike="noStrike">
                <a:solidFill>
                  <a:srgbClr val="ffffff"/>
                </a:solidFill>
                <a:latin typeface="Papyrus"/>
              </a:rPr>
              <a:t> the last day of Kwanzaa. However gift giving during Kwanzaa may occur at any time.</a:t>
            </a:r>
            <a:endParaRPr b="0" lang="en-US" sz="2800" spc="-1" strike="noStrike">
              <a:solidFill>
                <a:srgbClr val="000000"/>
              </a:solidFill>
              <a:latin typeface="Times New Roman"/>
            </a:endParaRPr>
          </a:p>
        </p:txBody>
      </p:sp>
      <p:pic>
        <p:nvPicPr>
          <p:cNvPr id="512" name="Picture 4" descr="lionlight1"/>
          <p:cNvPicPr/>
          <p:nvPr/>
        </p:nvPicPr>
        <p:blipFill>
          <a:blip r:embed="rId1"/>
          <a:stretch/>
        </p:blipFill>
        <p:spPr>
          <a:xfrm>
            <a:off x="685800" y="3809880"/>
            <a:ext cx="1752480" cy="142092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7600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Decorating the home</a:t>
            </a:r>
            <a:endParaRPr b="0" lang="en-US" sz="4400" spc="-1" strike="noStrike">
              <a:solidFill>
                <a:srgbClr val="000000"/>
              </a:solidFill>
              <a:latin typeface="Times New Roman"/>
            </a:endParaRPr>
          </a:p>
        </p:txBody>
      </p:sp>
      <p:sp>
        <p:nvSpPr>
          <p:cNvPr id="5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colors of Kwanzaa are black, red and green; this should be kept in mind when decorating the home. Black, red and green steamers, balloons, cloth flowers, and African prints can be hung tastefully around the room. Original art and sculpture may be displayed as well.</a:t>
            </a:r>
            <a:endParaRPr b="0" lang="en-US" sz="32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080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The Kwanzaa feast or karamu</a:t>
            </a:r>
            <a:br>
              <a:rPr sz="4400"/>
            </a:br>
            <a:endParaRPr b="0" lang="en-US" sz="4400" spc="-1" strike="noStrike">
              <a:solidFill>
                <a:srgbClr val="000000"/>
              </a:solidFill>
              <a:latin typeface="Times New Roman"/>
            </a:endParaRPr>
          </a:p>
        </p:txBody>
      </p:sp>
      <p:sp>
        <p:nvSpPr>
          <p:cNvPr id="5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pyrus"/>
              </a:rPr>
              <a:t>The Kwanzaa karumu is traditionally held on December 31</a:t>
            </a:r>
            <a:r>
              <a:rPr b="0" lang="en-US" sz="3200" spc="-1" strike="noStrike" baseline="30000">
                <a:solidFill>
                  <a:srgbClr val="ffffff"/>
                </a:solidFill>
                <a:latin typeface="Papyrus"/>
              </a:rPr>
              <a:t>st</a:t>
            </a:r>
            <a:r>
              <a:rPr b="0" lang="en-US" sz="3200" spc="-1" strike="noStrike">
                <a:solidFill>
                  <a:srgbClr val="ffffff"/>
                </a:solidFill>
                <a:latin typeface="Papyrus"/>
              </a:rPr>
              <a:t>. This is a very special event.  It is the one Kwanzaa event that brings the African American people closer to our African roots.</a:t>
            </a:r>
            <a:endParaRPr b="0" lang="en-US" sz="3200" spc="-1" strike="noStrike">
              <a:solidFill>
                <a:srgbClr val="000000"/>
              </a:solidFill>
              <a:latin typeface="Times New Roman"/>
            </a:endParaRPr>
          </a:p>
        </p:txBody>
      </p:sp>
      <p:pic>
        <p:nvPicPr>
          <p:cNvPr id="517" name="Picture 8" descr="kwanzaa"/>
          <p:cNvPicPr/>
          <p:nvPr/>
        </p:nvPicPr>
        <p:blipFill>
          <a:blip r:embed="rId1"/>
          <a:stretch/>
        </p:blipFill>
        <p:spPr>
          <a:xfrm>
            <a:off x="3733920" y="4495680"/>
            <a:ext cx="1882800" cy="191448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010002"/>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Papyrus"/>
              </a:rPr>
              <a:t>7 principles</a:t>
            </a:r>
            <a:endParaRPr b="0" lang="en-US" sz="4400" spc="-1" strike="noStrike">
              <a:solidFill>
                <a:srgbClr val="000000"/>
              </a:solidFill>
              <a:latin typeface="Times New Roman"/>
            </a:endParaRPr>
          </a:p>
        </p:txBody>
      </p:sp>
      <p:sp>
        <p:nvSpPr>
          <p:cNvPr id="519" name="PlaceHolder 2"/>
          <p:cNvSpPr>
            <a:spLocks noGrp="1"/>
          </p:cNvSpPr>
          <p:nvPr>
            <p:ph/>
          </p:nvPr>
        </p:nvSpPr>
        <p:spPr>
          <a:xfrm>
            <a:off x="457200" y="2209320"/>
            <a:ext cx="7315200" cy="3962520"/>
          </a:xfrm>
          <a:prstGeom prst="rect">
            <a:avLst/>
          </a:prstGeom>
          <a:noFill/>
          <a:ln w="0">
            <a:noFill/>
          </a:ln>
        </p:spPr>
        <p:txBody>
          <a:bodyPr anchor="t">
            <a:normAutofit/>
          </a:bodyPr>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moja (oo-MOH-jah): Unity – Success starts with Unity.  Unity of family, community, nation and race.</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jichagulia (koo-jee-chah-goo-LEE-ah):  Self-determination – To be responsible for ourselves.  To create your own destin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ima (00-JEE-mah): Collective work and responsibility – To build and maintain your community together.  To work together  to help one another within your community.</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Ujamaa (oo-jah-MAH): Collective economics – to build, maintain, and support our own stores, establishments, and businesse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Nia (NEE-ah): Purpose – To restore African American people to their traditional greatness. To be responsible to our ancestors and to our descendants.</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Kuumba (koo-OOM-bah): Creativity – Using creativity and imagination to make your communities better than what you inherited.</a:t>
            </a:r>
            <a:endParaRPr b="0" lang="en-US" sz="1600" spc="-1" strike="noStrike">
              <a:solidFill>
                <a:srgbClr val="000000"/>
              </a:solidFill>
              <a:latin typeface="Times New Roman"/>
            </a:endParaRPr>
          </a:p>
          <a:p>
            <a:pPr marL="343080" indent="-343080">
              <a:lnSpc>
                <a:spcPct val="80000"/>
              </a:lnSpc>
              <a:spcBef>
                <a:spcPts val="400"/>
              </a:spcBef>
              <a:buClr>
                <a:srgbClr val="ffffff"/>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Papyrus"/>
              </a:rPr>
              <a:t>Imani (ee-MAH-nee): Faith – Believing in our people, our families, our educators, our leaders, and the righteousness of the African American struggle.</a:t>
            </a:r>
            <a:endParaRPr b="0" lang="en-US" sz="1600" spc="-1" strike="noStrike">
              <a:solidFill>
                <a:srgbClr val="000000"/>
              </a:solidFill>
              <a:latin typeface="Times New Roman"/>
            </a:endParaRPr>
          </a:p>
        </p:txBody>
      </p:sp>
      <p:pic>
        <p:nvPicPr>
          <p:cNvPr id="520" name="Picture 7" descr="kwanzaa_family"/>
          <p:cNvPicPr/>
          <p:nvPr/>
        </p:nvPicPr>
        <p:blipFill>
          <a:blip r:embed="rId1"/>
          <a:stretch/>
        </p:blipFill>
        <p:spPr>
          <a:xfrm>
            <a:off x="5943600" y="380880"/>
            <a:ext cx="1657440" cy="167652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14:52:39Z</dcterms:created>
  <dc:creator>Mr. Clutter</dc:creator>
  <dc:description/>
  <cp:keywords>Kwanzaa celebration</cp:keywords>
  <dc:language>en-US</dc:language>
  <cp:lastModifiedBy>RomaK</cp:lastModifiedBy>
  <dcterms:modified xsi:type="dcterms:W3CDTF">2015-09-02T09:53:19Z</dcterms:modified>
  <cp:revision>16</cp:revision>
  <dc:subject>Kwanzaa celebration</dc:subject>
  <dc:title>Kwanzaa celebration</dc:title>
</cp:coreProperties>
</file>