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C9A0-F11E-44C3-9D2B-478A4E8282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inology – 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tervention of Feminism,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concentrated on male experi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search was then generalised to the whol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 like reproduction were igno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Heidensohn (’96), ‘Criminology…has almost nothing to say of interest or importance about wome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nce; a Refresher – for Becker (’63), ‘The deviant is one to whom that label has been success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; deviant behaviour is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people so labe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minists began to raise 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 ignored by ‘malestream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, so studies began to emerg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ences of the ‘other  half’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pervasive myths relating to female crime (is) that female delinquency is predominantly sexual delinquency.’ (Omodei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‘Witch-hunting was the most public form of social control ever devised…’ (Larner, ’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cades into the 20th century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continue to view menstru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and menopause as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intellectual liabilitie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hrenreich and English, ’79), and perh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ory explanations for female crimi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Criminologists did divert their gaze to women, they regressed into biological explanations for deviant behaviou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they would be nice girls – marry, settle down, give birth to and raise their children – then such behaviour would vanis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mbroso and Ferrero (1895), ‘…the female criminal is a monster – her wickedness must have been enormous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such criminality reflects a failed biology, a sign for Lombroso of ‘evil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ling’ theory, derived from Social Action sociology, did perceive that ‘it is true in many respects that men make the rules for women in society.’ (Becker, The Outsiders, ’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Leonard (’82), though ‘…labelling might have begun a thorough analysis of women and crime…once again this analysis was not forthcoming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ohen (’80), ‘The absence of girls from the whole of the literature in this area is quite striking, and demands explanation.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tudying subcultures of gang membership, women again were all but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Crimi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it required Feminist Criminologists to enter the fray before academic literature on the subject began to app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ly, female criminality had been dismissed as the province of ‘fallen’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fully, such research is now widely available, offering students of the discipline the opportunity to explore previously uncharted wa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 have successfully insisted on being taken seriously as a suitable subject for enqui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514-CC6F-46AF-904D-630FB1BD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0AC-B1F5-42B1-98E5-2DB71C2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C0D-462B-403A-8943-2353C251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B57-AD66-4628-92E9-EA726461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BD815-B420-4470-A8AD-743CD194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B255C-C347-4EFD-9163-195F282D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C3518-46A9-46CD-A775-CCB72803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9961A-2E60-4EC5-8059-ECDD7FD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6BD2B-A2D2-4ABD-A43A-2850A6D0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0313C-AB07-4494-924F-692A69EB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16F5C-BA8E-4B0C-B26F-FF34C85A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D1E-1A9A-416D-AA67-9731E3F1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AD9AC-BCA9-48F1-A7AC-0CB37A5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14F17-66FD-4462-854C-248EAC9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4B499-695C-432D-BF33-1E92540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2CA66-275B-4929-8B7A-117C2B7B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02FA3-80E7-428C-AC06-287BAE7A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376-882E-498A-8082-26A9065E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908-CAAD-4964-9899-57B4FBD2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80D-280B-43F5-A796-DEF66245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76B-7E44-45EB-B1EA-27537C34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630-0026-4FA9-932E-DA0BCF5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3A5-6FF7-4BF9-8475-4242A2A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6A7-E15A-44F2-AE92-9A3F83B5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7B21-42D0-4EE9-84C8-66534EB931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27EE-5DA5-4AF2-B4C2-A3FA24A63C5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riminology – 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8000" y="2205000"/>
            <a:ext cx="6192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Before the intervention of Feminism, t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iplines of Criminology and Sociology tended to view women as ‘invisible’ other than in the category of ‘mothers.’ An awful lot of Sociology simply didn’t talk about women at al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esearch concentrated on male experien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is research was then generalised to the whole popula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reas like reproduction were ignor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girlg"/>
          <p:cNvPicPr/>
          <p:nvPr/>
        </p:nvPicPr>
        <p:blipFill>
          <a:blip r:embed="rId1"/>
          <a:stretch/>
        </p:blipFill>
        <p:spPr>
          <a:xfrm>
            <a:off x="6300720" y="2276640"/>
            <a:ext cx="2511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or Heidensohn (’96), ‘Criminology…has almost nothing to say of interest or importance about women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rise of modern Feminism brought about a reappraisal of women’s roles in society as a whole, and in relation to crime, women’s roles as deviants and victims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Tahoma"/>
              </a:rPr>
              <a:t>Deviance; a Refresher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– for Becker (’63), ‘The deviant is one to whom that label has been successfu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pplied; deviant behaviour is behaviou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at people so label.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As Feminists began to raise issu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reviously ignored by ‘malestream’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ciology, so studies began to emerge of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he experiences of the ‘other  half’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opulat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irlGang1"/>
          <p:cNvPicPr/>
          <p:nvPr/>
        </p:nvPicPr>
        <p:blipFill>
          <a:blip r:embed="rId1"/>
          <a:stretch/>
        </p:blipFill>
        <p:spPr>
          <a:xfrm>
            <a:off x="5724360" y="3500280"/>
            <a:ext cx="32720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, early Criminologists had, if they ventured to consider female criminality and deviance at all, slipped into ‘common sense, ‘natural' explanations of such behavi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ne of the most pervasive myths relating to female crime (is) that female delinquency is predominantly sexual delinquency.’ (Omodei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example, ‘Witch-hunting was the most public form of social control ever devised…’ (Larner, ’8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decades into the 2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century doc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uld continue to view menstruatio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gnancy and menopause as physic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ease and intellectual liabilitie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Ehrenreich and English, ’79), and perhap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tisfactory explanations for female crimina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rimesByWomen002-1"/>
          <p:cNvPicPr/>
          <p:nvPr/>
        </p:nvPicPr>
        <p:blipFill>
          <a:blip r:embed="rId1"/>
          <a:stretch/>
        </p:blipFill>
        <p:spPr>
          <a:xfrm>
            <a:off x="6799320" y="3573360"/>
            <a:ext cx="2192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ven when Criminologists did divert their gaze to women, they regressed into biological explanations for deviant behaviou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ombroso regarded prostitution as an equivalent to normal crime in men,’ (Heidensohn, ’96), ‘…a key symptom of the ‘unadjusted’ girl.’ (Thomas, ’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f only they would be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nice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girls – marry, settle down, give birth to and raise their children – then such behaviour would vanish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Lombroso and Ferrero (1895), ‘…the female criminal is a monster – her wickedness must have been enormous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other words, such criminality reflects a failed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biology,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a sign for Lombroso of ‘evil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lombroso"/>
          <p:cNvPicPr/>
          <p:nvPr/>
        </p:nvPicPr>
        <p:blipFill>
          <a:blip r:embed="rId1"/>
          <a:stretch/>
        </p:blipFill>
        <p:spPr>
          <a:xfrm>
            <a:off x="6300720" y="4724280"/>
            <a:ext cx="230508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wicked"/>
          <p:cNvPicPr/>
          <p:nvPr/>
        </p:nvPicPr>
        <p:blipFill>
          <a:blip r:embed="rId2"/>
          <a:stretch/>
        </p:blipFill>
        <p:spPr>
          <a:xfrm>
            <a:off x="4572000" y="4724280"/>
            <a:ext cx="13064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e problem was that Criminology, as with all academic disciplines, was a male-dominated sphere. Men regarded the world through a very narrow lens, and the experiences of women rarely provoked serious interes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therto female crime has, for all practical purposes, been dealt with almost exclusively by men in their various capacities as legislators, judges, policemen…this could not fail to create a one-sided picture.’ (Mannheim, ’65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instance, there is a long literary heritage of the ‘poet outlaw,’ the ‘gun-slinging novelist’ or bluesman. Where are the female equivalents? Such behaviour appears to be the province of male artists al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BD003~On-The-Road-by-Jack-Kerouac-Posters"/>
          <p:cNvPicPr/>
          <p:nvPr/>
        </p:nvPicPr>
        <p:blipFill>
          <a:blip r:embed="rId1"/>
          <a:stretch/>
        </p:blipFill>
        <p:spPr>
          <a:xfrm>
            <a:off x="7740720" y="40464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8591~Charles-Bukowski-Posters"/>
          <p:cNvPicPr/>
          <p:nvPr/>
        </p:nvPicPr>
        <p:blipFill>
          <a:blip r:embed="rId2"/>
          <a:stretch/>
        </p:blipFill>
        <p:spPr>
          <a:xfrm>
            <a:off x="5508720" y="836640"/>
            <a:ext cx="20811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nd finally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abelling’ theory, derived from Social Action sociology, did perceive that ‘it is true in many respects that men make the rules for women in society.’ (Becker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The Outsiders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, ’6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owever for Leonard (’82), though ‘…labelling might have begun a thorough analysis of women and crime…once again this analysis was not forthcoming.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or Cohen (’80), ‘The absence of girls from the whole of the literature in this area is quite striking, and demands explanation.’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 studying subcultures of gang membership, women again were all but igno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gangC"/>
          <p:cNvPicPr/>
          <p:nvPr/>
        </p:nvPicPr>
        <p:blipFill>
          <a:blip r:embed="rId1"/>
          <a:stretch/>
        </p:blipFill>
        <p:spPr>
          <a:xfrm>
            <a:off x="6372360" y="189000"/>
            <a:ext cx="172872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emale Crimin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o, it required Feminist Criminologists to enter the fray before academic literature on the subject began to appe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reviously, female criminality had been dismissed as the province of ‘fallen’ wom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hankfully, such research is now widely available, offering students of the discipline the opportunity to explore previously uncharted wat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Woman have successfully insisted on being taken seriously as a suitable subject for enquiry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goldberg_200W"/>
          <p:cNvPicPr/>
          <p:nvPr/>
        </p:nvPicPr>
        <p:blipFill>
          <a:blip r:embed="rId1"/>
          <a:stretch/>
        </p:blipFill>
        <p:spPr>
          <a:xfrm>
            <a:off x="3851280" y="436572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4247"/>
          <p:cNvPicPr/>
          <p:nvPr/>
        </p:nvPicPr>
        <p:blipFill>
          <a:blip r:embed="rId2"/>
          <a:stretch/>
        </p:blipFill>
        <p:spPr>
          <a:xfrm>
            <a:off x="6012000" y="436572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nuts_about_women"/>
          <p:cNvPicPr/>
          <p:nvPr/>
        </p:nvPicPr>
        <p:blipFill>
          <a:blip r:embed="rId3"/>
          <a:stretch/>
        </p:blipFill>
        <p:spPr>
          <a:xfrm>
            <a:off x="179280" y="4869000"/>
            <a:ext cx="3346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03:19Z</dcterms:created>
  <dc:creator>mikecowley</dc:creator>
  <dc:description/>
  <dc:language>en-US</dc:language>
  <cp:lastModifiedBy>RomaK</cp:lastModifiedBy>
  <dcterms:modified xsi:type="dcterms:W3CDTF">2015-09-02T09:53:05Z</dcterms:modified>
  <cp:revision>7</cp:revision>
  <dc:subject/>
  <dc:title>Criminology – Female Criminality</dc:title>
</cp:coreProperties>
</file>