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5C31-F2AD-42E0-98EC-4AE87185A7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minology – 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the intervention of Feminism,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concentrated on male experienc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research was then generalised to the whole popul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as like reproduction were ignor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inology – 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tervention of Feminism,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concentrated on male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search was then generalised to the whol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 like reproduction were igno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Heidensohn (’96), ‘Criminology…has almost nothing to say of interest or importance about women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iance; a Refresher – for Becker (’63), ‘The deviant is one to whom that label has been successful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ed; deviant behaviour is behaviou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people so label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Feminists began to raise issu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iously ignored by ‘malestream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ology, so studies began to emerg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xperiences of the ‘other  half’ of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ul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Heidensohn (’96), ‘Criminology…has almost nothing to say of interest or importance about women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ance; a Refresher – for Becker (’63), ‘The deviant is one to whom that label has been success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; deviant behaviour is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people so label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eminists began to raise iss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ly ignored by ‘malestream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, so studies began to emerg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ences of the ‘other  half’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of the most pervasive myths relating to female crime (is) that female delinquency is predominantly sexual delinquency.’ (Omodei, ’8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xample, ‘Witch-hunting was the most public form of social control ever devised…’ (Larner, ’8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decades into the 20th century do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uld continue to view menstruation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gnancy and menopause as physic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intellectual liabilitie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hrenreich and English, ’79), and perhap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isfactory explanations for female criminal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pervasive myths relating to female crime (is) that female delinquency is predominantly sexual delinquency.’ (Omodei, ’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‘Witch-hunting was the most public form of social control ever devised…’ (Larner, ’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decades into the 20th century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continue to view menstru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 and menopause as phy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intellectual liabilitie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hrenreich and English, ’79), and perhap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actory explanations for female crimi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 when Criminologists did divert their gaze to women, they regressed into biological explanations for deviant behaviours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only they would be nice girls – marry, settle down, give birth to and raise their children – then such behaviour would vanish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Lombroso and Ferrero (1895), ‘…the female criminal is a monster – her wickedness must have been enormou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other words, such criminality reflects a failed biology, a sign for Lombroso of ‘evil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Criminologists did divert their gaze to women, they regressed into biological explanations for deviant behaviou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they would be nice girls – marry, settle down, give birth to and raise their children – then such behaviour would vanis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ombroso and Ferrero (1895), ‘…the female criminal is a monster – her wickedness must have been enormou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such criminality reflects a failed biology, a sign for Lombroso of ‘evil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finally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ling’ theory, derived from Social Action sociology, did perceive that ‘it is true in many respects that men make the rules for women in society.’ (Becker, The Outsiders, ’6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 for Leonard (’82), though ‘…labelling might have begun a thorough analysis of women and crime…once again this analysis was not forthcoming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Cohen (’80), ‘The absence of girls from the whole of the literature in this area is quite striking, and demands explanation.’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tudying subcultures of gang membership, women again were all but ignor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ling’ theory, derived from Social Action sociology, did perceive that ‘it is true in many respects that men make the rules for women in society.’ (Becker, The Outsiders, ’6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Leonard (’82), though ‘…labelling might have begun a thorough analysis of women and crime…once again this analysis was not forthcoming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ohen (’80), ‘The absence of girls from the whole of the literature in this area is quite striking, and demands explanation.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tudying subcultures of gang membership, women again were all but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it required Feminist Criminologists to enter the fray before academic literature on the subject began to appea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iously, female criminality had been dismissed as the province of ‘fallen’ wom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fully, such research is now widely available, offering students of the discipline the opportunity to explore previously uncharted wat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man have successfully insisted on being taken seriously as a suitable subject for enqui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t required Feminist Criminologists to enter the fray before academic literature on the subject began to app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ly, female criminality had been dismissed as the province of ‘fallen’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fully, such research is now widely available, offering students of the discipline the opportunity to explore previously uncharted wa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an have successfully insisted on being taken seriously as a suitable subject for enqui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C329-C522-4900-B1AB-3BF46124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4CC1-CA0A-4517-B305-E0BB1C8A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CD3-19BF-46DE-A167-9D5AE3FA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2828-FEF1-4232-928A-4E3518D9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BC52C-13E1-4D71-A530-6459AF9C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AFD21-1AB2-4B54-A995-768170CF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F0CD8-87BE-4AF0-AAE8-68C27B9D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7647C-51BA-4629-BAF5-C5050FAC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4A6FF-8815-4554-AC0D-2D84A013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A6EBC-E344-4BEE-8BFA-0B7BD6F5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100A0-0976-4E9B-9608-22C6C4CC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B8FC-A9AE-404E-AAD9-71C2EEDC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409DE-DE58-4C3A-B663-5AA42378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DEBD0-944A-451D-898C-C018853B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6557E-25FD-48A9-AB43-983EC95A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FDD23-3492-4ED0-8CFF-0CE1B5B8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36F1F-09A9-463E-A1A9-5AF2B093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7735-7E99-4388-9AB4-932CF532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B5D-E72D-43F6-A0FB-5E9E5959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69D-F8C5-46AE-BF13-5558AA60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40DE-BBA4-4E2C-9FC9-D2874C07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ECD0-2864-4696-9D95-B4786AFF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9243-BF6B-4C68-B6AA-E4083EF3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A73-E631-4E59-9226-4649165E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EBF6-B9A9-43AB-A1D9-615D7FE686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E3D5-36A0-4A72-A00A-7F10DBB3D06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riminology – 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8000" y="2205000"/>
            <a:ext cx="6192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Before the intervention of Feminism, th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esearch concentrated on male experien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is research was then generalised to the whole populati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reas like reproduction were ignor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girlg"/>
          <p:cNvPicPr/>
          <p:nvPr/>
        </p:nvPicPr>
        <p:blipFill>
          <a:blip r:embed="rId1"/>
          <a:stretch/>
        </p:blipFill>
        <p:spPr>
          <a:xfrm>
            <a:off x="6300720" y="2276640"/>
            <a:ext cx="2511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or Heidensohn (’96), ‘Criminology…has almost nothing to say of interest or importance about women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ahoma"/>
              </a:rPr>
              <a:t>Deviance; a Refresher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– for Becker (’63), ‘The deviant is one to whom that label has been successful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pplied; deviant behaviour is behaviou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at people so label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s Feminists began to raise issu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reviously ignored by ‘malestream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ciology, so studies began to emerge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e experiences of the ‘other  half’ of th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opulati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GirlGang1"/>
          <p:cNvPicPr/>
          <p:nvPr/>
        </p:nvPicPr>
        <p:blipFill>
          <a:blip r:embed="rId1"/>
          <a:stretch/>
        </p:blipFill>
        <p:spPr>
          <a:xfrm>
            <a:off x="5724360" y="3500280"/>
            <a:ext cx="32720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One of the most pervasive myths relating to female crime (is) that female delinquency is predominantly sexual delinquency.’ (Omodei, ’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example, ‘Witch-hunting was the most public form of social control ever devised…’ (Larner, ’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decades into the 20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century doc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would continue to view menstruation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regnancy and menopause as physic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ease and intellectual liabilitie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Ehrenreich and English, ’79), and perhap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atisfactory explanations for female criminal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rimesByWomen002-1"/>
          <p:cNvPicPr/>
          <p:nvPr/>
        </p:nvPicPr>
        <p:blipFill>
          <a:blip r:embed="rId1"/>
          <a:stretch/>
        </p:blipFill>
        <p:spPr>
          <a:xfrm>
            <a:off x="6799320" y="3573360"/>
            <a:ext cx="2192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ven when Criminologists did divert their gaze to women, they regressed into biological explanations for deviant behaviour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f only they would be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nice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girls – marry, settle down, give birth to and raise their children – then such behaviour would vanish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Lombroso and Ferrero (1895), ‘…the female criminal is a monster – her wickedness must have been enormou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 other words, such criminality reflects a failed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biology,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a sign for Lombroso of ‘evil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lombroso"/>
          <p:cNvPicPr/>
          <p:nvPr/>
        </p:nvPicPr>
        <p:blipFill>
          <a:blip r:embed="rId1"/>
          <a:stretch/>
        </p:blipFill>
        <p:spPr>
          <a:xfrm>
            <a:off x="6300720" y="4724280"/>
            <a:ext cx="2305080" cy="194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wicked"/>
          <p:cNvPicPr/>
          <p:nvPr/>
        </p:nvPicPr>
        <p:blipFill>
          <a:blip r:embed="rId2"/>
          <a:stretch/>
        </p:blipFill>
        <p:spPr>
          <a:xfrm>
            <a:off x="4572000" y="4724280"/>
            <a:ext cx="13064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BD003~On-The-Road-by-Jack-Kerouac-Posters"/>
          <p:cNvPicPr/>
          <p:nvPr/>
        </p:nvPicPr>
        <p:blipFill>
          <a:blip r:embed="rId1"/>
          <a:stretch/>
        </p:blipFill>
        <p:spPr>
          <a:xfrm>
            <a:off x="7740720" y="404640"/>
            <a:ext cx="1306440" cy="1855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8591~Charles-Bukowski-Posters"/>
          <p:cNvPicPr/>
          <p:nvPr/>
        </p:nvPicPr>
        <p:blipFill>
          <a:blip r:embed="rId2"/>
          <a:stretch/>
        </p:blipFill>
        <p:spPr>
          <a:xfrm>
            <a:off x="5508720" y="836640"/>
            <a:ext cx="20811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nd finally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abelling’ theory, derived from Social Action sociology, did perceive that ‘it is true in many respects that men make the rules for women in society.’ (Becker,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The Outsider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, ’6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owever for Leonard (’82), though ‘…labelling might have begun a thorough analysis of women and crime…once again this analysis was not forthcoming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Cohen (’80), ‘The absence of girls from the whole of the literature in this area is quite striking, and demands explanation.’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 studying subcultures of gang membership, women again were all but ignor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gangC"/>
          <p:cNvPicPr/>
          <p:nvPr/>
        </p:nvPicPr>
        <p:blipFill>
          <a:blip r:embed="rId1"/>
          <a:stretch/>
        </p:blipFill>
        <p:spPr>
          <a:xfrm>
            <a:off x="6372360" y="189000"/>
            <a:ext cx="172872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o, it required Feminist Criminologists to enter the fray before academic literature on the subject began to appea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reviously, female criminality had been dismissed as the province of ‘fallen’ wom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ankfully, such research is now widely available, offering students of the discipline the opportunity to explore previously uncharted water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Woman have successfully insisted on being taken seriously as a suitable subject for enquiry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goldberg_200W"/>
          <p:cNvPicPr/>
          <p:nvPr/>
        </p:nvPicPr>
        <p:blipFill>
          <a:blip r:embed="rId1"/>
          <a:stretch/>
        </p:blipFill>
        <p:spPr>
          <a:xfrm>
            <a:off x="3851280" y="4365720"/>
            <a:ext cx="1905120" cy="2314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4247"/>
          <p:cNvPicPr/>
          <p:nvPr/>
        </p:nvPicPr>
        <p:blipFill>
          <a:blip r:embed="rId2"/>
          <a:stretch/>
        </p:blipFill>
        <p:spPr>
          <a:xfrm>
            <a:off x="6012000" y="436572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nuts_about_women"/>
          <p:cNvPicPr/>
          <p:nvPr/>
        </p:nvPicPr>
        <p:blipFill>
          <a:blip r:embed="rId3"/>
          <a:stretch/>
        </p:blipFill>
        <p:spPr>
          <a:xfrm>
            <a:off x="179280" y="4869000"/>
            <a:ext cx="33465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1:03:19Z</dcterms:created>
  <dc:creator>mikecowley</dc:creator>
  <dc:description/>
  <dc:language>en-US</dc:language>
  <cp:lastModifiedBy>RomaK</cp:lastModifiedBy>
  <dcterms:modified xsi:type="dcterms:W3CDTF">2015-09-02T09:53:05Z</dcterms:modified>
  <cp:revision>7</cp:revision>
  <dc:subject/>
  <dc:title>Criminology – Female Criminality</dc:title>
</cp:coreProperties>
</file>