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670675" cy="9777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670800" cy="977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778200" y="0"/>
            <a:ext cx="28893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891720" y="733320"/>
            <a:ext cx="4884840" cy="366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9284760"/>
            <a:ext cx="288936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778200" y="9284760"/>
            <a:ext cx="288936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1BDBA-EC14-478C-8248-DFCB884F457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riminology – Female Criminalit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efore the intervention of Feminism, the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sciplines of Criminology and Sociology tended to view women as ‘invisible’ other than in the category of ‘mothers.’ An awful lot of Sociology simply didn’t talk about women at all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search concentrated on male experience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research was then generalised to the whole population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reas like reproduction were ignored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minology – Female Crimin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fore the intervention of Feminism,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iplines of Criminology and Sociology tended to view women as ‘invisible’ other than in the category of ‘mothers.’ An awful lot of Sociology simply didn’t talk about women at al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earch concentrated on male experien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research was then generalised to the whole popula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s like reproduction were ignor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emale Criminalit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or Heidensohn (’96), ‘Criminology…has almost nothing to say of interest or importance about women.’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rise of modern Feminism brought about a reappraisal of women’s roles in society as a whole, and in relation to crime, women’s roles as deviants and victims.’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viance; a Refresher – for Becker (’63), ‘The deviant is one to whom that label has been successfull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pplied; deviant behaviour is behaviou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at people so label.’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s Feminists began to raise issues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eviously ignored by ‘malestream’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ciology, so studies began to emerge of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experiences of the ‘other  half’ of the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pulation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male Crimin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Heidensohn (’96), ‘Criminology…has almost nothing to say of interest or importance about women.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ise of modern Feminism brought about a reappraisal of women’s roles in society as a whole, and in relation to crime, women’s roles as deviants and victims.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ance; a Refresher – for Becker (’63), ‘The deviant is one to whom that label has been successfu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; deviant behaviour is behavio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t people so label.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Feminists began to raise issu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viously ignored by ‘malestream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iology, so studies began to emerge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xperiences of the ‘other  half’ of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pula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emale Criminalit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ever, early Criminologists had, if they ventured to consider female criminality and deviance at all, slipped into ‘common sense, ‘natural' explanations of such behaviour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ne of the most pervasive myths relating to female crime (is) that female delinquency is predominantly sexual delinquency.’ (Omodei, ’81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or example, ‘Witch-hunting was the most public form of social control ever devised…’ (Larner, ’81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or decades into the 20th century doctor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ould continue to view menstruation,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egnancy and menopause as physical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sease and intellectual liabilities.’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Ehrenreich and English, ’79), and perhaps,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atisfactory explanations for female criminality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male Crimin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ever, early Criminologists had, if they ventured to consider female criminality and deviance at all, slipped into ‘common sense, ‘natural' explanations of such behaviour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of the most pervasive myths relating to female crime (is) that female delinquency is predominantly sexual delinquency.’ (Omodei, ’8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xample, ‘Witch-hunting was the most public form of social control ever devised…’ (Larner, ’8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decades into the 20th century do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uld continue to view menstruation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gnancy and menopause as phys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ease and intellectual liabilities.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hrenreich and English, ’79), and perhaps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tisfactory explanations for female crimi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emale Criminalit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ven when Criminologists did divert their gaze to women, they regressed into biological explanations for deviant behaviours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mbroso regarded prostitution as an equivalent to normal crime in men,’ (Heidensohn, ’96), ‘…a key symptom of the ‘unadjusted’ girl.’ (Thomas, ’23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f only they would be nice girls – marry, settle down, give birth to and raise their children – then such behaviour would vanish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or Lombroso and Ferrero (1895), ‘…the female criminal is a monster – her wickedness must have been enormous.’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 other words, such criminality reflects a failed biology, a sign for Lombroso of ‘evil.’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male Crimin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n when Criminologists did divert their gaze to women, they regressed into biological explanations for deviant behaviours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mbroso regarded prostitution as an equivalent to normal crime in men,’ (Heidensohn, ’96), ‘…a key symptom of the ‘unadjusted’ girl.’ (Thomas, ’2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only they would be nice girls – marry, settle down, give birth to and raise their children – then such behaviour would vanish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Lombroso and Ferrero (1895), ‘…the female criminal is a monster – her wickedness must have been enormous.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other words, such criminality reflects a failed biology, a sign for Lombroso of ‘evil.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emale Criminalit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problem was that Criminology, as with all academic disciplines, was a male-dominated sphere. Men regarded the world through a very narrow lens, and the experiences of women rarely provoked serious interest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itherto female crime has, for all practical purposes, been dealt with almost exclusively by men in their various capacities as legislators, judges, policemen…this could not fail to create a one-sided picture.’ (Mannheim, ’65)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or instance, there is a long literary heritage of the ‘poet outlaw,’ the ‘gun-slinging novelist’ or bluesman. Where are the female equivalents? Such behaviour appears to be the province of male artists alone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male Crimin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blem was that Criminology, as with all academic disciplines, was a male-dominated sphere. Men regarded the world through a very narrow lens, and the experiences of women rarely provoked serious interes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therto female crime has, for all practical purposes, been dealt with almost exclusively by men in their various capacities as legislators, judges, policemen…this could not fail to create a one-sided picture.’ (Mannheim, ’65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instance, there is a long literary heritage of the ‘poet outlaw,’ the ‘gun-slinging novelist’ or bluesman. Where are the female equivalents? Such behaviour appears to be the province of male artists alon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emale Criminalit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d finally…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abelling’ theory, derived from Social Action sociology, did perceive that ‘it is true in many respects that men make the rules for women in society.’ (Becker, The Outsiders, ’63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ever for Leonard (’82), though ‘…labelling might have begun a thorough analysis of women and crime…once again this analysis was not forthcoming.’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or Cohen (’80), ‘The absence of girls from the whole of the literature in this area is quite striking, and demands explanation.’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 studying subcultures of gang membership, women again were all but ignored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male Crimin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finally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elling’ theory, derived from Social Action sociology, did perceive that ‘it is true in many respects that men make the rules for women in society.’ (Becker, The Outsiders, ’6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ever for Leonard (’82), though ‘…labelling might have begun a thorough analysis of women and crime…once again this analysis was not forthcoming.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Cohen (’80), ‘The absence of girls from the whole of the literature in this area is quite striking, and demands explanation.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studying subcultures of gang membership, women again were all but ignor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emale Criminalit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, it required Feminist Criminologists to enter the fray before academic literature on the subject began to appear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eviously, female criminality had been dismissed as the province of ‘fallen’ women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ankfully, such research is now widely available, offering students of the discipline the opportunity to explore previously uncharted waters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oman have successfully insisted on being taken seriously as a suitable subject for enquiry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male Crimin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, it required Feminist Criminologists to enter the fray before academic literature on the subject began to appea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viously, female criminality had been dismissed as the province of ‘fallen’ wome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nkfully, such research is now widely available, offering students of the discipline the opportunity to explore previously uncharted wate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man have successfully insisted on being taken seriously as a suitable subject for enquir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132D1-2002-49EA-8838-46036BFEE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67B5B-F81A-496A-892A-50D360EC7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8F738-0F95-433E-ACCC-618B6A7D6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05731-858B-43D2-8B2E-5392E90C0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9A5949-3691-4FDC-8ED0-E614126F7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CA3950-2CB6-4F32-A624-481056B4F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D5DDA8-5411-4A54-8D4B-C4B143B5C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C1338C-3C88-40D0-BA77-52D2EE86E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F54B0B-D585-4DC5-892E-8C3D26D23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CEE65A-842B-4E37-AB3F-9BDD8854A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E514DE-70B9-4381-B343-C6FD6980D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DB3BA-5AFA-4FD4-9C11-21C6AC45B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6719E5-FD0F-491A-BA95-6F99C97D4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CD45CA-DAAA-4664-A265-D32132DBF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8539A7-3BFA-47F8-A93F-27FE6EA21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E6E0C0-8F64-4EB6-9AEF-A0A350344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B917FE-4F98-43BA-B328-DA302891B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B8784-78C3-4731-857A-D68651D1D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B2B0F-BF98-427E-AE21-A9C3AC821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EADEA-59E4-4CF9-9576-42CB0C59F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91970-D081-4413-BF25-46DF1F7C2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7E5D6-BE5E-4A0D-BC11-A0C969DC0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3DAA9-2655-4ED2-9943-CADBA4E3F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D9172-2EC3-458D-81D3-EED8555F1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B6367-6F30-4519-8724-9DF40C6061D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9545B-403D-4E91-912D-DE3C2BDEDA69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Tahoma"/>
              </a:rPr>
              <a:t>Criminology – Female Criminality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08000" y="2205000"/>
            <a:ext cx="619272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Before the intervention of Feminism, the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disciplines of Criminology and Sociology tended to view women as ‘invisible’ other than in the category of ‘mothers.’ An awful lot of Sociology simply didn’t talk about women at all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Research concentrated on male experienc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This research was then generalised to the whole population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Areas like reproduction were ignored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Picture 4" descr="girlg"/>
          <p:cNvPicPr/>
          <p:nvPr/>
        </p:nvPicPr>
        <p:blipFill>
          <a:blip r:embed="rId1"/>
          <a:stretch/>
        </p:blipFill>
        <p:spPr>
          <a:xfrm>
            <a:off x="6300720" y="2276640"/>
            <a:ext cx="251136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Tahoma"/>
              </a:rPr>
              <a:t>Female Criminality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For Heidensohn (’96), ‘Criminology…has almost nothing to say of interest or importance about women.’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‘</a:t>
            </a: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The rise of modern Feminism brought about a reappraisal of women’s roles in society as a whole, and in relation to crime, women’s roles as deviants and victims.’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fffff"/>
                </a:solidFill>
                <a:latin typeface="Tahoma"/>
              </a:rPr>
              <a:t>Deviance; a Refresher</a:t>
            </a: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 – for Becker (’63), ‘The deviant is one to whom that label has been successfull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applied; deviant behaviour is behaviou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that people so label.’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 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As Feminists began to raise issues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previously ignored by ‘malestream’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Sociology, so studies began to emerge of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the experiences of the ‘other  half’ of the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population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Picture 4" descr="GirlGang1"/>
          <p:cNvPicPr/>
          <p:nvPr/>
        </p:nvPicPr>
        <p:blipFill>
          <a:blip r:embed="rId1"/>
          <a:stretch/>
        </p:blipFill>
        <p:spPr>
          <a:xfrm>
            <a:off x="5724360" y="3500280"/>
            <a:ext cx="3272040" cy="30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Tahoma"/>
              </a:rPr>
              <a:t>Female Criminality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However, early Criminologists had, if they ventured to consider female criminality and deviance at all, slipped into ‘common sense, ‘natural' explanations of such behaviour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‘</a:t>
            </a: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One of the most pervasive myths relating to female crime (is) that female delinquency is predominantly sexual delinquency.’ (Omodei, ’81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For example, ‘Witch-hunting was the most public form of social control ever devised…’ (Larner, ’81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‘</a:t>
            </a: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For decades into the 20</a:t>
            </a:r>
            <a:r>
              <a:rPr b="1" lang="en-GB" sz="20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 century doctor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would continue to view menstruation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pregnancy and menopause as physic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disease and intellectual liabilities.’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(Ehrenreich and English, ’79), and perhaps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satisfactory explanations for female criminality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Picture 4" descr="CrimesByWomen002-1"/>
          <p:cNvPicPr/>
          <p:nvPr/>
        </p:nvPicPr>
        <p:blipFill>
          <a:blip r:embed="rId1"/>
          <a:stretch/>
        </p:blipFill>
        <p:spPr>
          <a:xfrm>
            <a:off x="6799320" y="3573360"/>
            <a:ext cx="219240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95280" y="-1717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Tahoma"/>
              </a:rPr>
              <a:t>Female Criminality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95280" y="105264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Even when Criminologists did divert their gaze to women, they regressed into biological explanations for deviant behaviours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‘</a:t>
            </a: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Lombroso regarded prostitution as an equivalent to normal crime in men,’ (Heidensohn, ’96), ‘…a key symptom of the ‘unadjusted’ girl.’ (Thomas, ’23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If only they would be </a:t>
            </a:r>
            <a:r>
              <a:rPr b="1" i="1" lang="en-GB" sz="2000" spc="-1" strike="noStrike">
                <a:solidFill>
                  <a:srgbClr val="ffffff"/>
                </a:solidFill>
                <a:latin typeface="Tahoma"/>
              </a:rPr>
              <a:t>nice</a:t>
            </a: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 girls – marry, settle down, give birth to and raise their children – then such behaviour would vanish!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For Lombroso and Ferrero (1895), ‘…the female criminal is a monster – her wickedness must have been enormous.’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In other words, such criminality reflects a failed </a:t>
            </a:r>
            <a:r>
              <a:rPr b="1" i="1" lang="en-GB" sz="2000" spc="-1" strike="noStrike">
                <a:solidFill>
                  <a:srgbClr val="ffffff"/>
                </a:solidFill>
                <a:latin typeface="Tahoma"/>
              </a:rPr>
              <a:t>biology,</a:t>
            </a: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 a sign for Lombroso of ‘evil.’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Picture 4" descr="lombroso"/>
          <p:cNvPicPr/>
          <p:nvPr/>
        </p:nvPicPr>
        <p:blipFill>
          <a:blip r:embed="rId1"/>
          <a:stretch/>
        </p:blipFill>
        <p:spPr>
          <a:xfrm>
            <a:off x="6300720" y="4724280"/>
            <a:ext cx="2305080" cy="19447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wicked"/>
          <p:cNvPicPr/>
          <p:nvPr/>
        </p:nvPicPr>
        <p:blipFill>
          <a:blip r:embed="rId2"/>
          <a:stretch/>
        </p:blipFill>
        <p:spPr>
          <a:xfrm>
            <a:off x="4572000" y="4724280"/>
            <a:ext cx="1306440" cy="20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Tahoma"/>
              </a:rPr>
              <a:t>Female Criminality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68360" y="234936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The problem was that Criminology, as with all academic disciplines, was a male-dominated sphere. Men regarded the world through a very narrow lens, and the experiences of women rarely provoked serious interest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‘</a:t>
            </a: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Hitherto female crime has, for all practical purposes, been dealt with almost exclusively by men in their various capacities as legislators, judges, policemen…this could not fail to create a one-sided picture.’ (Mannheim, ’65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For instance, there is a long literary heritage of the ‘poet outlaw,’ the ‘gun-slinging novelist’ or bluesman. Where are the female equivalents? Such behaviour appears to be the province of male artists alone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Picture 5" descr="BD003~On-The-Road-by-Jack-Kerouac-Posters"/>
          <p:cNvPicPr/>
          <p:nvPr/>
        </p:nvPicPr>
        <p:blipFill>
          <a:blip r:embed="rId1"/>
          <a:stretch/>
        </p:blipFill>
        <p:spPr>
          <a:xfrm>
            <a:off x="7740720" y="404640"/>
            <a:ext cx="1306440" cy="1855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" descr="8591~Charles-Bukowski-Posters"/>
          <p:cNvPicPr/>
          <p:nvPr/>
        </p:nvPicPr>
        <p:blipFill>
          <a:blip r:embed="rId2"/>
          <a:stretch/>
        </p:blipFill>
        <p:spPr>
          <a:xfrm>
            <a:off x="5508720" y="836640"/>
            <a:ext cx="2081160" cy="14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Tahoma"/>
              </a:rPr>
              <a:t>Female Criminality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8360" y="234936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And finally…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‘</a:t>
            </a: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Labelling’ theory, derived from Social Action sociology, did perceive that ‘it is true in many respects that men make the rules for women in society.’ (Becker, </a:t>
            </a:r>
            <a:r>
              <a:rPr b="1" i="1" lang="en-GB" sz="2000" spc="-1" strike="noStrike">
                <a:solidFill>
                  <a:srgbClr val="ffffff"/>
                </a:solidFill>
                <a:latin typeface="Tahoma"/>
              </a:rPr>
              <a:t>The Outsiders</a:t>
            </a: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, ’63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However for Leonard (’82), though ‘…labelling might have begun a thorough analysis of women and crime…once again this analysis was not forthcoming.’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For Cohen (’80), ‘The absence of girls from the whole of the literature in this area is quite striking, and demands explanation.’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In studying subcultures of gang membership, women again were all but ignored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9" name="Picture 4" descr="gangC"/>
          <p:cNvPicPr/>
          <p:nvPr/>
        </p:nvPicPr>
        <p:blipFill>
          <a:blip r:embed="rId1"/>
          <a:stretch/>
        </p:blipFill>
        <p:spPr>
          <a:xfrm>
            <a:off x="6372360" y="189000"/>
            <a:ext cx="172872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Tahoma"/>
              </a:rPr>
              <a:t>Female Criminality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95280" y="134136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So, it required Feminist Criminologists to enter the fray before academic literature on the subject began to appear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Previously, female criminality had been dismissed as the province of ‘fallen’ women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Thankfully, such research is now widely available, offering students of the discipline the opportunity to explore previously uncharted waters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Woman have successfully insisted on being taken seriously as a suitable subject for enquiry!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2" name="Picture 5" descr="goldberg_200W"/>
          <p:cNvPicPr/>
          <p:nvPr/>
        </p:nvPicPr>
        <p:blipFill>
          <a:blip r:embed="rId1"/>
          <a:stretch/>
        </p:blipFill>
        <p:spPr>
          <a:xfrm>
            <a:off x="3851280" y="4365720"/>
            <a:ext cx="1905120" cy="23144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6" descr="4247"/>
          <p:cNvPicPr/>
          <p:nvPr/>
        </p:nvPicPr>
        <p:blipFill>
          <a:blip r:embed="rId2"/>
          <a:stretch/>
        </p:blipFill>
        <p:spPr>
          <a:xfrm>
            <a:off x="6012000" y="4365720"/>
            <a:ext cx="2879640" cy="23032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7" descr="nuts_about_women"/>
          <p:cNvPicPr/>
          <p:nvPr/>
        </p:nvPicPr>
        <p:blipFill>
          <a:blip r:embed="rId3"/>
          <a:stretch/>
        </p:blipFill>
        <p:spPr>
          <a:xfrm>
            <a:off x="179280" y="4869000"/>
            <a:ext cx="3346560" cy="184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7T11:03:19Z</dcterms:created>
  <dc:creator>mikecowley</dc:creator>
  <dc:description/>
  <dc:language>en-US</dc:language>
  <cp:lastModifiedBy>RomaK</cp:lastModifiedBy>
  <dcterms:modified xsi:type="dcterms:W3CDTF">2015-09-02T09:53:05Z</dcterms:modified>
  <cp:revision>7</cp:revision>
  <dc:subject/>
  <dc:title>Criminology – Female Criminality</dc:title>
</cp:coreProperties>
</file>