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9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22C4-9B18-481D-AEFD-7D025F8C36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HUMAN SOCIETY 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HUMAN SOCIE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can change. There are many examples of how deviant or criminal acts have become normalised. 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can change. There are many examples of how deviant or criminal acts have become normali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ACTION THEORISTS: DEVIANCE IS SOCIALLY CONSTRUCT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BELLING)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IS CULTURALLY RELATIV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ISTS: DEVIANCE IS SOCIALLY CAUS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UCTURAL INEQUALITIES)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ACTION THEORISTS: DEVIANCE IS SOCIALLY CONSTRU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BELL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IS CULTURALLY 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ISTS: DEVIANCE IS SOCIALLY CA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UCTURAL INEQUALI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S AND RESPONSES TO DEVIANCE HAVE CHANG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STUDY OF DEVIANCE HAS CHANG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S AND RESPONSES TO DEVIANCE HAVE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STUDY OF DEVIANCE HA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DEFINES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CAN BE USED AS A DEVICE FOR SOCIAL CONTROL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SOCIAL NORMS AND LAW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TIMACY GIVEN TO SOME TO CONTROL DEVIANT BEHAVIOUR EG POLI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DEFINES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CAN BE USED AS A DEVICE FOR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SOCIAL NORMS AND L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TIMACY GIVEN TO SOME TO CONTROL DEVIANT BEHAVIOUR EG PO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CLAS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T BEHAVIOUR VIEWED DIFFERENTLY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COLAR CRIME SEEN AS LESS ‘DEVIANT’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UDIES OFTEN FOCUSED ON LOWER-CLASS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T BEHAVIOUR VIEWED DIFF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COLAR CRIME SEEN AS LESS ‘DEVIANT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UDIES OFTEN FOCUSED ON LOWER-CLASS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or devianc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or devi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: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 or failure to act that breaks the law of the land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: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that do not conform to the norms or expectations of members of society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 or failure to act that breaks the law of the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that do not conform to the norms or expectations of members of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roups, carry out the Quiz on Crime and Deviance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clusions can you draw from your discussions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roups, carry out the Quiz on Crime and Devi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clusions can you draw from your discuss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cts can be both deviant and criminal. Can you think of examples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cts can be both deviant and criminal. Can you think of examp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……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 criminal act and a deviant act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 criminal act and a deviant a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, in groups, discuss  worksheet 2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draw any conclusions this tim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….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C - Chewin' the Fat - The Ned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, in groups, discuss  worksheet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draw any conclusions this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C - Chewin' the Fat - The N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rime a choice... or an impulse beyond the criminal’s control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gangs develop in some areas of a city and not in oth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thief learn the tricks of the trad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employees support questionable business practice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s of values are held by drug traffick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 ?  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rime a choice... or an impulse beyond the criminal’s control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gangs develop in some areas of a city and not in oth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thief learn the tricks of the trad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employees support questionable business practice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s of values are held by drug traffick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 ?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lack of economic opportunity lead to criminality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the architecture of shopping malls encourage crim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the drug user become the central target of law enforcement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global economy affect crime in a particular neighbourhood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a murderer feel in the moments before killing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? 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lack of economic opportunity lead to criminality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the architecture of shopping malls encourage crim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the drug user become the central target of law enforcement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global economy affect crime in a particular neighbourhood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a murderer feel in the moments before ki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?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state clearly which activities are criminal……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f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ul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/driving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…….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state clearly which activities are criminal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/dri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B1CF-E40A-4A36-867E-ED8B4A2E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9924-477B-4C3F-A20D-B69841EE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B4A2-DCB5-414E-A821-6153132D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74E4-19A7-4289-AA9C-F396D70C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811F-CF1F-4CCB-8386-0EF4B345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43DA-E994-4604-849A-6CC9FC59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D755-A7A9-426D-B281-3F20B2AF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0F55-4BFF-46B3-BD07-0DC2E7F2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14C6-B749-417F-9A06-09C16D26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1A22-C331-4FE8-AA72-096821E6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AF86-6B09-4933-B2DE-007FC793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A95A-9F6C-41B5-9A0E-389E1922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C5C6-A4BE-45FF-98FA-1C02EB90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CBBB-84E6-4D71-A1BC-BD1CFBFE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6956-AA3B-48AC-8F8F-60E25057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B181-261B-4CC3-BC80-A80D599C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6614-1C9B-4E87-A709-E072A97F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A7FD-B820-40EA-B7F0-C59221AE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D63-BEF0-41A9-A29E-4579B819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2AE7-6631-4DA3-9C93-CC2AA1FC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A94E-5C95-4511-B50E-A02ED62C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812F-EE89-4D02-B3D6-9D2727E5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98BC-1C37-4C1F-A117-5B4BD37E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42F0-907D-4F16-A7A8-4B12FB7B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A2EC-7DD8-49ED-9919-2C7FF1078AE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E7B7-DEEF-43D8-805C-242D004E56E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bc.co.uk/scotland/tv/chewinthefat/ned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DERSTANDING HUMAN SOCIETY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RIME AND DEV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9" descr="bell512"/>
          <p:cNvPicPr/>
          <p:nvPr/>
        </p:nvPicPr>
        <p:blipFill>
          <a:blip r:embed="rId1"/>
          <a:stretch/>
        </p:blipFill>
        <p:spPr>
          <a:xfrm>
            <a:off x="2050920" y="2565360"/>
            <a:ext cx="48769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inal A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aws can change. There are many examples of how deviant or criminal acts have becom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normalis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fox"/>
          <p:cNvPicPr/>
          <p:nvPr/>
        </p:nvPicPr>
        <p:blipFill>
          <a:blip r:embed="rId1"/>
          <a:stretch/>
        </p:blipFill>
        <p:spPr>
          <a:xfrm>
            <a:off x="468360" y="5013360"/>
            <a:ext cx="1996920" cy="1434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annabis"/>
          <p:cNvPicPr/>
          <p:nvPr/>
        </p:nvPicPr>
        <p:blipFill>
          <a:blip r:embed="rId2"/>
          <a:stretch/>
        </p:blipFill>
        <p:spPr>
          <a:xfrm>
            <a:off x="1116000" y="2924280"/>
            <a:ext cx="1428840" cy="150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heroin"/>
          <p:cNvPicPr/>
          <p:nvPr/>
        </p:nvPicPr>
        <p:blipFill>
          <a:blip r:embed="rId3"/>
          <a:stretch/>
        </p:blipFill>
        <p:spPr>
          <a:xfrm>
            <a:off x="3635280" y="2924280"/>
            <a:ext cx="2158920" cy="1595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morphine%20tab2"/>
          <p:cNvPicPr/>
          <p:nvPr/>
        </p:nvPicPr>
        <p:blipFill>
          <a:blip r:embed="rId4"/>
          <a:stretch/>
        </p:blipFill>
        <p:spPr>
          <a:xfrm>
            <a:off x="6659640" y="3068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1853"/>
          <p:cNvPicPr/>
          <p:nvPr/>
        </p:nvPicPr>
        <p:blipFill>
          <a:blip r:embed="rId5"/>
          <a:stretch/>
        </p:blipFill>
        <p:spPr>
          <a:xfrm>
            <a:off x="6156360" y="4797360"/>
            <a:ext cx="2603520" cy="1952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_49654_banner"/>
          <p:cNvPicPr/>
          <p:nvPr/>
        </p:nvPicPr>
        <p:blipFill>
          <a:blip r:embed="rId6"/>
          <a:stretch/>
        </p:blipFill>
        <p:spPr>
          <a:xfrm>
            <a:off x="3059280" y="4797360"/>
            <a:ext cx="2857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WHAT IS DEVIANC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SOCIAL ACTION THEORISTS: DEVIANCE IS SOCIALLY CONSTRU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(LABELL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DEVIANCE IS CULTURALLY REL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ONFLICT THEORISTS: DEVIANCE IS SOCIALLY CAU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(STRUCTURAL INEQUALITI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9" descr="page_1"/>
          <p:cNvPicPr/>
          <p:nvPr/>
        </p:nvPicPr>
        <p:blipFill>
          <a:blip r:embed="rId1"/>
          <a:stretch/>
        </p:blipFill>
        <p:spPr>
          <a:xfrm>
            <a:off x="1042920" y="1197000"/>
            <a:ext cx="32958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HANGES I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PERCEPTIONS AND RESPONSES TO DEVIANCE HAVE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OCIOLOGICAL STUDY OF DEVIANCE HAS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9" descr="gangC"/>
          <p:cNvPicPr/>
          <p:nvPr/>
        </p:nvPicPr>
        <p:blipFill>
          <a:blip r:embed="rId1"/>
          <a:stretch/>
        </p:blipFill>
        <p:spPr>
          <a:xfrm>
            <a:off x="755640" y="1341360"/>
            <a:ext cx="319572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DEVIANCE AND SOCIAL CONTRO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WHO DEFINES DEV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DEVIANCE CAN BE USED AS A DEVICE FOR SOCI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PPLIES TO SOCIAL NORMS AND LA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EGITIMACY GIVEN TO SOME TO CONTROL DEVIANT BEHAVIOUR EG POL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2" descr="clockbig"/>
          <p:cNvPicPr/>
          <p:nvPr/>
        </p:nvPicPr>
        <p:blipFill>
          <a:blip r:embed="rId1"/>
          <a:stretch/>
        </p:blipFill>
        <p:spPr>
          <a:xfrm>
            <a:off x="324000" y="2205000"/>
            <a:ext cx="2027160" cy="345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Video%20-%20Clockwork%20Orange"/>
          <p:cNvPicPr/>
          <p:nvPr/>
        </p:nvPicPr>
        <p:blipFill>
          <a:blip r:embed="rId2"/>
          <a:stretch/>
        </p:blipFill>
        <p:spPr>
          <a:xfrm>
            <a:off x="2700360" y="2565360"/>
            <a:ext cx="1720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DEVIANCE AND CLA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DEVIANT BEHAVIOUR VIEWED DIFFEREN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WHITE COLAR CRIME SEEN AS LESS ‘DEVIAN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INITIAL STUDIES OFTEN FOCUSED ON LOWER-CLASS DEV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6" descr="bourgeoisie"/>
          <p:cNvPicPr/>
          <p:nvPr/>
        </p:nvPicPr>
        <p:blipFill>
          <a:blip r:embed="rId1"/>
          <a:stretch/>
        </p:blipFill>
        <p:spPr>
          <a:xfrm>
            <a:off x="905040" y="1641600"/>
            <a:ext cx="33717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e or devianc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193299422X"/>
          <p:cNvPicPr/>
          <p:nvPr/>
        </p:nvPicPr>
        <p:blipFill>
          <a:blip r:embed="rId1"/>
          <a:stretch/>
        </p:blipFill>
        <p:spPr>
          <a:xfrm>
            <a:off x="4643280" y="2924280"/>
            <a:ext cx="3511800" cy="3511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tabloids"/>
          <p:cNvPicPr/>
          <p:nvPr/>
        </p:nvPicPr>
        <p:blipFill>
          <a:blip r:embed="rId2"/>
          <a:stretch/>
        </p:blipFill>
        <p:spPr>
          <a:xfrm>
            <a:off x="1332000" y="3429000"/>
            <a:ext cx="25686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e and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rim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n act or failure to act that breaks the law of the la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evi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ctions that do not conform to the norms or expectations of members of society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crime"/>
          <p:cNvPicPr/>
          <p:nvPr/>
        </p:nvPicPr>
        <p:blipFill>
          <a:blip r:embed="rId1"/>
          <a:stretch/>
        </p:blipFill>
        <p:spPr>
          <a:xfrm>
            <a:off x="6588000" y="1484280"/>
            <a:ext cx="1706760" cy="222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elton-david"/>
          <p:cNvPicPr/>
          <p:nvPr/>
        </p:nvPicPr>
        <p:blipFill>
          <a:blip r:embed="rId2"/>
          <a:stretch/>
        </p:blipFill>
        <p:spPr>
          <a:xfrm>
            <a:off x="5364000" y="4076640"/>
            <a:ext cx="17132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groups, carry out the Quiz on Crime and Devi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conclusions can you draw from your discuss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9" descr="capital"/>
          <p:cNvPicPr/>
          <p:nvPr/>
        </p:nvPicPr>
        <p:blipFill>
          <a:blip r:embed="rId1"/>
          <a:stretch/>
        </p:blipFill>
        <p:spPr>
          <a:xfrm>
            <a:off x="2124000" y="2781360"/>
            <a:ext cx="2281320" cy="171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9am117"/>
          <p:cNvPicPr/>
          <p:nvPr/>
        </p:nvPicPr>
        <p:blipFill>
          <a:blip r:embed="rId2"/>
          <a:stretch/>
        </p:blipFill>
        <p:spPr>
          <a:xfrm>
            <a:off x="5508720" y="2708280"/>
            <a:ext cx="17715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33cc"/>
                </a:solidFill>
                <a:latin typeface="Times New Roman"/>
              </a:rPr>
              <a:t>CRIME 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ND</a:t>
            </a:r>
            <a:r>
              <a:rPr b="1" lang="en-GB" sz="4400" spc="-1" strike="noStrike">
                <a:solidFill>
                  <a:srgbClr val="ff33cc"/>
                </a:solidFill>
                <a:latin typeface="Times New Roman"/>
              </a:rPr>
              <a:t>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cc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cc"/>
                </a:solidFill>
                <a:latin typeface="Times New Roman"/>
              </a:rPr>
              <a:t>Some acts can be both deviant and criminal. Can you think of exampl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6" descr="drugs2"/>
          <p:cNvPicPr/>
          <p:nvPr/>
        </p:nvPicPr>
        <p:blipFill>
          <a:blip r:embed="rId1"/>
          <a:stretch/>
        </p:blipFill>
        <p:spPr>
          <a:xfrm>
            <a:off x="826920" y="4437000"/>
            <a:ext cx="2028960" cy="2028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homophobia"/>
          <p:cNvPicPr/>
          <p:nvPr/>
        </p:nvPicPr>
        <p:blipFill>
          <a:blip r:embed="rId2"/>
          <a:stretch/>
        </p:blipFill>
        <p:spPr>
          <a:xfrm>
            <a:off x="3924360" y="4869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abortion_rights"/>
          <p:cNvPicPr/>
          <p:nvPr/>
        </p:nvPicPr>
        <p:blipFill>
          <a:blip r:embed="rId3"/>
          <a:stretch/>
        </p:blipFill>
        <p:spPr>
          <a:xfrm>
            <a:off x="6012000" y="4076640"/>
            <a:ext cx="262872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…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s the difference between a criminal act and a deviant a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10" descr="alcohol"/>
          <p:cNvPicPr/>
          <p:nvPr/>
        </p:nvPicPr>
        <p:blipFill>
          <a:blip r:embed="rId1"/>
          <a:stretch/>
        </p:blipFill>
        <p:spPr>
          <a:xfrm>
            <a:off x="6647040" y="3141720"/>
            <a:ext cx="2496960" cy="1846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teen_drink%20lg_tcm5-34759"/>
          <p:cNvPicPr/>
          <p:nvPr/>
        </p:nvPicPr>
        <p:blipFill>
          <a:blip r:embed="rId2"/>
          <a:stretch/>
        </p:blipFill>
        <p:spPr>
          <a:xfrm>
            <a:off x="539640" y="3141720"/>
            <a:ext cx="1905120" cy="153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980623conformity"/>
          <p:cNvPicPr/>
          <p:nvPr/>
        </p:nvPicPr>
        <p:blipFill>
          <a:blip r:embed="rId3"/>
          <a:stretch/>
        </p:blipFill>
        <p:spPr>
          <a:xfrm>
            <a:off x="2771640" y="3141720"/>
            <a:ext cx="352908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w , in groups, discuss  worksheet 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d you draw any conclusions this t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Just think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4568"/>
                </a:solidFill>
                <a:uFillTx/>
                <a:latin typeface="Times New Roman"/>
                <a:hlinkClick r:id="rId1"/>
              </a:rPr>
              <a:t>BBC - Chewin' the Fat - The N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Is crime a choice... or an impulse beyond the criminal’s control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y do gangs develop in some areas of a city and not in others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How does a thief learn the tricks of the trade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y do employees support questionable business practices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at sorts of values are held by drug traffickers?</a:t>
            </a:r>
            <a:br>
              <a:rPr sz="2800"/>
            </a:b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?   ? 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does the lack of economic opportunity lead to criminality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might the architecture of shopping malls encourage crime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Why has the drug user become the central target of law enforcement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does a global economy affect crime in a particular neighbourhood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What does a murderer feel in the moments before ki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Times New Roman"/>
              </a:rPr>
              <a:t>?  ?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inal 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aws state clearly which activities are criminal…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ur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h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ssa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rinking/dri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ru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But………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14:00:17Z</dcterms:created>
  <dc:creator>aileend</dc:creator>
  <dc:description/>
  <dc:language>en-US</dc:language>
  <cp:lastModifiedBy>RomaK</cp:lastModifiedBy>
  <dcterms:modified xsi:type="dcterms:W3CDTF">2015-09-02T09:52:56Z</dcterms:modified>
  <cp:revision>18</cp:revision>
  <dc:subject/>
  <dc:title>UNDERSTANDING HUMAN SOCIETY 1</dc:title>
</cp:coreProperties>
</file>