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790A-F2BA-4BDC-874D-65716801C9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A7A-6565-4311-8730-15381F7A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4BD-D1FB-4199-B767-81B9CC88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BD2-FAAE-4AEA-8915-06802C22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F4A-C541-46AA-96B6-D4A93B7F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5E2D-B074-4F85-BE25-BC5ED913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0C30-79B3-4588-9197-23D99AAE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0D3F-ABA3-420A-8538-17890893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6019-212E-4215-BD89-B11E0629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68DB-DB80-4734-815B-E969FE4F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F9CF-23CC-4008-801B-AD80B9CE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A0B7-F039-4832-95E0-FC4BF05D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CE3-C925-4606-A9F8-97DA9CA0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F984-3F25-4990-9D10-3F03111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1658-DD45-4F00-9042-19EF56E2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7B7A-94DC-43B4-A452-BEE639BB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2E4D-74DB-4495-900C-AE979F39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8297-7605-43D4-B52F-C3592FA7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7D2-7B5F-4F00-AB9B-1FB8908A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64C-5854-4305-8D04-08EE4C26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9B8-9C5B-437A-86CF-BF1014E4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9F6-BC11-4A06-A27E-2148CA98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06C-F635-40B5-9D91-7D061280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179-C83C-4C4C-97AC-EBAE0581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383-A29E-4AEB-9955-60E5AAC2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40E7-67CF-4A22-85BE-E961A3D52C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EBC2-5B56-45B0-8715-8CEF0F8355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scotland/tv/chewinthefat/ne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DERSTANDING HUMAN SOCIET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RIME AND DEV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bell512"/>
          <p:cNvPicPr/>
          <p:nvPr/>
        </p:nvPicPr>
        <p:blipFill>
          <a:blip r:embed="rId1"/>
          <a:stretch/>
        </p:blipFill>
        <p:spPr>
          <a:xfrm>
            <a:off x="2050920" y="256536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ws can change. There are many examples of how deviant or criminal acts have becom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ormali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fox"/>
          <p:cNvPicPr/>
          <p:nvPr/>
        </p:nvPicPr>
        <p:blipFill>
          <a:blip r:embed="rId1"/>
          <a:stretch/>
        </p:blipFill>
        <p:spPr>
          <a:xfrm>
            <a:off x="468360" y="5013360"/>
            <a:ext cx="1996920" cy="143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nnabis"/>
          <p:cNvPicPr/>
          <p:nvPr/>
        </p:nvPicPr>
        <p:blipFill>
          <a:blip r:embed="rId2"/>
          <a:stretch/>
        </p:blipFill>
        <p:spPr>
          <a:xfrm>
            <a:off x="1116000" y="292428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eroin"/>
          <p:cNvPicPr/>
          <p:nvPr/>
        </p:nvPicPr>
        <p:blipFill>
          <a:blip r:embed="rId3"/>
          <a:stretch/>
        </p:blipFill>
        <p:spPr>
          <a:xfrm>
            <a:off x="3635280" y="2924280"/>
            <a:ext cx="2158920" cy="15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rphine%20tab2"/>
          <p:cNvPicPr/>
          <p:nvPr/>
        </p:nvPicPr>
        <p:blipFill>
          <a:blip r:embed="rId4"/>
          <a:stretch/>
        </p:blipFill>
        <p:spPr>
          <a:xfrm>
            <a:off x="6659640" y="306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853"/>
          <p:cNvPicPr/>
          <p:nvPr/>
        </p:nvPicPr>
        <p:blipFill>
          <a:blip r:embed="rId5"/>
          <a:stretch/>
        </p:blipFill>
        <p:spPr>
          <a:xfrm>
            <a:off x="6156360" y="47973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_49654_banner"/>
          <p:cNvPicPr/>
          <p:nvPr/>
        </p:nvPicPr>
        <p:blipFill>
          <a:blip r:embed="rId6"/>
          <a:stretch/>
        </p:blipFill>
        <p:spPr>
          <a:xfrm>
            <a:off x="3059280" y="479736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WHAT IS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OCIAL ACTION THEORISTS: DEVIANCE IS SOCIALLY CONSTRU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LABELL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DEVIANCE IS CULTURALLY REL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NFLICT THEORISTS: DEVIANCE IS SOCIALLY CA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STRUCTURAL INEQUALITI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page_1"/>
          <p:cNvPicPr/>
          <p:nvPr/>
        </p:nvPicPr>
        <p:blipFill>
          <a:blip r:embed="rId1"/>
          <a:stretch/>
        </p:blipFill>
        <p:spPr>
          <a:xfrm>
            <a:off x="1042920" y="1197000"/>
            <a:ext cx="3295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HANGES I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ERCEPTIONS AND RESPONSES TO DEVIANCE HAV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OLOGICAL STUDY OF DEVIANCE HA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gangC"/>
          <p:cNvPicPr/>
          <p:nvPr/>
        </p:nvPicPr>
        <p:blipFill>
          <a:blip r:embed="rId1"/>
          <a:stretch/>
        </p:blipFill>
        <p:spPr>
          <a:xfrm>
            <a:off x="755640" y="1341360"/>
            <a:ext cx="3195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DEVIANCE AND SOCI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O DEFINE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VIANCE CAN BE USED AS A DEVICE FOR SOCI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PLIES TO SOCIAL NORMS AND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CY GIVEN TO SOME TO CONTROL DEVIANT BEHAVIOUR EG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clockbig"/>
          <p:cNvPicPr/>
          <p:nvPr/>
        </p:nvPicPr>
        <p:blipFill>
          <a:blip r:embed="rId1"/>
          <a:stretch/>
        </p:blipFill>
        <p:spPr>
          <a:xfrm>
            <a:off x="324000" y="2205000"/>
            <a:ext cx="202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Video%20-%20Clockwork%20Orange"/>
          <p:cNvPicPr/>
          <p:nvPr/>
        </p:nvPicPr>
        <p:blipFill>
          <a:blip r:embed="rId2"/>
          <a:stretch/>
        </p:blipFill>
        <p:spPr>
          <a:xfrm>
            <a:off x="2700360" y="2565360"/>
            <a:ext cx="1720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DEVIANCE AND C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EVIANT BEHAVIOUR VIEWED DIFFER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WHITE COLAR CRIME SEEN AS LESS ‘DEVIAN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INITIAL STUDIES OFTEN FOCUSED ON LOWER-CLAS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bourgeoisie"/>
          <p:cNvPicPr/>
          <p:nvPr/>
        </p:nvPicPr>
        <p:blipFill>
          <a:blip r:embed="rId1"/>
          <a:stretch/>
        </p:blipFill>
        <p:spPr>
          <a:xfrm>
            <a:off x="905040" y="1641600"/>
            <a:ext cx="3371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or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193299422X"/>
          <p:cNvPicPr/>
          <p:nvPr/>
        </p:nvPicPr>
        <p:blipFill>
          <a:blip r:embed="rId1"/>
          <a:stretch/>
        </p:blipFill>
        <p:spPr>
          <a:xfrm>
            <a:off x="4643280" y="2924280"/>
            <a:ext cx="3511800" cy="351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tabloids"/>
          <p:cNvPicPr/>
          <p:nvPr/>
        </p:nvPicPr>
        <p:blipFill>
          <a:blip r:embed="rId2"/>
          <a:stretch/>
        </p:blipFill>
        <p:spPr>
          <a:xfrm>
            <a:off x="1332000" y="3429000"/>
            <a:ext cx="2568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 act or failure to act that breaks the law o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vi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ctions that do not conform to the norms or expectations of members of socie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rime"/>
          <p:cNvPicPr/>
          <p:nvPr/>
        </p:nvPicPr>
        <p:blipFill>
          <a:blip r:embed="rId1"/>
          <a:stretch/>
        </p:blipFill>
        <p:spPr>
          <a:xfrm>
            <a:off x="6588000" y="1484280"/>
            <a:ext cx="170676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elton-david"/>
          <p:cNvPicPr/>
          <p:nvPr/>
        </p:nvPicPr>
        <p:blipFill>
          <a:blip r:embed="rId2"/>
          <a:stretch/>
        </p:blipFill>
        <p:spPr>
          <a:xfrm>
            <a:off x="5364000" y="4076640"/>
            <a:ext cx="17132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roups, carry out the Quiz on Crime and Devi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conclusions can you draw from your discuss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capital"/>
          <p:cNvPicPr/>
          <p:nvPr/>
        </p:nvPicPr>
        <p:blipFill>
          <a:blip r:embed="rId1"/>
          <a:stretch/>
        </p:blipFill>
        <p:spPr>
          <a:xfrm>
            <a:off x="2124000" y="27813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9am117"/>
          <p:cNvPicPr/>
          <p:nvPr/>
        </p:nvPicPr>
        <p:blipFill>
          <a:blip r:embed="rId2"/>
          <a:stretch/>
        </p:blipFill>
        <p:spPr>
          <a:xfrm>
            <a:off x="5508720" y="2708280"/>
            <a:ext cx="17715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CRIME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Some acts can be both deviant and criminal. Can you think of 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drugs2"/>
          <p:cNvPicPr/>
          <p:nvPr/>
        </p:nvPicPr>
        <p:blipFill>
          <a:blip r:embed="rId1"/>
          <a:stretch/>
        </p:blipFill>
        <p:spPr>
          <a:xfrm>
            <a:off x="826920" y="4437000"/>
            <a:ext cx="202896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omophobia"/>
          <p:cNvPicPr/>
          <p:nvPr/>
        </p:nvPicPr>
        <p:blipFill>
          <a:blip r:embed="rId2"/>
          <a:stretch/>
        </p:blipFill>
        <p:spPr>
          <a:xfrm>
            <a:off x="3924360" y="486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bortion_rights"/>
          <p:cNvPicPr/>
          <p:nvPr/>
        </p:nvPicPr>
        <p:blipFill>
          <a:blip r:embed="rId3"/>
          <a:stretch/>
        </p:blipFill>
        <p:spPr>
          <a:xfrm>
            <a:off x="6012000" y="4076640"/>
            <a:ext cx="262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…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difference between a criminal act and a deviant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alcohol"/>
          <p:cNvPicPr/>
          <p:nvPr/>
        </p:nvPicPr>
        <p:blipFill>
          <a:blip r:embed="rId1"/>
          <a:stretch/>
        </p:blipFill>
        <p:spPr>
          <a:xfrm>
            <a:off x="6647040" y="3141720"/>
            <a:ext cx="2496960" cy="18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teen_drink%20lg_tcm5-34759"/>
          <p:cNvPicPr/>
          <p:nvPr/>
        </p:nvPicPr>
        <p:blipFill>
          <a:blip r:embed="rId2"/>
          <a:stretch/>
        </p:blipFill>
        <p:spPr>
          <a:xfrm>
            <a:off x="539640" y="3141720"/>
            <a:ext cx="1905120" cy="15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980623conformity"/>
          <p:cNvPicPr/>
          <p:nvPr/>
        </p:nvPicPr>
        <p:blipFill>
          <a:blip r:embed="rId3"/>
          <a:stretch/>
        </p:blipFill>
        <p:spPr>
          <a:xfrm>
            <a:off x="2771640" y="3141720"/>
            <a:ext cx="35290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w , in groups, discuss  worksheet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you draw any conclusions this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ust think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BBC - Chewin' the Fat - The N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Is crime a choice... or an impulse beyond the criminal’s control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gangs develop in some areas of a city and not in other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How does a thief learn the tricks of the trade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employees support questionable business practice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at sorts of values are held by drug traffickers?</a:t>
            </a:r>
            <a:br>
              <a:rPr sz="28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?   ? 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the lack of economic opportunity lead to criminality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might the architecture of shopping malls encourage crime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y has the drug user become the central target of law enforcement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a global economy affect crime in a particular neighbourhood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at does a murderer feel in the moments before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? 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ws state clearly which activities are criminal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ssa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inking/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ut……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4:00:17Z</dcterms:created>
  <dc:creator>aileend</dc:creator>
  <dc:description/>
  <dc:language>en-US</dc:language>
  <cp:lastModifiedBy>RomaK</cp:lastModifiedBy>
  <dcterms:modified xsi:type="dcterms:W3CDTF">2015-09-02T09:52:56Z</dcterms:modified>
  <cp:revision>18</cp:revision>
  <dc:subject/>
  <dc:title>UNDERSTANDING HUMAN SOCIETY 1</dc:title>
</cp:coreProperties>
</file>