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F4D9-7116-4AFE-A308-7BA44BE67F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HUMAN SOCIETY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HUMAN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can change. There are many examples of how deviant or criminal acts have become normalised.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can change. There are many examples of how deviant or criminal acts have become norma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ON THEORISTS: DEVIANCE IS SOCIALLY CONSTRUCT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BELLING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IS CULTURALLY RELATIV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ISTS: DEVIANCE IS SOCIALLY CAUS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UCTURAL INEQUALITIES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ON THEORISTS: DEVIANCE IS SOCIALLY CONSTRU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BEL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IS CULTURALLY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ISTS: DEVIANCE IS SOCIALLY CA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UCTURAL INEQUALI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S AND RESPONSES TO DEVIANCE HAVE CHANG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STUDY OF DEVIANCE HAS CHANG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S AND RESPONSES TO DEVIANCE HAVE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STUDY OF DEVIANCE HA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EFINES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CAN BE USED AS A DEVICE FOR SOCIAL CONTROL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SOCIAL NORMS AND LAW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TIMACY GIVEN TO SOME TO CONTROL DEVIANT BEHAVIOUR EG POLI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EFINES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CAN BE USED AS A DEVICE FOR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SOCIAL NORMS AND L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TIMACY GIVEN TO SOME TO CONTROL DEVIANT BEHAVIOUR EG PO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CLAS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T BEHAVIOUR VIEWED DIFFERENTLY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COLAR CRIME SEEN AS LESS ‘DEVIANT’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UDIES OFTEN FOCUSED ON LOWER-CLASS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T BEHAVIOUR VIEWED DIFF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COLAR CRIME SEEN AS LESS ‘DEVIAN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UDIES OFTEN FOCUSED ON LOWER-CLASS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or devianc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or devi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: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 or failure to act that breaks the law of the land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: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that do not conform to the norms or expectations of members of society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 or failure to act that breaks the law of the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that do not conform to the norms or expectations of members of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oups, carry out the Quiz on Crime and Deviance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clusions can you draw from your discussions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oups, carry out the Quiz on Crime and Devi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clusions can you draw from your discuss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cts can be both deviant and criminal. Can you think of examples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cts can be both deviant and criminal. Can you think of examp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……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riminal act and a deviant act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riminal act and a deviant a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, in groups, discuss  worksheet 2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draw any conclusions this tim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….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 - Chewin' the Fat - The Ned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, in groups, discuss  worksheet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draw any conclusions this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 - Chewin' the Fat - The N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rime a choice... or an impulse beyond the criminal’s control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gangs develop in some areas of a city and not in oth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thief learn the tricks of the trad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employees support questionable business practice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s of values are held by drug traffick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 ?  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rime a choice... or an impulse beyond the criminal’s control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gangs develop in some areas of a city and not in oth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thief learn the tricks of the trad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employees support questionable business practice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s of values are held by drug traffick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 ?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ack of economic opportunity lead to criminalit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rchitecture of shopping malls encourage crim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the drug user become the central target of law enforcement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global economy affect crime in a particular neighbourhoo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murderer feel in the moments before killing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? 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ack of economic opportunity lead to criminalit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rchitecture of shopping malls encourage crim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the drug user become the central target of law enforcement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global economy affect crime in a particular neighbourhoo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murderer feel in the moments before ki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?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state clearly which activities are criminal……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/driving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…….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state clearly which activities are criminal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/dr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026-59C3-42A8-B6BE-9CD097CC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2211-A61B-48E5-B7BD-01FA9902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9A9-FD8C-4A0F-A3F2-379DDE2D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7D1-FAB1-4FC0-8A84-F074EB01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1496-6BC5-4A66-8A4E-268BA036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9862-EA56-4456-9201-10C3F66A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81EB-55B2-4364-95D0-5057CD3C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B6E0-88DE-4A62-84AE-659A7CB8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45A1-8FD7-4BD5-85D9-3DFBD103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E943-A02B-4F77-8DF6-DB65C7CD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FB74-8F8E-4956-89AA-9D9FC425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C2C-2AC5-4713-B35A-5CBE0C20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C66A-B047-4701-A88F-98731083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0FE4-1B7D-4C38-9115-0E2C3129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47A8-02EA-4383-971C-1770F018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8225-654E-4F3A-8A2F-3512A81D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5E8A-ECC7-4A78-8BE1-04543F34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C3C7-0187-4AF0-BC2E-BA353D19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E58-A3A0-4B96-814F-1CE2EDFA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3B3E-28D3-420D-B7AA-B3D3EE44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26F-E01E-431C-BCE9-147B4032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EE1-A6CF-4A0F-AF2F-A0F1482D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0AB-0E89-478A-B018-EBE47CC2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BF9-AABB-45DD-A03D-5D9047F5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E0D8-CA92-4E89-8B54-4E238B74149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5E4A-430B-44B7-A39F-C61ADF65C78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scotland/tv/chewinthefat/ned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DERSTANDING HUMAN SOCIETY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RIME AND DEV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bell512"/>
          <p:cNvPicPr/>
          <p:nvPr/>
        </p:nvPicPr>
        <p:blipFill>
          <a:blip r:embed="rId1"/>
          <a:stretch/>
        </p:blipFill>
        <p:spPr>
          <a:xfrm>
            <a:off x="2050920" y="2565360"/>
            <a:ext cx="48769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inal A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ws can change. There are many examples of how deviant or criminal acts have becom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normalis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fox"/>
          <p:cNvPicPr/>
          <p:nvPr/>
        </p:nvPicPr>
        <p:blipFill>
          <a:blip r:embed="rId1"/>
          <a:stretch/>
        </p:blipFill>
        <p:spPr>
          <a:xfrm>
            <a:off x="468360" y="5013360"/>
            <a:ext cx="1996920" cy="143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annabis"/>
          <p:cNvPicPr/>
          <p:nvPr/>
        </p:nvPicPr>
        <p:blipFill>
          <a:blip r:embed="rId2"/>
          <a:stretch/>
        </p:blipFill>
        <p:spPr>
          <a:xfrm>
            <a:off x="1116000" y="2924280"/>
            <a:ext cx="1428840" cy="150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eroin"/>
          <p:cNvPicPr/>
          <p:nvPr/>
        </p:nvPicPr>
        <p:blipFill>
          <a:blip r:embed="rId3"/>
          <a:stretch/>
        </p:blipFill>
        <p:spPr>
          <a:xfrm>
            <a:off x="3635280" y="2924280"/>
            <a:ext cx="2158920" cy="1595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morphine%20tab2"/>
          <p:cNvPicPr/>
          <p:nvPr/>
        </p:nvPicPr>
        <p:blipFill>
          <a:blip r:embed="rId4"/>
          <a:stretch/>
        </p:blipFill>
        <p:spPr>
          <a:xfrm>
            <a:off x="6659640" y="306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1853"/>
          <p:cNvPicPr/>
          <p:nvPr/>
        </p:nvPicPr>
        <p:blipFill>
          <a:blip r:embed="rId5"/>
          <a:stretch/>
        </p:blipFill>
        <p:spPr>
          <a:xfrm>
            <a:off x="6156360" y="4797360"/>
            <a:ext cx="2603520" cy="195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_49654_banner"/>
          <p:cNvPicPr/>
          <p:nvPr/>
        </p:nvPicPr>
        <p:blipFill>
          <a:blip r:embed="rId6"/>
          <a:stretch/>
        </p:blipFill>
        <p:spPr>
          <a:xfrm>
            <a:off x="3059280" y="4797360"/>
            <a:ext cx="2857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WHAT IS DEVIAN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SOCIAL ACTION THEORISTS: DEVIANCE IS SOCIALLY CONSTRU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LABELL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DEVIANCE IS CULTURALLY REL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ONFLICT THEORISTS: DEVIANCE IS SOCIALLY CAU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STRUCTURAL INEQUALITI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page_1"/>
          <p:cNvPicPr/>
          <p:nvPr/>
        </p:nvPicPr>
        <p:blipFill>
          <a:blip r:embed="rId1"/>
          <a:stretch/>
        </p:blipFill>
        <p:spPr>
          <a:xfrm>
            <a:off x="1042920" y="1197000"/>
            <a:ext cx="32958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HANGES I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PERCEPTIONS AND RESPONSES TO DEVIANCE HAVE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CIOLOGICAL STUDY OF DEVIANCE HA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gangC"/>
          <p:cNvPicPr/>
          <p:nvPr/>
        </p:nvPicPr>
        <p:blipFill>
          <a:blip r:embed="rId1"/>
          <a:stretch/>
        </p:blipFill>
        <p:spPr>
          <a:xfrm>
            <a:off x="755640" y="1341360"/>
            <a:ext cx="319572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DEVIANCE AND SOCIAL CONTRO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WHO DEFINES DEV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DEVIANCE CAN BE USED AS A DEVICE FOR SOCI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PPLIES TO SOCIAL NORMS AND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EGITIMACY GIVEN TO SOME TO CONTROL DEVIANT BEHAVIOUR EG POL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clockbig"/>
          <p:cNvPicPr/>
          <p:nvPr/>
        </p:nvPicPr>
        <p:blipFill>
          <a:blip r:embed="rId1"/>
          <a:stretch/>
        </p:blipFill>
        <p:spPr>
          <a:xfrm>
            <a:off x="324000" y="2205000"/>
            <a:ext cx="2027160" cy="345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Video%20-%20Clockwork%20Orange"/>
          <p:cNvPicPr/>
          <p:nvPr/>
        </p:nvPicPr>
        <p:blipFill>
          <a:blip r:embed="rId2"/>
          <a:stretch/>
        </p:blipFill>
        <p:spPr>
          <a:xfrm>
            <a:off x="2700360" y="2565360"/>
            <a:ext cx="1720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DEVIANCE AND CL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EVIANT BEHAVIOUR VIEWED DIFFEREN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WHITE COLAR CRIME SEEN AS LESS ‘DEVIAN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INITIAL STUDIES OFTEN FOCUSED ON LOWER-CLASS DEV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6" descr="bourgeoisie"/>
          <p:cNvPicPr/>
          <p:nvPr/>
        </p:nvPicPr>
        <p:blipFill>
          <a:blip r:embed="rId1"/>
          <a:stretch/>
        </p:blipFill>
        <p:spPr>
          <a:xfrm>
            <a:off x="905040" y="1641600"/>
            <a:ext cx="33717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e or devian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193299422X"/>
          <p:cNvPicPr/>
          <p:nvPr/>
        </p:nvPicPr>
        <p:blipFill>
          <a:blip r:embed="rId1"/>
          <a:stretch/>
        </p:blipFill>
        <p:spPr>
          <a:xfrm>
            <a:off x="4643280" y="2924280"/>
            <a:ext cx="3511800" cy="3511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tabloids"/>
          <p:cNvPicPr/>
          <p:nvPr/>
        </p:nvPicPr>
        <p:blipFill>
          <a:blip r:embed="rId2"/>
          <a:stretch/>
        </p:blipFill>
        <p:spPr>
          <a:xfrm>
            <a:off x="1332000" y="3429000"/>
            <a:ext cx="25686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e and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ri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n act or failure to act that breaks the law of the la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evi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ctions that do not conform to the norms or expectations of members of society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crime"/>
          <p:cNvPicPr/>
          <p:nvPr/>
        </p:nvPicPr>
        <p:blipFill>
          <a:blip r:embed="rId1"/>
          <a:stretch/>
        </p:blipFill>
        <p:spPr>
          <a:xfrm>
            <a:off x="6588000" y="1484280"/>
            <a:ext cx="1706760" cy="222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elton-david"/>
          <p:cNvPicPr/>
          <p:nvPr/>
        </p:nvPicPr>
        <p:blipFill>
          <a:blip r:embed="rId2"/>
          <a:stretch/>
        </p:blipFill>
        <p:spPr>
          <a:xfrm>
            <a:off x="5364000" y="4076640"/>
            <a:ext cx="17132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groups, carry out the Quiz on Crime and Devi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conclusions can you draw from your discuss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9" descr="capital"/>
          <p:cNvPicPr/>
          <p:nvPr/>
        </p:nvPicPr>
        <p:blipFill>
          <a:blip r:embed="rId1"/>
          <a:stretch/>
        </p:blipFill>
        <p:spPr>
          <a:xfrm>
            <a:off x="2124000" y="27813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9am117"/>
          <p:cNvPicPr/>
          <p:nvPr/>
        </p:nvPicPr>
        <p:blipFill>
          <a:blip r:embed="rId2"/>
          <a:stretch/>
        </p:blipFill>
        <p:spPr>
          <a:xfrm>
            <a:off x="5508720" y="2708280"/>
            <a:ext cx="17715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33cc"/>
                </a:solidFill>
                <a:latin typeface="Times New Roman"/>
              </a:rPr>
              <a:t>CRIME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ND</a:t>
            </a:r>
            <a:r>
              <a:rPr b="1" lang="en-GB" sz="4400" spc="-1" strike="noStrike">
                <a:solidFill>
                  <a:srgbClr val="ff33cc"/>
                </a:solidFill>
                <a:latin typeface="Times New Roman"/>
              </a:rPr>
              <a:t>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cc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cc"/>
                </a:solidFill>
                <a:latin typeface="Times New Roman"/>
              </a:rPr>
              <a:t>Some acts can be both deviant and criminal. Can you think of examp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6" descr="drugs2"/>
          <p:cNvPicPr/>
          <p:nvPr/>
        </p:nvPicPr>
        <p:blipFill>
          <a:blip r:embed="rId1"/>
          <a:stretch/>
        </p:blipFill>
        <p:spPr>
          <a:xfrm>
            <a:off x="826920" y="4437000"/>
            <a:ext cx="2028960" cy="2028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omophobia"/>
          <p:cNvPicPr/>
          <p:nvPr/>
        </p:nvPicPr>
        <p:blipFill>
          <a:blip r:embed="rId2"/>
          <a:stretch/>
        </p:blipFill>
        <p:spPr>
          <a:xfrm>
            <a:off x="3924360" y="486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abortion_rights"/>
          <p:cNvPicPr/>
          <p:nvPr/>
        </p:nvPicPr>
        <p:blipFill>
          <a:blip r:embed="rId3"/>
          <a:stretch/>
        </p:blipFill>
        <p:spPr>
          <a:xfrm>
            <a:off x="6012000" y="4076640"/>
            <a:ext cx="26287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…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s the difference between a criminal act and a deviant 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0" descr="alcohol"/>
          <p:cNvPicPr/>
          <p:nvPr/>
        </p:nvPicPr>
        <p:blipFill>
          <a:blip r:embed="rId1"/>
          <a:stretch/>
        </p:blipFill>
        <p:spPr>
          <a:xfrm>
            <a:off x="6647040" y="3141720"/>
            <a:ext cx="2496960" cy="1846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teen_drink%20lg_tcm5-34759"/>
          <p:cNvPicPr/>
          <p:nvPr/>
        </p:nvPicPr>
        <p:blipFill>
          <a:blip r:embed="rId2"/>
          <a:stretch/>
        </p:blipFill>
        <p:spPr>
          <a:xfrm>
            <a:off x="539640" y="3141720"/>
            <a:ext cx="1905120" cy="153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980623conformity"/>
          <p:cNvPicPr/>
          <p:nvPr/>
        </p:nvPicPr>
        <p:blipFill>
          <a:blip r:embed="rId3"/>
          <a:stretch/>
        </p:blipFill>
        <p:spPr>
          <a:xfrm>
            <a:off x="2771640" y="3141720"/>
            <a:ext cx="35290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w , in groups, discuss  worksheet 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d you draw any conclusions this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ust think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4568"/>
                </a:solidFill>
                <a:uFillTx/>
                <a:latin typeface="Times New Roman"/>
                <a:hlinkClick r:id="rId1"/>
              </a:rPr>
              <a:t>BBC - Chewin' the Fat - The N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Is crime a choice... or an impulse beyond the criminal’s control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y do gangs develop in some areas of a city and not in others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How does a thief learn the tricks of the trade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y do employees support questionable business practices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at sorts of values are held by drug traffickers?</a:t>
            </a:r>
            <a:br>
              <a:rPr sz="2800"/>
            </a:b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?   ? 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does the lack of economic opportunity lead to criminality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might the architecture of shopping malls encourage crime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Why has the drug user become the central target of law enforcement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does a global economy affect crime in a particular neighbourhood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What does a murderer feel in the moments before ki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Times New Roman"/>
              </a:rPr>
              <a:t>?  ?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inal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aws state clearly which activities are criminal…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ur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h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ssa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rinking/dri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ru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But………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4:00:17Z</dcterms:created>
  <dc:creator>aileend</dc:creator>
  <dc:description/>
  <dc:language>en-US</dc:language>
  <cp:lastModifiedBy>RomaK</cp:lastModifiedBy>
  <dcterms:modified xsi:type="dcterms:W3CDTF">2015-09-02T09:52:56Z</dcterms:modified>
  <cp:revision>18</cp:revision>
  <dc:subject/>
  <dc:title>UNDERSTANDING HUMAN SOCIETY 1</dc:title>
</cp:coreProperties>
</file>