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CE940-90F9-4DB0-BBAA-22592D87716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1F5E6-C012-456A-98CB-F8A4D3241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7F638-FE19-4731-909F-6AC194353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9D2EA-FA3B-4B26-A6E6-DEB90EEA9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35D6BB-728D-4E19-8A68-C2EB89905C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2A4D5B-5CEB-4271-9986-15646A0D4E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E1E77E-B262-4BE7-902D-8721E20D0F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F5B3DA-720D-4058-81BA-8ED1BA6F0C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488257-8884-402F-BF31-65B53B41F0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FB3A9E-ED07-4A82-966F-2089D89E8D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58947B-ABCB-4430-8E04-5B0E637BD8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96B441-64DE-4349-9569-51F8B5AF5E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7B4A23-B0B5-4474-8392-E0D47F850D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46E948E-8761-47D4-A051-87ED6221F8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6B8A0-E585-4B87-905A-4771661A3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81CA3C-AFB3-462A-8788-727857111A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F4ECBD-8CB3-4903-91D3-E545937EDC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CE8FE5-F99D-49AD-99E3-0D16B3EB14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8961BA-CDF7-42F5-B971-045EE7107F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67649E-55E3-44AD-B33F-CD8173895F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2F0702-3AA1-414D-A533-96B53B9CE9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18703B-5D9E-4335-90A1-BFBEF50AA6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38B034-22FB-4F86-8233-9181548A10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5F9E9C-B497-41F5-A9D2-7BF44DFDAA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9B6776F-DBEF-4523-B450-804FA41EB1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06136-A919-43BE-999D-DD4744B36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05F987-8FD7-46A8-9DD8-E60B02D8B7B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B099BC-2F18-404C-BE8A-BA440A94C22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E1F9D3-6391-4545-BC54-C2076040CF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857299-4611-45AB-8461-142CE5D187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C60385-9562-4A74-AAB1-1030324568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2966E7-7D61-4C41-B5A5-0985EC4D4A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675131-922F-4CF4-B052-72ED170E4A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E7E69C-EE51-491E-89DE-9420BB1E7A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D70233-3368-4F78-8050-2FFB1B30AA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438C44-F26D-426C-95C3-EE7DCAE2F3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A95A9507-8DA5-402E-BD22-D68F14A00DF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478790-C53D-46CC-8F22-A3B89DF32C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2BF26E-06DB-4A1E-B4FA-44E74661B7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4BE8C7-54D6-456B-B4F6-F18C8C588A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504E49C-45CE-42DE-B234-7BF189467AC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278712-44FC-40C8-87BF-58AA714D85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F8235F-529E-4179-87E6-EB83361492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9CD179-FD5E-43DA-B066-C9407DC00B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0689B9-96C8-4A07-9C15-AB1A7EDF16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1248D8-A6C7-4011-9D4D-9F48C9EC75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2EA607-05E0-4FED-9568-66470E77AD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9A5633A-558B-4A91-9DB3-FE954AF13D5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56CF59-33CE-4605-B700-118A2843EE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F477C4-7463-4861-8F57-E74C4F9119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578D75-745D-467E-8A78-D974D10C7A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1C91ED-E7BE-47C4-827C-990F7D9DE0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F5664B-3B2B-4F08-BDE5-B2F6C7E295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0CAA98B-3AD3-4710-B21A-4B1C888607C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6A883E-5D15-4074-9AED-374D56451F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29106C-EDEC-411C-B5A9-ADB9875D34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8E6DD2-5B46-4370-81A5-70A2A227C8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7347A7-80B4-4CA8-9B39-C3FCFF3BAC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4EEE4D6-D2D8-4C6F-9D43-6BDA09745E8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82B428-5F81-458D-B205-F3F2BA5B2C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302000-3840-49CD-9356-A83BA9D647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3333AB-7CBE-4618-9CB2-F1B3EB14D3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79BA0B-F571-4EE0-88DA-D0FA7E0320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FAD439-655B-4AF8-9B00-F897B804D9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A488D77-1316-44D9-9822-FC6ABA3EECC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9FC8D3E-CDFB-4728-B3CC-1E62F6DA0F0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7787C5B-9956-4AB6-85E4-08E988B16A9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B5E03E-5635-413C-9C76-68DACB06F2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4495910-65F5-4890-A87F-D89607F55C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388BC2A-8A6E-4EAD-84AA-0CE15E06F9B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A1D334-AB90-4B8A-A519-4A9EE1F7FCB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957A3E-0A18-407A-820C-D27DEFF049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F34715-CCEA-40B7-AD14-82D5C3FC76E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6232A1-9652-474A-BBE4-81B6B6E699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51384CD-8E75-4350-874D-A1AB89A06F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682F87-494C-47BE-AD28-A3DF4ED7D2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D9DFBEF-DE40-4CD8-BA2B-56DA74F55A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D43D692-90C6-4431-9C28-A3F54C6766D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0FBA533-A0FD-493C-A2B6-A32EDF0D88D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C52BE87-797D-439F-AFD6-4FBFE407E43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3AC96B18-9344-4A01-A70E-CEC74830CB9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B410228-1044-423E-8664-8D6139AB5B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C38E549-8349-43FD-AE0C-9E5003A6B1C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30B911F-CE8F-42D8-B76D-7F3AA95EBE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B1EF796-B1C9-49B6-89F3-5581CF861AE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954C43B-A9CB-48A8-91FE-8E8F052E0D4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B77D3B-B177-44AE-920F-E4B9F74BBC3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F755B8-0F0C-4EFE-A129-AC0203409DC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DF0C87-4F25-4BA9-9566-CF76BC0AED7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AC4B720-65AB-4F6E-8DA5-999DA7E900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304CBFD-0908-4AC8-8433-8D67CB598A4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8BB952D-30D4-42E4-B5F3-288840EFF10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4B48AD4-19DD-4554-96B5-8797A59A09E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12225FF-DEB9-4EAC-9B72-A04613E8601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39B1469-D326-46C1-952D-BC642B4562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6DE069E-302B-44D0-A6C2-B422F8A239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2949376-97AB-4B4A-A6DF-049C3E6B588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9345A4F-EE4E-49E0-9980-8BD691895A8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B4989C7-B573-4C68-819C-9BEC2F28AE3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37B7649-A2B7-4932-AE09-BF88D80F1F1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720136F-357E-43FF-AD61-CE753FB002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A0A02A-A0A8-4917-8829-2A10F80F198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931CA26-1247-4040-8443-34FE85658FF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16CD50B-81F5-48FD-A205-DADDCC20AFA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3FF9668-9F6D-48EF-9CB1-5132C49B09D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3938516-7B17-40A3-9937-8127CC3C1D2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76789C2-E778-4811-B6DD-02673073762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AFA648F-F6E3-4069-B87A-FD655CA7DFB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81A7C3C-36C1-4365-AE32-F2347119269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011663F-EC0F-46E3-8DE5-2A544E6AAE2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6859A4F-903E-443D-8973-8C5579C871C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01EDC87-CCA4-425D-81CF-5EF42A1E61A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681A799-A691-4C66-87C4-F310A968F6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6A7DB-215D-4250-BD6F-97188C6BD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029A325-0715-4CE7-80FE-BF11108061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FBDB0A-F04B-49FA-A8B8-CECD9F0BDFC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2E0D843-1CAA-4B8F-B2C0-7329E0E8F5E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91A86B1-F917-4F96-A878-F41E57A6300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8A34C25-A512-4980-91BA-174E6F24232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C81FE9A-AD91-458B-AEB5-04C1C378A5E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94A8E51-0895-4554-A257-F77100F8A9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C94143E-B3B0-44B2-AEA0-15882EE7E2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F0210AC8-26C5-46A3-872C-B9967F2FC98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D65340C9-0E2D-4AFD-ACC0-45C3CA9BAD5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BB71AE-E216-4DD7-A43E-435106388E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B5DDA1-6528-4819-A3FC-15E562C72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53034-3FBB-476A-AA03-DD30E0C4C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EC9B62-6F87-4A03-9D64-B06E17056C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2DAE14-E48B-4BE8-B07E-4B2CCF0B49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1F5BD-D37F-4BD3-8245-EEAF665DE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15B6C0-71A7-4543-B74F-58D326DAE0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87557-BBCB-4F44-9226-61EE9656F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DD44F-E376-40F5-A8D5-1138AADA0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AACE7-2CE6-412C-A28B-3F7968F91D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61DE57-1C3E-40CA-AFC9-C71973C418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CAEF2A-F3F2-4488-8E84-8FAB548574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2A8C37-4208-4409-8A99-9EE422FA2C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9F8BDC-373E-4D92-9DC5-2E12090452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E230F1-0F1A-4FC3-A7BC-EE9085DBFA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FEDCE1-243C-4536-95E2-2012189DB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A4B7D-EC74-4A52-AFA5-CA793617A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73574-BF9A-4DE3-BAF4-E8B5E517C3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A5EF4B-A330-4A13-B57D-E485E00C45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264628-11F8-4DB1-84DB-721789C07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7AC06-0B3E-4647-B512-FCAB91B1C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E73AC-290A-4631-AB62-2FCCD5DED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2A182E-D6A5-4BEA-B189-0892F78DD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D0B7D6-0FE9-4F1F-8D66-7086F62DE0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3AB5D3-2B49-4707-98D1-D58DD890F1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BE2BE9-517B-4E85-A550-8120518828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D10864-40AA-4384-A189-89A7630A7D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F1FDD-F8FF-4306-AFA8-BB53139BC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606B48-C9A2-49BF-8BAC-89A1E92E5D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AA82A7-9135-4A0E-BE8B-B9E1C0BA0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A8F32C-CF1A-474D-94A8-2EBDB38FEE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64DB0B-15AB-4272-96CD-4E1775AC90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85065-B3D0-4706-B51A-718D589CC3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6C95FB-3C12-4B0C-B8C5-07C877961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8D42E-1056-4411-AFA1-DAE5053106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3E834-ECF5-4844-9199-241474E7A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D7B012-CBD0-441C-BDDB-C53F9CDBD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750727-EB43-46F3-834D-DD76711D71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B6DA2-188F-494B-A89A-B0EA7459D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A750E2-185C-4528-98AF-D14E915816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4D8B1D-571C-48BE-9353-D3FF8AA7CD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89F4B7-446B-4801-BC49-63DA7E60CE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7660C6-E6BD-43CA-9B45-233DE4F65A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C64B94-6EED-43DC-A920-3C02A4E5AA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00974A-9831-4978-8DC7-2C9E817C4F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9663FE-3C45-40A0-9143-85C5E61F4E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F6B75-3346-40C1-8ED5-FA506B1BDB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587A6-1F88-4112-B257-2EE13C358D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510577-2CE0-4C8A-83D5-81056F9205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536AE-F85C-43C2-BD87-A72DC0D25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D09F70-B057-4E76-B7EF-0F5B9F100B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A5B824-FCF4-4EB3-B3CC-F85653EAED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3A8F99-4F8D-47CB-93C7-E6E339F194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FE1DFB-C9AA-4313-BF46-A67B2AC57E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A9C6B5-29C6-4F0D-B77B-07BFE7F3CB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E9829-773F-446B-BB90-0C6F82E505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561AEC-8664-4424-8E14-F601F74BD3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341CD3-9424-492D-B89F-9FC07F9E26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AB9B78-9289-4615-A7EF-1E3784A43E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B3AB0F-A464-4EAB-828B-25A075DB96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99075-4C89-4C36-8C89-624B9697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FE53E2-A314-48C1-A4C0-9D70F040A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7E8105-A373-49E5-8ED6-9534AD02C8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D65878-360E-4F60-B20D-501A9E44FF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391B59-392F-4FC8-918B-A6AE6B80C8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BCCA0C-A13A-4F83-A54A-662B1CF4A8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7CD7B9-0E7B-48C2-BACE-EC026650DE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AAD29C-4F00-4995-B05A-8F944180E6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95A7BF-DD45-499E-AE19-09BCE2F46D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E50DEF-568B-49FD-8712-D3E12A9BB9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15CCA1-CF6A-4415-BCD9-A6C37BB4E7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1AF1-65E6-4136-902F-67095FE69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70B6F4-E05E-4D13-B040-070D8A1544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EEA571-9973-46FB-B21E-70501D1D9A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17744-E95F-445F-A40A-9E90FBB42F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7D9929-3DE1-4C5B-8A6C-BAF52F3D8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598C59-2E0D-40FB-8E00-C9ACA8B5ED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3A3307-4FA1-4CD7-A4E2-D48364F042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D86736-8CB9-469A-BC96-1E3CA6B69C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F6BB55-CB45-4A7D-B356-731EC8C376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5D7709-4BE8-409A-A07F-B055BFA18B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FBC6E9-8E4F-4B83-B5AB-B7D2FD4B8A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3650D-1F1B-4C09-9B20-EB8A2379417A}"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A6320-378B-44EB-81FA-B0EE6CFC37C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0D93E-35E4-41B3-BE49-8D81598D0634}"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F0BD7-9959-4F39-B888-D5DC89E198C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C3D04-37C8-4222-B6FD-CBDD6A987716}"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918F3-82A1-4061-B991-1B968CFB444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C533C-FF5A-4E81-8F4D-3690C3ABCB39}"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A1078-3D44-4A37-A477-CED2F49CD41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FEC93-CABB-4548-B886-4C1F66885252}"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B2081-4182-411B-8026-E834D50D9E6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13514-4461-460A-8DE4-457D413C26A1}"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D67D9-D35F-44BF-AAB9-F33D8F1BFD6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2D5A2-8E8E-4A00-8685-E0301959D990}"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85F18-D0B6-4A17-9DB0-94536A5670A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FA7DD-DF54-4115-8376-D25C48A570EA}"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73C91-ADC0-401F-9695-70C8E721C25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3518D2-31D3-49AD-BB95-C88421582D9D}"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BB8E3-283D-427C-8549-7D8127BB868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C4AE9-0572-4B78-82F0-F01CD99D0B1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FB8ED-D777-4AEC-A265-7004E83B1BEB}"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E082D-5B86-4653-86F3-500BD0CCAA75}"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30683-3285-4339-8A32-93F2D4D406F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DF8D9-3CFD-4DE5-BE98-6ECE149FDD6D}"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1E985-CED5-43D6-BBF4-01DB5ED6ED7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5E754-6DED-4199-BB3B-E717F08475EC}"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249F3-3297-4949-A0B3-5A1E8019103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528E8-A01F-4A82-816D-ED7A1202C52D}"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28CE9-353F-46EB-B25A-725769323B7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245E2-6E90-4AF0-926C-847FB4555578}"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D35BB-AF92-4B74-ACEF-46356836A3D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47518-5D12-4E9A-9E77-32FCCA1DEB8F}"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7A89F-6290-4B96-8BAB-750124A6E1C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A9426-75E5-444F-8D2D-29FBDDD9FB1B}" type="datetime">
              <a:rPr b="0" lang="en-US" sz="1200" spc="-1" strike="noStrike">
                <a:solidFill>
                  <a:srgbClr val="38abed"/>
                </a:solidFill>
                <a:latin typeface="Times New Roman"/>
              </a:rPr>
              <a:t>07/29/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8FD2E-9032-4EE4-BF35-FE8F2FF7A6F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