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3052-DB12-48E8-A6F5-57296707C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51481-5140-4ED0-909C-FD0A9A58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0E86-8F45-4B20-82A4-396C34F7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8F222-915B-42B9-AE29-73F266A97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CDB3E-41E0-4228-95A6-0D405EE0E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B367E-D3FD-492C-A94E-7A166DAD0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7EEE-D29D-4C4C-87E6-2879BB66C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CDDE9-9141-404A-8355-593D43F4D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D5369-1781-4580-BB0D-1F9D36539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61B6-7641-4A08-9753-98C491DAC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E132C-ECCE-4754-9B87-6CF5B3F02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4B30-65A8-4A4D-BEEF-A28A5AF45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2A4F-6B47-44E2-BA62-F79CA0C87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B511-0E3F-4F07-8236-A0C34D13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5356C-B8C0-421C-89DE-C657B2DF9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AFF15-C4BA-4063-8BC1-2A8B9C233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8D913-D90C-49FA-AE02-685594110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550F7-FD54-42B1-AD65-8F087D74B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38F14-E168-4DE8-B062-94FE8B08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A901B-AA33-4894-B7B1-F55809B8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C41E6-DFBC-4467-B783-9F4E67B90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BB91-5C55-4996-BBF1-6556C0A9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2596-6A1D-4E33-8CD0-CFE4AC10E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7D28-0A56-4D21-BF0E-31D383D4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114FC-D186-42E0-8D29-942756B19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F4E6-75AA-4B12-BCA3-438E74264649}"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A9CC-5950-442C-8431-A3E89A073B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3B5B-F69B-4574-B443-D9F90643FF9B}" type="datetime">
              <a:rPr b="0" lang="en-US" sz="1400" spc="-1" strike="noStrike">
                <a:solidFill>
                  <a:srgbClr val="004080"/>
                </a:solidFill>
                <a:latin typeface="Times New Roman"/>
              </a:rPr>
              <a:t>07/30/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1A00-B0C3-4E29-B0D0-245C2232AC06}"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562D-9E14-4E77-9E6A-B3C0B2A6DC73}"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D0E-E3AA-4E10-8AD9-4B9DFFBC3BCB}"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6145-BCC4-44B2-80D7-65306A5881A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8E29-4EFA-49B6-92BB-5B2BE57E688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074B-0987-4F62-9CA4-28A2D85AD93B}"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784F-B415-4BAF-A73F-C0D156F0793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C28C-6F95-4AFD-ACF7-F056172E65F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BA75-6465-4C82-8383-EAD6BC56641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988F-8753-4E62-933D-40AC9744671F}"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9D0D-4E97-40AF-9318-3779E538F04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FEBF-ADA5-4B17-801B-CB03229C6AA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A73A-8494-4427-8100-0884CB7B54E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FCC0-8448-4B74-8FDC-D556F2982C6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8191-71CC-4A3E-BBF7-988FE268361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3F7E-391A-448A-AD9D-E7D430DD8B73}"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0BF1-B96E-43E0-BAFA-328AFD17954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948C-CDC0-4F7D-AB40-B0BA3C6D62C9}"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5CFA-D8D1-4F38-9835-88B9988DF76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8848-161E-418F-BDC5-06C149C974C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5ED7-ACEA-4BC3-8D5B-EA9A9AB6827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7D98-4108-4F5F-95CA-A92920106C4F}"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B48A-82FF-49BA-8B27-F835BE2239F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AF24-44F7-4817-9E69-CE54CC5327E1}"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99B4-41CA-4AF0-B89D-F796FB7990C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669D-1472-437F-98D0-F7E3E3F1AFA9}"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9501-5D3D-43A9-A506-55AF78B74CA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9D70-D2E7-435C-A6E6-E981884CE9EA}"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2BCF-2DA9-479F-B876-2194FB8654E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1632-2D55-4331-B703-54B6159E0997}"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D1CD-43B0-482E-BAC3-207FA5BFDB4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F660-3803-4C76-BC62-C8779B6EC2B9}"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D2C9-59A8-4271-A297-648838913B2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5301-372C-4774-AF6B-311F86A692AA}"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FAF2-287D-4EB3-B052-CAAF751AAB0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D009-5B32-4356-8AF8-DBF181E1403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835B-5796-41A2-8F21-62C7BFEAB04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